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66D-D872-4233-83F7-EA024F6D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270-B819-423F-92AD-990B140B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21B9-B775-4819-870A-B046C799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364-B5BC-4BBC-9D35-280771EC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463-E079-4B8B-B8DB-17B555C0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7BA-D09C-4A08-B393-CBE00EC8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0D1-F3E0-450D-B41B-5F6DC0FE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73F-0FA6-48E1-A67F-08D267C4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060-BB3B-4B25-8752-1DB641CF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8B9-9165-4066-B77A-D8A3939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B96-B531-45A0-AF88-B35F42F4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24C8-B228-4227-95B8-4A306C60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5ACE1F9-5F34-44A4-8BDC-F8DC1C026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267-D806-4B80-AC26-69FE5857BC90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CCE-F5DE-4695-B937-20426DE587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09D-47EE-4E7B-9B9E-4EA4084A508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A64-4A57-436F-9CF0-10F2C1F30FC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E83-6FE9-41AD-9599-90E4E24246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4FE-B1D2-459B-B0B3-A0C219CFA8F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o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32A-F43B-4A74-8A76-75AFBA97CCE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529-CBC1-4325-ADC6-3A2369BF9E2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166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790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791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796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11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FB3-4EEC-4565-9EB2-BAFE5FDA6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826-2E62-4FCB-9C4A-D4158889881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225-233C-4F12-8AA0-F1EB43A237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2CB-4A37-44B6-A59B-0FE0E22619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D96-AE0B-47AA-94FF-279EF53961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75C-94A5-4E01-A1AD-D4D831F246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D4D-58FD-4384-8D89-34CB038AAD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2FC7-8E39-45AA-9107-E10D89B8FE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230-9BA7-4382-8B7E-5B05216867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30T16:09:35Z</dcterms:modified>
  <cp:revision>124</cp:revision>
  <dc:subject/>
  <dc:title>General</dc:title>
</cp:coreProperties>
</file>