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4E7-0EC2-4C4E-89DB-8BD23EE3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2555-97DB-4881-BAD6-175BFA6C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7DF-7359-4757-BAFA-09459152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D63-8424-4EE5-AB75-3353F93E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276-D9A2-49FF-B3E5-22C0392E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0F9-49EA-4BE2-AE26-044A96FB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73E-482D-4373-80F8-426439C0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907-E915-440A-8614-78B9BDB8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D76-1FEF-48E8-9E41-2FBED4F1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D5F-3508-4A7F-8AAC-B1A37A21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4F3-C159-4FAC-A499-9D5B8373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D6B-65D4-4A93-B250-507B6628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EFDB21-166A-4FD8-A035-AA0C2DF88C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5FC-B810-4B3F-9220-9F4DC711F740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oblemente aco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060-3C6D-41B5-8404-BAE3F2D06D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Formulación Genre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68960" y="3301920"/>
                <a:ext cx="4046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62320" y="2514600"/>
                <a:ext cx="434340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sub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957600" y="5653080"/>
            <a:ext cx="773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Qué se está maximizan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 es el factor de dispersión, o la desviación estándar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0C6-A4E0-4C5E-85B8-B644BBF9794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55880" y="1981080"/>
                <a:ext cx="515304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58920" y="3733920"/>
                <a:ext cx="4497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90760" y="5275440"/>
                <a:ext cx="622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B71-1A2E-438E-ADCE-BD441AE4A82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71520" y="1523880"/>
                <a:ext cx="6348600" cy="404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3EF4-151D-4F19-812E-E188ED9F9EA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38760" y="1133640"/>
                <a:ext cx="3985920" cy="20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362320" y="2971800"/>
            <a:ext cx="0" cy="327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248520"/>
            <a:ext cx="5410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62320" y="3429000"/>
            <a:ext cx="3352680" cy="281952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61400" y="281844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4880" y="609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43000" y="3886200"/>
            <a:ext cx="4419720" cy="2209680"/>
            <a:chOff x="1143000" y="3886200"/>
            <a:chExt cx="4419720" cy="2209680"/>
          </a:xfrm>
        </p:grpSpPr>
        <p:sp>
          <p:nvSpPr>
            <p:cNvPr id="139" name=""/>
            <p:cNvSpPr/>
            <p:nvPr/>
          </p:nvSpPr>
          <p:spPr>
            <a:xfrm>
              <a:off x="1143000" y="556272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1280" y="388620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857680" y="58672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129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2120" y="3581280"/>
            <a:ext cx="4419000" cy="2209680"/>
            <a:chOff x="762120" y="3581280"/>
            <a:chExt cx="4419000" cy="2209680"/>
          </a:xfrm>
        </p:grpSpPr>
        <p:sp>
          <p:nvSpPr>
            <p:cNvPr id="144" name=""/>
            <p:cNvSpPr/>
            <p:nvPr/>
          </p:nvSpPr>
          <p:spPr>
            <a:xfrm>
              <a:off x="762120" y="5257800"/>
              <a:ext cx="243792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040" y="3581280"/>
              <a:ext cx="198108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600200" y="3962520"/>
            <a:ext cx="4419720" cy="2209680"/>
            <a:chOff x="1600200" y="3962520"/>
            <a:chExt cx="4419720" cy="2209680"/>
          </a:xfrm>
        </p:grpSpPr>
        <p:sp>
          <p:nvSpPr>
            <p:cNvPr id="147" name=""/>
            <p:cNvSpPr/>
            <p:nvPr/>
          </p:nvSpPr>
          <p:spPr>
            <a:xfrm>
              <a:off x="1600200" y="563904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396252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E9DE-F5E8-427B-BF09-344258AF5A9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Probabilidades de localoza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84320" y="1720800"/>
                <a:ext cx="6265800" cy="41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7513560" y="335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54880" y="47995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160-861D-4F80-97D1-6B10FA37AD8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Interpretación de multiplicador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566720" y="1701720"/>
                <a:ext cx="4757760" cy="31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349640" y="563760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rregir por factor de disper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324480" y="5243400"/>
                <a:ext cx="11257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μ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68F-321C-4FA7-AB53-294CC4C9DAE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166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790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791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796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801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806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8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811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9965-99A7-4B97-951B-A21A3C2F3F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WRY 19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D6E-C06A-438B-8163-637B3FEED0A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5800" y="76320"/>
                <a:ext cx="5689440" cy="65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</m:sSubSup>
                              </m:e>
                            </m:nary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/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∗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p/>
                            </m:sSup>
                          </m:sup>
                        </m:sSup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ógeno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7100640" y="151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4000" y="608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31360" y="18277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ist.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17600" y="36565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4240" y="533304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so suel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4417-56CF-40FD-964E-D85A5AAA4DD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9FA9-2D47-41F1-BB92-640C26AB6CE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Residen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080" y="3567240"/>
                <a:ext cx="8797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838080" y="16750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ación de la entropía: modelo doblemente acotado a población y empleo, que maximiza las post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640" y="304704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odelo pro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3280" y="4785480"/>
            <a:ext cx="619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 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hog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vivi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de hogar (salario 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q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proporción de salario destinado a vivien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3DFA-1449-4729-922C-9E66903FAFF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2680" y="5657760"/>
                <a:ext cx="8539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6600" y="158436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ción de la entropía: modelo doblemente acotado a población y empleo, que maximiza las posturas (absolut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80960" y="2749680"/>
                <a:ext cx="6234120" cy="25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w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p>
                                        <m:r>
                                          <m:t xml:space="preserve">w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EFFE-3475-4ABE-9478-A89F7CC235F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3560" y="1371600"/>
                <a:ext cx="853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13520" y="2284920"/>
            <a:ext cx="55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xtensión a otras funciones de  at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2895480"/>
                <a:ext cx="4849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4191120"/>
                <a:ext cx="739116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sup>
                        </m:sSup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ED9A-B93A-432B-85C0-8C8CF2CAD53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Wilson tipo Alons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95280" y="4191120"/>
                <a:ext cx="5791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95280" y="1676520"/>
                <a:ext cx="579132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736800" y="5257800"/>
                <a:ext cx="3818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μ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155600" y="5455080"/>
            <a:ext cx="234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quivalencia con modelo ant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161-C1B1-4D7B-8AD4-605832C78CF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Comparación con Herbet &amp; Steven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49200" y="1751040"/>
                <a:ext cx="3384720" cy="21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038480" y="1828800"/>
                <a:ext cx="493740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89640" y="396144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75560" y="38851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stocá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17720" y="4606920"/>
                <a:ext cx="244008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w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00720" y="5150160"/>
            <a:ext cx="41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os multiplicadores representan la r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E82-290C-4BAC-B519-6CD0D3593BB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30T16:09:35Z</dcterms:modified>
  <cp:revision>124</cp:revision>
  <dc:subject/>
  <dc:title>General</dc:title>
</cp:coreProperties>
</file>