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9065-31F5-4DFF-9692-7A80E3FF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AF9-FB24-4E78-8E77-7000CA37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1F8F-22AA-4FCB-BA96-BF0D40FE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68C-0A08-4FF9-B266-20CBAD9E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120-FEB5-4F96-AFB1-8D41AFF4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5A1-E138-4589-B7D2-78A1CAC5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C785-80AB-40C6-9311-0FB5494A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93B-B628-4666-9011-28ABD79F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20F8-81DC-4828-A256-C7CD3A22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7E6-FD96-4ECD-8B27-5FD286EF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A5F-12C6-430D-9189-B4E61805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789-8BE9-4683-9D2A-5B83337C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2141B0-6003-4820-84D7-47B1C697B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4A8-B403-43EB-B240-0DD2777728CE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oblemente aco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8A4-D915-4A24-BF13-A242F25E33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Formulación Genre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68960" y="3301920"/>
                <a:ext cx="4046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62320" y="2514600"/>
                <a:ext cx="434340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sub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957600" y="5653080"/>
            <a:ext cx="773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Qué se está maximizan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 es el factor de dispersión, o la desviación estándar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0B8-AC9B-4AC2-8B26-83EB576DB61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55880" y="1981080"/>
                <a:ext cx="515304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58920" y="3733920"/>
                <a:ext cx="4497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90760" y="5275440"/>
                <a:ext cx="622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183D-4471-490D-9B79-AB84FFBBE42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71520" y="1523880"/>
                <a:ext cx="6348600" cy="404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E5B-54BC-4394-B15B-4C680224B6E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38760" y="1133640"/>
                <a:ext cx="3985920" cy="20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362320" y="2971800"/>
            <a:ext cx="0" cy="327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248520"/>
            <a:ext cx="5410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62320" y="3429000"/>
            <a:ext cx="3352680" cy="281952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61400" y="281844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4880" y="609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43000" y="3886200"/>
            <a:ext cx="4419720" cy="2209680"/>
            <a:chOff x="1143000" y="3886200"/>
            <a:chExt cx="4419720" cy="2209680"/>
          </a:xfrm>
        </p:grpSpPr>
        <p:sp>
          <p:nvSpPr>
            <p:cNvPr id="139" name=""/>
            <p:cNvSpPr/>
            <p:nvPr/>
          </p:nvSpPr>
          <p:spPr>
            <a:xfrm>
              <a:off x="1143000" y="556272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1280" y="388620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857680" y="58672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129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2120" y="3581280"/>
            <a:ext cx="4419000" cy="2209680"/>
            <a:chOff x="762120" y="3581280"/>
            <a:chExt cx="4419000" cy="2209680"/>
          </a:xfrm>
        </p:grpSpPr>
        <p:sp>
          <p:nvSpPr>
            <p:cNvPr id="144" name=""/>
            <p:cNvSpPr/>
            <p:nvPr/>
          </p:nvSpPr>
          <p:spPr>
            <a:xfrm>
              <a:off x="762120" y="5257800"/>
              <a:ext cx="243792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040" y="3581280"/>
              <a:ext cx="198108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600200" y="3962520"/>
            <a:ext cx="4419720" cy="2209680"/>
            <a:chOff x="1600200" y="3962520"/>
            <a:chExt cx="4419720" cy="2209680"/>
          </a:xfrm>
        </p:grpSpPr>
        <p:sp>
          <p:nvSpPr>
            <p:cNvPr id="147" name=""/>
            <p:cNvSpPr/>
            <p:nvPr/>
          </p:nvSpPr>
          <p:spPr>
            <a:xfrm>
              <a:off x="1600200" y="563904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396252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013-D187-409A-BB91-2D63A1CC098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Probabilidades de localoza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84320" y="1720800"/>
                <a:ext cx="6265800" cy="41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7513560" y="335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54880" y="47995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E48-43F1-434F-93A3-90372AF4067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Interpretación de multiplicador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566720" y="1701720"/>
                <a:ext cx="4757760" cy="31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349640" y="563760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rregir por factor de disper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324480" y="5243400"/>
                <a:ext cx="11257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μ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71D-43EA-4D7C-95F0-061689CBAA7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166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790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791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796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801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806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8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811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177-CD79-4556-A395-BB42D2BF4C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WRY 19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13F-59CF-4B27-94A7-AD27DA6A011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5800" y="76320"/>
                <a:ext cx="5689440" cy="65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</m:sSubSup>
                              </m:e>
                            </m:nary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/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∗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p/>
                            </m:sSup>
                          </m:sup>
                        </m:sSup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ógeno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7100640" y="151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4000" y="608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31360" y="18277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ist.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17600" y="36565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4240" y="533304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so suel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20A4-E081-481A-B0B0-1297EE03290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A48B-1819-4BAB-88A2-A7E42C05331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Residen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080" y="3567240"/>
                <a:ext cx="8797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838080" y="16750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ación de la entropía: modelo doblemente acotado a población y empleo, que maximiza las post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640" y="304704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odelo pro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3280" y="4785480"/>
            <a:ext cx="619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 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hog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vivi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de hogar (salario 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q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proporción de salario destinado a vivien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F75-5CED-4BFF-AAC2-28D64CBFF7F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2680" y="5657760"/>
                <a:ext cx="8539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6600" y="158436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ción de la entropía: modelo doblemente acotado a población y empleo, que maximiza las posturas (absolut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80960" y="2749680"/>
                <a:ext cx="6234120" cy="25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w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p>
                                        <m:r>
                                          <m:t xml:space="preserve">w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CA50-F75D-46D7-9A51-EE0064DDE24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3560" y="1371600"/>
                <a:ext cx="853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13520" y="2284920"/>
            <a:ext cx="55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xtensión a otras funciones de  at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2895480"/>
                <a:ext cx="4849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4191120"/>
                <a:ext cx="739116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sup>
                        </m:sSup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7C52-1C13-4D43-A815-EE956D23FD3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Wilson tipo Alons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95280" y="4191120"/>
                <a:ext cx="5791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95280" y="1676520"/>
                <a:ext cx="579132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736800" y="5257800"/>
                <a:ext cx="3818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μ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155600" y="5455080"/>
            <a:ext cx="234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quivalencia con modelo ant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A00F-908E-4A25-A4C9-F970C7C8FD9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Comparación con Herbet &amp; Steven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49200" y="1751040"/>
                <a:ext cx="3384720" cy="21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038480" y="1828800"/>
                <a:ext cx="493740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89640" y="396144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75560" y="38851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stocá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17720" y="4606920"/>
                <a:ext cx="244008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w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00720" y="5150160"/>
            <a:ext cx="41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os multiplicadores representan la r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0C2-2B43-42B8-8F32-53259A4079A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30T16:09:35Z</dcterms:modified>
  <cp:revision>124</cp:revision>
  <dc:subject/>
  <dc:title>General</dc:title>
</cp:coreProperties>
</file>