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E00-B94C-4C62-AD1E-91B4932F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5AE-DC21-4083-AB87-C83F6502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E7A-EB32-46E4-8746-B5318F4A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DA4-680F-4B55-8E8A-B629FD4F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BF9-FBEC-4575-B974-F475965C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61E-3D57-4904-A3E7-1CCE6666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A30-BCBE-4C82-B3A2-49053A3E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897-F58A-4FB6-8FDD-450F552F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2C9-B952-4FC6-9A92-34D3962C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FA5-5072-4268-B8D3-278DA23D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EBD-E313-47CD-9B18-3D5206AE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C70-932B-46E7-AA55-91EA55E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8A67342-A805-4999-A8AB-CF2F4EEA7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8FC-70EF-47FA-939E-6C2334912D99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2CB-D9E3-465C-B405-51F083E7E2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FFE-AE7C-4C92-BFC1-02424158BB5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EA7-5FD7-47C4-B3F4-2493E0F7FAC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E2F-40BC-4BB7-ABEA-1797BF62D4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5F7-2ABE-4E63-8536-C79E5EF44F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1D2-8F47-453E-9F14-469C78A220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6280" y="4129560"/>
            <a:ext cx="752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Vt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70E-1B5A-4582-9979-C5AE9C330A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62360" y="2646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242-837F-4C4F-A2AC-65EFCD1BAC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216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C0E-6AA0-4C35-B289-21DAE925F5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3D3-078C-4684-8C3F-3763F7D493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562-A853-4542-891A-FB667CE7C8E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85D-4E9A-4BAD-A8B8-E314D380E9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CE3-5A4D-4D6E-AB8B-F027F48E25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AC2-03E2-4E73-886F-37EE8AA8E5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n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FCD-0AD3-4811-9842-ABF056761C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927-6B9A-4E76-8A88-A7EDE0CDA3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C9B-BF25-4B0F-AA05-555F3EB495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A07-8418-4657-94AF-CCC98C3D19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A12-9FDB-4B7F-9E2A-A0605635FA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a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EA0-87DE-4747-9980-D2ACAB4224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F7E-5D4E-43F1-B079-DEF539CC48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205-7342-4013-9F9A-E689B00F113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BD4-F1E0-4C07-AA84-71AD377DBE3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DBE-A8F4-477A-B6E7-259E06A4DC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4:20:47Z</dcterms:modified>
  <cp:revision>113</cp:revision>
  <dc:subject/>
  <dc:title>General</dc:title>
</cp:coreProperties>
</file>