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4F45-1D64-4096-85F5-DCDB06EDB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4A21-3EA0-4DF9-9357-3AD2FD7E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4C21-ED53-4D04-AE95-A961238B5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310D-E35B-41B7-9812-7762868FF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A3CE-CA5C-4C35-B4D7-607AB227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F705-9D56-430B-8A4D-6863C937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9617-1CBA-4B8A-9F9D-3941DDE4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4CF0-0322-429D-A424-241BBBB6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2752-8F57-4AC1-A3C5-584C5754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B500-CB7A-4B6F-B486-8626F75C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7034-6E2C-485F-996C-4D95BEB3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FD13-064A-4369-BAAE-78ADB43B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F2FF64C-0192-4BCB-907A-A00D9D77F7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Archivo 3.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95280" y="3276720"/>
            <a:ext cx="5639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Felipe Agu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BF0C-1551-426B-A7F1-C14F34297A4C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tasas marginales de sustit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1295280"/>
            <a:ext cx="7772400" cy="502920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676520" y="1828800"/>
                <a:ext cx="22096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243320" y="2057400"/>
                <a:ext cx="34639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q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808280" y="3300480"/>
                <a:ext cx="57578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precios  decrecientes con 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828800" y="4151160"/>
                <a:ext cx="18082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4289400" y="411300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ejarse del CBD mientras los ahorros en renta sean mayor que costo extra en transpo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A49D-A0CE-4C8D-ADB1-582D0B846C6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61760" y="22093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finición: conjunto de precios que el individuo está dispuesto a pagar a diversas distancias para obtener un nivel de utilidad d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pia de cada individuo (gustos e ingres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ferida a un nivel de utilidad. Existe una familia de cur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o tiene necesaria relación con la curva de precios re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496960" y="1143000"/>
                <a:ext cx="42674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5DD1-F84D-43D5-96F4-CFC9A900DE3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344680" y="1143000"/>
                <a:ext cx="42656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762120" y="3232080"/>
                <a:ext cx="333216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343400" y="3200400"/>
                <a:ext cx="419112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limLow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609480" y="487440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obtiene un precio o costo marginal de localizac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ún si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(t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s constante, DP decrec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r desutilidad tp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ociendo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U(x,q,t)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k(t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se puede derivar la D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ayor costo tpt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más desutilidad de viajar debe compensarse con disminución de D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762120" y="2362320"/>
                <a:ext cx="31240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2A10-3927-4F84-AD4D-9A089ED7240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28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Características de las curvas D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46483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tiene valor único condicional en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, q, y,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rvas de nivel inferior representan MAYOR satisf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un mismo individuo NO se intersect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fecto ingreso terreno más barato compensa costo tpte para mantener nivel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75480" y="-1460520"/>
            <a:ext cx="11450520" cy="6261120"/>
            <a:chOff x="375480" y="-1460520"/>
            <a:chExt cx="11450520" cy="6261120"/>
          </a:xfrm>
        </p:grpSpPr>
        <p:sp>
          <p:nvSpPr>
            <p:cNvPr id="142" name=""/>
            <p:cNvSpPr/>
            <p:nvPr/>
          </p:nvSpPr>
          <p:spPr>
            <a:xfrm>
              <a:off x="375480" y="685800"/>
              <a:ext cx="3823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1" i="1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735120" y="-1460520"/>
              <a:ext cx="11090880" cy="6261120"/>
              <a:chOff x="735120" y="-1460520"/>
              <a:chExt cx="11090880" cy="6261120"/>
            </a:xfrm>
          </p:grpSpPr>
          <p:sp>
            <p:nvSpPr>
              <p:cNvPr id="144" name=""/>
              <p:cNvSpPr/>
              <p:nvPr/>
            </p:nvSpPr>
            <p:spPr>
              <a:xfrm>
                <a:off x="735120" y="995760"/>
                <a:ext cx="0" cy="327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40520" y="4277520"/>
                <a:ext cx="5824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292080" y="420912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60000">
                <a:off x="849240" y="-555840"/>
                <a:ext cx="10657440" cy="48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7" y="21600"/>
                    </a:moveTo>
                    <a:arcTo wR="10800" hR="10800" stAng="5400934" swAng="5401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7" y="21600"/>
                    </a:moveTo>
                    <a:arcTo wR="10800" hR="10800" stAng="5400934" swAng="5401063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554120" y="4330800"/>
                <a:ext cx="30636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554120" y="4062240"/>
                <a:ext cx="32364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166720" y="4398120"/>
                <a:ext cx="30672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60000">
                <a:off x="963720" y="-1025640"/>
                <a:ext cx="10657440" cy="48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7" y="21600"/>
                    </a:moveTo>
                    <a:arcTo wR="10800" hR="10800" stAng="5400934" swAng="5401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7" y="21600"/>
                    </a:moveTo>
                    <a:arcTo wR="10800" hR="10800" stAng="5400934" swAng="5401063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60000">
                <a:off x="1127520" y="-1367640"/>
                <a:ext cx="10657440" cy="48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7" y="21600"/>
                    </a:moveTo>
                    <a:arcTo wR="10800" hR="10800" stAng="5400934" swAng="5401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7" y="21600"/>
                    </a:moveTo>
                    <a:arcTo wR="10800" hR="10800" stAng="5400934" swAng="5401063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444000" y="308268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514200" y="348624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583680" y="388764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"/>
          <p:cNvSpPr/>
          <p:nvPr/>
        </p:nvSpPr>
        <p:spPr>
          <a:xfrm>
            <a:off x="7316280" y="3167640"/>
            <a:ext cx="1573920" cy="510120"/>
          </a:xfrm>
          <a:prstGeom prst="rect">
            <a:avLst/>
          </a:prstGeom>
          <a:solidFill>
            <a:srgbClr val="ff6633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&lt; 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&lt; 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47440" y="1505160"/>
            <a:ext cx="3093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( t ; q, y , 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, u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FCD2-474B-452F-885A-2359858712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-15264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l hogar </a:t>
            </a: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(precios exógenos)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171440" y="1295280"/>
                <a:ext cx="256248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3965400" y="1238760"/>
            <a:ext cx="495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dición de equilibrio individual condicional en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,y,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u;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18160" y="3248280"/>
            <a:ext cx="3206520" cy="648720"/>
          </a:xfrm>
          <a:prstGeom prst="rect">
            <a:avLst/>
          </a:prstGeom>
          <a:solidFill>
            <a:srgbClr val="c9cfc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t*(q,y,p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,u; P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2362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4480" y="2673360"/>
            <a:ext cx="0" cy="327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0960" y="5954760"/>
            <a:ext cx="582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02160" y="588636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63840" y="600696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63840" y="5738760"/>
            <a:ext cx="323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76800" y="607392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60000">
            <a:off x="973080" y="651240"/>
            <a:ext cx="10657440" cy="481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26720" y="516312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434340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7600" y="5866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t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752480" y="2666880"/>
                <a:ext cx="17686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/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 flipH="1">
            <a:off x="1447560" y="3200400"/>
            <a:ext cx="53316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86760" y="45709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(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761760" y="4343400"/>
            <a:ext cx="10666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8080" y="4012200"/>
            <a:ext cx="53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60000">
            <a:off x="1125720" y="384120"/>
            <a:ext cx="10658520" cy="48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60000">
            <a:off x="858960" y="993600"/>
            <a:ext cx="10658520" cy="48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2895480"/>
            <a:ext cx="4267080" cy="2133720"/>
          </a:xfrm>
          <a:custGeom>
            <a:avLst/>
            <a:gdLst/>
            <a:ahLst/>
            <a:rect l="l" t="t" r="r" b="b"/>
            <a:pathLst>
              <a:path w="2688" h="1344">
                <a:moveTo>
                  <a:pt x="0" y="0"/>
                </a:moveTo>
                <a:cubicBezTo>
                  <a:pt x="4" y="168"/>
                  <a:pt x="8" y="336"/>
                  <a:pt x="48" y="480"/>
                </a:cubicBezTo>
                <a:cubicBezTo>
                  <a:pt x="88" y="624"/>
                  <a:pt x="104" y="768"/>
                  <a:pt x="240" y="864"/>
                </a:cubicBezTo>
                <a:cubicBezTo>
                  <a:pt x="376" y="960"/>
                  <a:pt x="608" y="992"/>
                  <a:pt x="864" y="1056"/>
                </a:cubicBezTo>
                <a:cubicBezTo>
                  <a:pt x="1120" y="1120"/>
                  <a:pt x="1472" y="1200"/>
                  <a:pt x="1776" y="1248"/>
                </a:cubicBezTo>
                <a:cubicBezTo>
                  <a:pt x="2080" y="1296"/>
                  <a:pt x="2528" y="1328"/>
                  <a:pt x="2688" y="1344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79000" y="477432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26720" y="553644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556C-3B61-4AAF-8B32-334460DE6D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80800" y="3805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DP de la firm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438280" y="4924440"/>
                <a:ext cx="46990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600200" y="1752480"/>
                <a:ext cx="2425680" cy="24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4788000" y="167544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f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36160" y="236124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Volumen de nego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25720" y="304704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stos de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99520" y="365652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ecio del 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0A2E-F4EC-49C3-AD0F-8176426D88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8080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286000" y="1066680"/>
                <a:ext cx="27432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303640" y="1752480"/>
                <a:ext cx="41734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286000" y="2503440"/>
                <a:ext cx="40384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4495680" y="304920"/>
                <a:ext cx="39625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1106280" y="4129560"/>
            <a:ext cx="752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Vt: Pérdida de ingreso por alejamiento del CB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v Vt: Cambio costo operación por cambio en volumen de nego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t: Cambio por costos de operación por alej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q dP/dt: Disminución del precio del sue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A298-ADEF-4FA4-AFD2-7FCDFBEFDC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152360" y="1371600"/>
                <a:ext cx="70772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q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8080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862360" y="2646360"/>
                <a:ext cx="41749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/</m:t>
                        </m:r>
                        <m:r>
                          <m:t xml:space="preserve">q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609480" y="4267080"/>
            <a:ext cx="8001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tiene valor único condicional en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, q,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rvas de nivel inferior representan MAYOR gana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una firma NO se intersect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enen pendiente neg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2557-DB0F-4865-ABE2-2EC00BA118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75480" y="1603440"/>
            <a:ext cx="382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35120" y="1835280"/>
            <a:ext cx="0" cy="327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1240" y="5116680"/>
            <a:ext cx="5824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92440" y="504828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60000">
            <a:off x="849240" y="284400"/>
            <a:ext cx="10661400" cy="480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54120" y="516888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54120" y="4900680"/>
            <a:ext cx="32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67440" y="523548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60000">
            <a:off x="963360" y="-186480"/>
            <a:ext cx="10661400" cy="481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60000">
            <a:off x="1127520" y="-529920"/>
            <a:ext cx="10660320" cy="48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7280" y="403344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294600" y="44445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02360" y="47955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240680" y="4005720"/>
            <a:ext cx="1725120" cy="510120"/>
          </a:xfrm>
          <a:prstGeom prst="rect">
            <a:avLst/>
          </a:prstGeom>
          <a:solidFill>
            <a:srgbClr val="ff6633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&lt; 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&lt; 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47240" y="2343600"/>
            <a:ext cx="269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( t ;q , 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, G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7600" y="-36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19520" y="5839200"/>
            <a:ext cx="3206520" cy="648720"/>
          </a:xfrm>
          <a:prstGeom prst="rect">
            <a:avLst/>
          </a:prstGeom>
          <a:solidFill>
            <a:srgbClr val="c9cfc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t*(q, p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x,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G; P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82160" y="50281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t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639040" y="34279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(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4038480"/>
            <a:ext cx="0" cy="10670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62120" y="4038480"/>
            <a:ext cx="21333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2120" y="3707640"/>
            <a:ext cx="53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27280" y="1816200"/>
            <a:ext cx="4673520" cy="2679480"/>
          </a:xfrm>
          <a:custGeom>
            <a:avLst/>
            <a:gdLst/>
            <a:ahLst/>
            <a:rect l="l" t="t" r="r" b="b"/>
            <a:pathLst>
              <a:path w="2944" h="1688">
                <a:moveTo>
                  <a:pt x="16" y="0"/>
                </a:moveTo>
                <a:cubicBezTo>
                  <a:pt x="8" y="152"/>
                  <a:pt x="0" y="304"/>
                  <a:pt x="112" y="528"/>
                </a:cubicBezTo>
                <a:cubicBezTo>
                  <a:pt x="224" y="752"/>
                  <a:pt x="320" y="1160"/>
                  <a:pt x="688" y="1344"/>
                </a:cubicBezTo>
                <a:cubicBezTo>
                  <a:pt x="1056" y="1528"/>
                  <a:pt x="1944" y="1576"/>
                  <a:pt x="2320" y="1632"/>
                </a:cubicBezTo>
                <a:cubicBezTo>
                  <a:pt x="2696" y="1688"/>
                  <a:pt x="2820" y="1684"/>
                  <a:pt x="2944" y="1680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486040" y="3809880"/>
            <a:ext cx="304920" cy="609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78FB-25C2-419B-9B08-B62DD86BA5A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4832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057400" y="4038480"/>
            <a:ext cx="0" cy="9144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581280" y="4114800"/>
            <a:ext cx="0" cy="838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800600" y="4266720"/>
            <a:ext cx="0" cy="6858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47920" y="4038480"/>
            <a:ext cx="548640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065360" y="40374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lugares residenciales y otros de agricul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BF30-37A8-4A60-B70D-195098C523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portes teorícos en localización residencial</a:t>
            </a:r>
            <a:br>
              <a:rPr sz="3600"/>
            </a:b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ntes de 1900 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1430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. Smith, D. Ricardo, J. S. Mill: suelo es un caso monopól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lfred Marshal (1890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te value = situation + agricultural val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ids: en base a ventajas de localización y asignación a uso más ren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M Hurd (1903): valor depende de rentabilidad, esta de localización y esta de  cercanía, valor depende de cercanía. Caso residencial el valor es social y no económ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B156-C1AD-44BC-BCB3-B598CCD7754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447920" y="2057400"/>
            <a:ext cx="1904760" cy="289548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1295280"/>
            <a:ext cx="2362320" cy="365760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47920" y="2971800"/>
            <a:ext cx="4647960" cy="198108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47920" y="2590920"/>
            <a:ext cx="5486400" cy="236196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23880" y="2286000"/>
            <a:ext cx="3124440" cy="266688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23880" y="1752480"/>
            <a:ext cx="3810240" cy="320040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47920" y="1523880"/>
            <a:ext cx="2209680" cy="342900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47920" y="2819520"/>
            <a:ext cx="4952880" cy="2133360"/>
          </a:xfrm>
          <a:prstGeom prst="line">
            <a:avLst/>
          </a:prstGeom>
          <a:ln w="1908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1981080"/>
            <a:ext cx="3581280" cy="29718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057400" y="1828800"/>
            <a:ext cx="0" cy="3124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581280" y="3200400"/>
            <a:ext cx="0" cy="17524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648320" y="3809520"/>
            <a:ext cx="0" cy="11430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47920" y="4114800"/>
            <a:ext cx="548640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26920" y="4012200"/>
            <a:ext cx="93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gríc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residentes y agricul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90480" y="126900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133720" y="1752480"/>
            <a:ext cx="45720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76280" y="203112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3048120" y="2514600"/>
            <a:ext cx="30456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23840" y="317412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495680" y="3657600"/>
            <a:ext cx="15264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9E27-48F7-452A-BD5D-9C4968BE90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447920" y="2057400"/>
            <a:ext cx="1904760" cy="289548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00200" y="1295280"/>
            <a:ext cx="2362320" cy="365760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4832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47920" y="2971800"/>
            <a:ext cx="4647960" cy="198108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2590920"/>
            <a:ext cx="5486400" cy="236196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23880" y="2286000"/>
            <a:ext cx="3124440" cy="266688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23880" y="1752480"/>
            <a:ext cx="3810240" cy="320040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47920" y="1523880"/>
            <a:ext cx="2209680" cy="34290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47920" y="2819520"/>
            <a:ext cx="4952880" cy="2133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47920" y="1981080"/>
            <a:ext cx="3581280" cy="297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057400" y="2437920"/>
            <a:ext cx="0" cy="25146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581280" y="3733920"/>
            <a:ext cx="0" cy="121896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800600" y="4266720"/>
            <a:ext cx="0" cy="6858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4038480"/>
            <a:ext cx="5486400" cy="38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684120" y="40374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residentes y agricul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0F8A-04DA-4A45-83EC-A4C05F2F09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47920" y="122544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90000" y="121932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60000">
            <a:off x="1574280" y="-769320"/>
            <a:ext cx="11690280" cy="5466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300000">
            <a:off x="2521800" y="-1445040"/>
            <a:ext cx="5483520" cy="649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3014928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3014928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120000">
            <a:off x="1479240" y="2945160"/>
            <a:ext cx="12013560" cy="1633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122" y="20534"/>
                </a:moveTo>
                <a:arcTo wR="10800" hR="10800" stAng="6940080" swAng="3866601"/>
                <a:lnTo>
                  <a:pt x="10800" y="10800"/>
                </a:lnTo>
                <a:close/>
              </a:path>
              <a:path fill="none" w="21600" h="21600">
                <a:moveTo>
                  <a:pt x="6122" y="20534"/>
                </a:moveTo>
                <a:arcTo wR="10800" hR="10800" stAng="6940080" swAng="3866601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68360" y="1060560"/>
            <a:ext cx="384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71800" y="3740040"/>
            <a:ext cx="0" cy="12067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105520" y="45021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81080" y="53341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9828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93200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7992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553080" y="4489200"/>
            <a:ext cx="0" cy="4698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1441080" y="4572000"/>
            <a:ext cx="51181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192000">
            <a:off x="2492640" y="-1492920"/>
            <a:ext cx="5482800" cy="649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358" y="17536"/>
                </a:moveTo>
                <a:arcTo wR="10800" hR="10800" stAng="8484575" swAng="2317105"/>
                <a:lnTo>
                  <a:pt x="10800" y="10800"/>
                </a:lnTo>
                <a:close/>
              </a:path>
              <a:path fill="none" w="21600" h="21600">
                <a:moveTo>
                  <a:pt x="2358" y="17536"/>
                </a:moveTo>
                <a:arcTo wR="10800" hR="10800" stAng="8484575" swAng="2317105"/>
              </a:path>
            </a:pathLst>
          </a:custGeom>
          <a:noFill/>
          <a:ln cap="rnd"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60000">
            <a:off x="1569240" y="-767160"/>
            <a:ext cx="11690640" cy="546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704" y="20793"/>
                </a:moveTo>
                <a:arcTo wR="10800" hR="10800" stAng="6737166" swAng="1612575"/>
                <a:lnTo>
                  <a:pt x="10800" y="10800"/>
                </a:lnTo>
                <a:close/>
              </a:path>
              <a:path fill="none" w="21600" h="21600">
                <a:moveTo>
                  <a:pt x="6704" y="20793"/>
                </a:moveTo>
                <a:arcTo wR="10800" hR="10800" stAng="6737166" swAng="1612575"/>
              </a:path>
            </a:pathLst>
          </a:custGeom>
          <a:noFill/>
          <a:ln cap="rnd"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120000">
            <a:off x="1461960" y="2957040"/>
            <a:ext cx="12009600" cy="163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09" swAng="1368189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09" swAng="1368189"/>
              </a:path>
            </a:pathLst>
          </a:custGeom>
          <a:noFill/>
          <a:ln cap="rnd"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03440" y="1523880"/>
            <a:ext cx="384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47920" y="3124080"/>
            <a:ext cx="4572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47920" y="5257800"/>
            <a:ext cx="15238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71800" y="525780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05520" y="5257800"/>
            <a:ext cx="14475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708360" y="533700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689440" y="53341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60000">
            <a:off x="1395000" y="-616680"/>
            <a:ext cx="11690280" cy="5466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60000">
            <a:off x="1874520" y="-851760"/>
            <a:ext cx="11689560" cy="5466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FDB2-3277-47F5-A615-47217509FF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047240" y="1143000"/>
            <a:ext cx="779148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Área disponible a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: S(t)=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ars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P(t=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rdenar hogares y firnas de mayor a menor pendient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lcul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contr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resolviendo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lcul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u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837720" y="-36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cf4ea"/>
                </a:solidFill>
                <a:latin typeface="Times New Roman"/>
              </a:rPr>
              <a:t>Método de asignación: teo. de jueg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3733920" y="2714760"/>
                <a:ext cx="19699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A268-AD0E-40EA-B767-B9BD6C16D7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761760" y="4343400"/>
            <a:ext cx="779148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parar el precio resultante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n el margen de la ciudad con el valor agrícola, si coincide con la suposición entonces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ra correcta, si no, hay que modificar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 Se obtiene el límite urba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ternativamente, partir del valor de suelo agrícola y un límite urbano, probar si cabe toda la pobl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609480" y="75960"/>
            <a:ext cx="7963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cf4ea"/>
                </a:solidFill>
                <a:latin typeface="Times New Roman"/>
              </a:rPr>
              <a:t>Método de asignación: teo. de jueg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380880" y="1371600"/>
          <a:ext cx="8763120" cy="261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8763120" cy="26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0BB5-BA5C-44E9-9E1D-2F80B551DFD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8" name=""/>
          <p:cNvGraphicFramePr/>
          <p:nvPr/>
        </p:nvGraphicFramePr>
        <p:xfrm>
          <a:off x="4344840" y="2976480"/>
          <a:ext cx="1195560" cy="36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4840" y="2976480"/>
                    <a:ext cx="1195560" cy="36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0" y="3276720"/>
          <a:ext cx="206388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2063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264960" y="1523880"/>
          <a:ext cx="57312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960" y="1523880"/>
                    <a:ext cx="573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4" name=""/>
          <p:cNvGrpSpPr/>
          <p:nvPr/>
        </p:nvGrpSpPr>
        <p:grpSpPr>
          <a:xfrm>
            <a:off x="6095520" y="533520"/>
            <a:ext cx="2531880" cy="3164040"/>
            <a:chOff x="6095520" y="533520"/>
            <a:chExt cx="2531880" cy="3164040"/>
          </a:xfrm>
        </p:grpSpPr>
        <p:sp>
          <p:nvSpPr>
            <p:cNvPr id="345" name=""/>
            <p:cNvSpPr/>
            <p:nvPr/>
          </p:nvSpPr>
          <p:spPr>
            <a:xfrm flipH="1" flipV="1">
              <a:off x="6635520" y="3262320"/>
              <a:ext cx="27000" cy="3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635880" y="2719440"/>
              <a:ext cx="298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173640" y="3079800"/>
              <a:ext cx="5904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6232680" y="2155320"/>
              <a:ext cx="417240" cy="92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6716880" y="3092040"/>
              <a:ext cx="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6716880" y="2563920"/>
              <a:ext cx="230040" cy="52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6946920" y="2126880"/>
              <a:ext cx="6192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508880" y="3168720"/>
              <a:ext cx="22320" cy="41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7178760" y="3381480"/>
              <a:ext cx="25200" cy="2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203960" y="3261960"/>
              <a:ext cx="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7176600" y="2759040"/>
              <a:ext cx="27000" cy="50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flipV="1">
              <a:off x="7148160" y="2541600"/>
              <a:ext cx="28440" cy="21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flipV="1">
              <a:off x="7116840" y="2172960"/>
              <a:ext cx="3168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480440" y="2862360"/>
              <a:ext cx="2844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7445160" y="2600280"/>
              <a:ext cx="36360" cy="27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flipV="1">
              <a:off x="7236000" y="2544480"/>
              <a:ext cx="33120" cy="23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 flipV="1">
              <a:off x="7232400" y="2492280"/>
              <a:ext cx="32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7209000" y="2422440"/>
              <a:ext cx="237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7209000" y="2343240"/>
              <a:ext cx="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 flipV="1">
              <a:off x="7191000" y="2169720"/>
              <a:ext cx="176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7661160" y="2600280"/>
              <a:ext cx="504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661160" y="2660760"/>
              <a:ext cx="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7653240" y="2746440"/>
              <a:ext cx="792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653240" y="2795760"/>
              <a:ext cx="18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flipV="1">
              <a:off x="7612200" y="2692080"/>
              <a:ext cx="4608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 flipV="1">
              <a:off x="7569000" y="2601720"/>
              <a:ext cx="4284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7493040" y="2319120"/>
              <a:ext cx="69840" cy="28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 flipV="1">
              <a:off x="6360840" y="2230560"/>
              <a:ext cx="6120" cy="16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6357600" y="2104560"/>
              <a:ext cx="324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6357960" y="2044440"/>
              <a:ext cx="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57960" y="2018880"/>
              <a:ext cx="2376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381720" y="1798200"/>
              <a:ext cx="9684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6478560" y="1760400"/>
              <a:ext cx="334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6512040" y="1653840"/>
              <a:ext cx="12852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6640560" y="1649160"/>
              <a:ext cx="396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6680160" y="1639440"/>
              <a:ext cx="13824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6410160" y="2314080"/>
              <a:ext cx="50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415200" y="2235240"/>
              <a:ext cx="5868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6473880" y="2066760"/>
              <a:ext cx="3636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6510240" y="1995480"/>
              <a:ext cx="6516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6575400" y="1878120"/>
              <a:ext cx="13824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flipV="1">
              <a:off x="6585120" y="2062080"/>
              <a:ext cx="806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>
              <a:off x="6572160" y="2047680"/>
              <a:ext cx="1296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6572160" y="20019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6565680" y="1927080"/>
              <a:ext cx="612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6566040" y="1798200"/>
              <a:ext cx="9360" cy="12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6575400" y="1712880"/>
              <a:ext cx="1047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6680160" y="1701360"/>
              <a:ext cx="302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6710400" y="1641240"/>
              <a:ext cx="6840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6778800" y="1611360"/>
              <a:ext cx="507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6829560" y="1596960"/>
              <a:ext cx="792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6837480" y="1565280"/>
              <a:ext cx="144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7356240" y="2007720"/>
              <a:ext cx="14292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flipV="1">
              <a:off x="7106760" y="2044800"/>
              <a:ext cx="972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 flipV="1">
              <a:off x="7087680" y="1838160"/>
              <a:ext cx="1908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6799320" y="1774800"/>
              <a:ext cx="5220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6716880" y="1844280"/>
              <a:ext cx="838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6800760" y="1831680"/>
              <a:ext cx="986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6899400" y="1824120"/>
              <a:ext cx="1015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 flipV="1">
              <a:off x="7005600" y="1814400"/>
              <a:ext cx="64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7005600" y="1552320"/>
              <a:ext cx="7452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50080" y="1639800"/>
              <a:ext cx="414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891480" y="1623600"/>
              <a:ext cx="903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6095520" y="1511280"/>
              <a:ext cx="127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 flipV="1">
              <a:off x="6572160" y="1491840"/>
              <a:ext cx="7920" cy="1112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flipV="1">
              <a:off x="6675480" y="533520"/>
              <a:ext cx="302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6776640" y="635040"/>
              <a:ext cx="180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777000" y="654120"/>
              <a:ext cx="972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86720" y="706320"/>
              <a:ext cx="2700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13720" y="77472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15160" y="801720"/>
              <a:ext cx="302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845400" y="860400"/>
              <a:ext cx="46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850080" y="903240"/>
              <a:ext cx="15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65920" y="9572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867360" y="963720"/>
              <a:ext cx="493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16680" y="1085760"/>
              <a:ext cx="2052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37200" y="1155600"/>
              <a:ext cx="1296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881760" y="1246320"/>
              <a:ext cx="68400" cy="26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845400" y="863640"/>
              <a:ext cx="3492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880320" y="938160"/>
              <a:ext cx="331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913440" y="996840"/>
              <a:ext cx="4788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961320" y="1073160"/>
              <a:ext cx="3312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994440" y="1233360"/>
              <a:ext cx="1908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6885000" y="1239840"/>
              <a:ext cx="63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6948360" y="1231920"/>
              <a:ext cx="460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994440" y="1231920"/>
              <a:ext cx="100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7098840" y="1015920"/>
              <a:ext cx="637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7097760" y="1163520"/>
              <a:ext cx="1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97760" y="118260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095600" y="1200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094520" y="1200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94520" y="12002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094520" y="120636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094520" y="120636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7093080" y="12114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093080" y="121140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7089480" y="1220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089840" y="122076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89840" y="1238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093080" y="12384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093080" y="12412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094520" y="1241280"/>
              <a:ext cx="144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095960" y="125424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6910200" y="1274760"/>
              <a:ext cx="185400" cy="23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7094520" y="561960"/>
              <a:ext cx="5400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072200" y="1055520"/>
              <a:ext cx="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074000" y="113040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7059240" y="1182600"/>
              <a:ext cx="111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7021440" y="1249200"/>
              <a:ext cx="3816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7164360" y="1007640"/>
              <a:ext cx="633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27720" y="1008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232760" y="10144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232760" y="1019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36000" y="10191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7440" y="1022400"/>
              <a:ext cx="2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37440" y="10224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237440" y="1025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242120" y="10270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242120" y="1031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243920" y="10317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243920" y="10350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245360" y="10368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245360" y="10368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245360" y="1042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246800" y="10429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7245360" y="10587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245360" y="105876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245360" y="1065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7243920" y="1066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243920" y="106668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7241760" y="10731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242120" y="10764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7237080" y="10764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37440" y="1076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237440" y="108108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237440" y="1081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7236000" y="10843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236000" y="1084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32400" y="1087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232760" y="1087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7227720" y="1089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227720" y="109548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flipV="1">
              <a:off x="7221240" y="109188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7221600" y="1090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722160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7215120" y="10890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21512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7210080" y="10904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7209000" y="1090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209000" y="1092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7205400" y="1095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205760" y="109548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7203600" y="11016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203960" y="110160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7202520" y="11016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202520" y="11016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02520" y="110952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202520" y="11095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236000" y="1179360"/>
              <a:ext cx="219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7256160" y="1490760"/>
              <a:ext cx="98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 flipV="1">
              <a:off x="7229160" y="1494000"/>
              <a:ext cx="270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7097760" y="1494000"/>
              <a:ext cx="131760" cy="4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180200" y="1387440"/>
              <a:ext cx="414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7221600" y="1576440"/>
              <a:ext cx="71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155000" y="1401840"/>
              <a:ext cx="4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7154640" y="145260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155000" y="1460520"/>
              <a:ext cx="2520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296120" y="1577880"/>
              <a:ext cx="2052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16640" y="1584360"/>
              <a:ext cx="334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350120" y="1593720"/>
              <a:ext cx="81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7431120" y="1590480"/>
              <a:ext cx="381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7469280" y="1584360"/>
              <a:ext cx="3636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7505640" y="1572840"/>
              <a:ext cx="6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512120" y="1573200"/>
              <a:ext cx="23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7535880" y="1561680"/>
              <a:ext cx="73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7608960" y="1541160"/>
              <a:ext cx="88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97880" y="1541520"/>
              <a:ext cx="15552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54800" y="1486080"/>
              <a:ext cx="11916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7316640" y="934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7318440" y="9349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318440" y="93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7318440" y="93168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7318440" y="93204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18440" y="9349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7318440" y="932040"/>
              <a:ext cx="61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7324560" y="928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7324560" y="925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324560" y="925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7327800" y="9097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7327800" y="9075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27800" y="9079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7329600" y="906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29600" y="906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7331040" y="902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331040" y="903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7332840" y="901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7332840" y="8996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332840" y="9000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7332840" y="8996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7337520" y="898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7337520" y="894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7337520" y="893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338960" y="8938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7340760" y="891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340760" y="8920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7342200" y="890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7346880" y="88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346880" y="885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7351560" y="880920"/>
              <a:ext cx="324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7354800" y="8794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7354440" y="879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354800" y="873000"/>
              <a:ext cx="46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7359480" y="871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7359480" y="870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359480" y="870120"/>
              <a:ext cx="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359480" y="8701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7364520" y="861480"/>
              <a:ext cx="0" cy="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364520" y="8618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7364520" y="8614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7367760" y="8553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367760" y="85572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7367760" y="8535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7370640" y="851040"/>
              <a:ext cx="32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7373880" y="847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373880" y="8478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7378560" y="844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378560" y="84456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378560" y="8445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378560" y="84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378560" y="84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385040" y="8348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385040" y="83160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7389720" y="8298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389720" y="8301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389720" y="8265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7389720" y="8240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7391520" y="82188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394400" y="82224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7394400" y="8157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7394400" y="813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739764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739728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7397640" y="809280"/>
              <a:ext cx="18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7399440" y="8082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400880" y="808200"/>
              <a:ext cx="22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7400880" y="806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400880" y="806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7404120" y="802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404120" y="803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7407360" y="7981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407360" y="7970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7408800" y="794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408800" y="795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7408800" y="7948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7410600" y="795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7410600" y="790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7412040" y="789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412040" y="78912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412040" y="789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7416720" y="7869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7416720" y="785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418520" y="7858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7419960" y="783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419960" y="7840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419960" y="7840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7423200" y="781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23200" y="7812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7426440" y="779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7426440" y="7779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431120" y="77796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437600" y="77940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7448400" y="777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448400" y="777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7453440" y="774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453440" y="774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7459560" y="771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459560" y="771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7459560" y="771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459560" y="7714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459560" y="77148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469280" y="771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7480440" y="770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480440" y="7664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7481880" y="763200"/>
              <a:ext cx="2376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7505640" y="7599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750744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508880" y="7588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7508880" y="7588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7512120" y="756720"/>
              <a:ext cx="15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522920" y="75708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16800" y="75888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flipV="1">
              <a:off x="751536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7515360" y="75672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7518240" y="754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518240" y="7542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52328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27960" y="7542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52796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7532640" y="750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532640" y="750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540560" y="750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545240" y="7509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545240" y="7509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7547040" y="747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547040" y="747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7553160" y="744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553160" y="744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556400" y="7444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561440" y="74448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7570800" y="743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570800" y="743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7574040" y="739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574040" y="73980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574040" y="739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7577280" y="7383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577280" y="73836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7580160" y="7362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580160" y="73656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758664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586640" y="73332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597800" y="733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597800" y="73656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7610400" y="73620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762300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7623000" y="73188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7628040" y="729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631280" y="73008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7637400" y="72504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37400" y="7254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7639200" y="7239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7640640" y="7218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642080" y="7221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764388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4388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650000" y="7207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655040" y="717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765828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658280" y="7160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7661160" y="713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661160" y="714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7666200" y="712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7666200" y="71136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72320" y="7113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682040" y="711360"/>
              <a:ext cx="15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697880" y="7128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699320" y="714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699320" y="716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70256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702560" y="717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70400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7704000" y="715680"/>
              <a:ext cx="158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719840" y="71604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731000" y="71604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73604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73604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74216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742160" y="722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746840" y="7221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746840" y="723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75188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751880" y="7254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776916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769160" y="723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151760" y="15746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156440" y="15746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7167600" y="15728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170840" y="1573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7175520" y="1569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75520" y="1569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80200" y="1569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183440" y="1571760"/>
              <a:ext cx="79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191360" y="15746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201080" y="1587600"/>
              <a:ext cx="21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639200" y="1782720"/>
              <a:ext cx="936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6178680" y="1227240"/>
              <a:ext cx="252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 flipV="1">
              <a:off x="6195960" y="1079640"/>
              <a:ext cx="79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6195960" y="723960"/>
              <a:ext cx="236520" cy="35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432480" y="723960"/>
              <a:ext cx="1954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6627960" y="638280"/>
              <a:ext cx="77760" cy="10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705720" y="638280"/>
              <a:ext cx="104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810480" y="638280"/>
              <a:ext cx="26028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070760" y="798480"/>
              <a:ext cx="1792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7250040" y="969840"/>
              <a:ext cx="2376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7273800" y="931680"/>
              <a:ext cx="7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7281720" y="891720"/>
              <a:ext cx="270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7308720" y="882720"/>
              <a:ext cx="190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327800" y="882720"/>
              <a:ext cx="349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7703640" y="843120"/>
              <a:ext cx="255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7676640" y="919080"/>
              <a:ext cx="2700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7640280" y="933480"/>
              <a:ext cx="36360" cy="5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7624800" y="988920"/>
              <a:ext cx="1584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7580160" y="1038240"/>
              <a:ext cx="446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7535520" y="1081080"/>
              <a:ext cx="44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512120" y="1343160"/>
              <a:ext cx="468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516800" y="1409760"/>
              <a:ext cx="27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543800" y="1446120"/>
              <a:ext cx="32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547040" y="1463760"/>
              <a:ext cx="6012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607160" y="1542960"/>
              <a:ext cx="59040" cy="1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666200" y="1687680"/>
              <a:ext cx="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7640280" y="1720800"/>
              <a:ext cx="25560" cy="7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7622640" y="1792440"/>
              <a:ext cx="1764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7615080" y="1844640"/>
              <a:ext cx="7920" cy="3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615080" y="219708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642080" y="2320920"/>
              <a:ext cx="504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647120" y="2463840"/>
              <a:ext cx="2196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7391520" y="2203200"/>
              <a:ext cx="3168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7423200" y="2157480"/>
              <a:ext cx="79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431120" y="20919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7437600" y="1954080"/>
              <a:ext cx="4428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7481880" y="1743120"/>
              <a:ext cx="176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7499520" y="1584000"/>
              <a:ext cx="3312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 flipV="1">
              <a:off x="7516800" y="1410840"/>
              <a:ext cx="15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 flipV="1">
              <a:off x="7486560" y="138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 flipV="1">
              <a:off x="7462800" y="1377720"/>
              <a:ext cx="237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 flipV="1">
              <a:off x="7446960" y="1339920"/>
              <a:ext cx="1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367760" y="895320"/>
              <a:ext cx="442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412040" y="938160"/>
              <a:ext cx="144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426440" y="976320"/>
              <a:ext cx="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232760" y="1165320"/>
              <a:ext cx="3168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7264440" y="1170000"/>
              <a:ext cx="3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304040" y="1170000"/>
              <a:ext cx="3492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338960" y="1200240"/>
              <a:ext cx="619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400880" y="1289160"/>
              <a:ext cx="460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 flipV="1">
              <a:off x="7505640" y="1293480"/>
              <a:ext cx="648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 flipV="1">
              <a:off x="7451640" y="120024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7451640" y="1179360"/>
              <a:ext cx="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 flipV="1">
              <a:off x="7426440" y="1072800"/>
              <a:ext cx="2520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7426440" y="1039320"/>
              <a:ext cx="46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7499160" y="1089000"/>
              <a:ext cx="442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7478640" y="1120680"/>
              <a:ext cx="2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7435440" y="1120680"/>
              <a:ext cx="428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7338600" y="1154160"/>
              <a:ext cx="96840" cy="44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7311600" y="1198440"/>
              <a:ext cx="27000" cy="19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257960" y="1285920"/>
              <a:ext cx="42840" cy="12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300800" y="1411200"/>
              <a:ext cx="1584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216920" y="1663560"/>
              <a:ext cx="9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311960" y="1670040"/>
              <a:ext cx="3492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346880" y="1698480"/>
              <a:ext cx="1000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446960" y="1708200"/>
              <a:ext cx="525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499520" y="1744560"/>
              <a:ext cx="1396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7457760" y="1744560"/>
              <a:ext cx="414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 flipV="1">
              <a:off x="7430760" y="1782360"/>
              <a:ext cx="270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7423200" y="1782720"/>
              <a:ext cx="7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203600" y="1792440"/>
              <a:ext cx="2192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075440" y="1452600"/>
              <a:ext cx="8568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161120" y="1889280"/>
              <a:ext cx="176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178760" y="1905120"/>
              <a:ext cx="4896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227720" y="1928880"/>
              <a:ext cx="176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423200" y="2176560"/>
              <a:ext cx="763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499520" y="2189160"/>
              <a:ext cx="6984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7569360" y="2198520"/>
              <a:ext cx="4572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7367760" y="2281320"/>
              <a:ext cx="266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7338960" y="2317680"/>
              <a:ext cx="288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7292880" y="2387520"/>
              <a:ext cx="4608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7175520" y="2522520"/>
              <a:ext cx="117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6960960" y="2495160"/>
              <a:ext cx="2142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flipV="1">
              <a:off x="6849720" y="2430000"/>
              <a:ext cx="11124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6850080" y="1825560"/>
              <a:ext cx="150840" cy="604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000920" y="1825560"/>
              <a:ext cx="39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40520" y="1832040"/>
              <a:ext cx="5400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7094520" y="1831680"/>
              <a:ext cx="57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7151760" y="1809720"/>
              <a:ext cx="522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934320" y="2085840"/>
              <a:ext cx="182520" cy="7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116840" y="2165400"/>
              <a:ext cx="1648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 flipV="1">
              <a:off x="7227360" y="1925280"/>
              <a:ext cx="82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162920" y="1893960"/>
              <a:ext cx="28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165800" y="1952640"/>
              <a:ext cx="32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169040" y="2039760"/>
              <a:ext cx="2232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273800" y="2173320"/>
              <a:ext cx="1573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7308720" y="1604880"/>
              <a:ext cx="648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308720" y="1677960"/>
              <a:ext cx="0" cy="12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08720" y="1800360"/>
              <a:ext cx="32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311960" y="1962000"/>
              <a:ext cx="64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7314840" y="1987560"/>
              <a:ext cx="324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7284960" y="2131920"/>
              <a:ext cx="3024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7013520" y="1852560"/>
              <a:ext cx="27000" cy="16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 flipV="1">
              <a:off x="7094520" y="1844280"/>
              <a:ext cx="619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703920" y="641520"/>
              <a:ext cx="66600" cy="22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770520" y="861840"/>
              <a:ext cx="1440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784920" y="936720"/>
              <a:ext cx="475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832440" y="1058760"/>
              <a:ext cx="1764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850080" y="1204920"/>
              <a:ext cx="39600" cy="8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889680" y="1287360"/>
              <a:ext cx="730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6705720" y="803160"/>
              <a:ext cx="4608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705720" y="952560"/>
              <a:ext cx="4104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746760" y="1089000"/>
              <a:ext cx="223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6754680" y="1212840"/>
              <a:ext cx="1440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754680" y="1363680"/>
              <a:ext cx="32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6751440" y="14349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751800" y="1517760"/>
              <a:ext cx="1260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764400" y="1589040"/>
              <a:ext cx="2232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786720" y="1679400"/>
              <a:ext cx="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786720" y="1727280"/>
              <a:ext cx="9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7160760" y="939960"/>
              <a:ext cx="334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flipV="1">
              <a:off x="7013520" y="966960"/>
              <a:ext cx="147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6919920" y="966960"/>
              <a:ext cx="93600" cy="18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6876720" y="985680"/>
              <a:ext cx="4284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6821640" y="1025640"/>
              <a:ext cx="554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 flipV="1">
              <a:off x="6770520" y="1031400"/>
              <a:ext cx="54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 flipV="1">
              <a:off x="6757560" y="1022400"/>
              <a:ext cx="126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6729120" y="1022400"/>
              <a:ext cx="28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6699240" y="102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6676920" y="1050840"/>
              <a:ext cx="223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6673320" y="1096920"/>
              <a:ext cx="3240" cy="19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6664320" y="1289160"/>
              <a:ext cx="936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664320" y="1474920"/>
              <a:ext cx="324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667560" y="154296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680160" y="1636560"/>
              <a:ext cx="7920" cy="1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688080" y="1770120"/>
              <a:ext cx="324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691320" y="1836720"/>
              <a:ext cx="270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718320" y="1886040"/>
              <a:ext cx="363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754680" y="192240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784920" y="1922400"/>
              <a:ext cx="666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851520" y="2008080"/>
              <a:ext cx="5076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902280" y="207180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770520" y="1227240"/>
              <a:ext cx="399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810480" y="1265400"/>
              <a:ext cx="2696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7124760" y="137916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7164360" y="1332000"/>
              <a:ext cx="2232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7186680" y="1262160"/>
              <a:ext cx="144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7201080" y="1200240"/>
              <a:ext cx="792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7209000" y="1168560"/>
              <a:ext cx="237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7232760" y="1128240"/>
              <a:ext cx="396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7272360" y="1101240"/>
              <a:ext cx="17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7197480" y="1238400"/>
              <a:ext cx="68040" cy="633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7178400" y="1346040"/>
              <a:ext cx="1908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7054920" y="1389240"/>
              <a:ext cx="131760" cy="838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6718320" y="1808280"/>
              <a:ext cx="7632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>
              <a:off x="6794640" y="1774440"/>
              <a:ext cx="554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6850080" y="1565280"/>
              <a:ext cx="144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 flipV="1">
              <a:off x="6843600" y="153792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 flipV="1">
              <a:off x="6832080" y="133308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6832440" y="130608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6840360" y="1297080"/>
              <a:ext cx="16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988320" y="1617840"/>
              <a:ext cx="468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993000" y="1727280"/>
              <a:ext cx="46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997680" y="1758960"/>
              <a:ext cx="1116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6851520" y="1757520"/>
              <a:ext cx="146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96080" y="1812960"/>
              <a:ext cx="126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6771960" y="1851120"/>
              <a:ext cx="36360" cy="16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6698880" y="2021040"/>
              <a:ext cx="73080" cy="27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99240" y="2300400"/>
              <a:ext cx="6984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769080" y="2384280"/>
              <a:ext cx="795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6821280" y="243036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6432480" y="2252520"/>
              <a:ext cx="9540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6527880" y="2151000"/>
              <a:ext cx="12384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6651720" y="2117880"/>
              <a:ext cx="140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6665760" y="1878120"/>
              <a:ext cx="52560" cy="23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6683400" y="2300400"/>
              <a:ext cx="158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683400" y="2386080"/>
              <a:ext cx="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6673320" y="2424240"/>
              <a:ext cx="97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6665760" y="2470320"/>
              <a:ext cx="792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6665760" y="2554200"/>
              <a:ext cx="150840" cy="16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6365520" y="2340000"/>
              <a:ext cx="6516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6113160" y="2400480"/>
              <a:ext cx="252360" cy="33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 flipV="1">
              <a:off x="6676920" y="2281320"/>
              <a:ext cx="2376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 flipV="1">
              <a:off x="6595560" y="2259000"/>
              <a:ext cx="81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 flipV="1">
              <a:off x="6572160" y="2212920"/>
              <a:ext cx="237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 flipV="1">
              <a:off x="6557760" y="2174760"/>
              <a:ext cx="140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 flipV="1">
              <a:off x="6462360" y="2123640"/>
              <a:ext cx="954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 flipV="1">
              <a:off x="6399360" y="1968480"/>
              <a:ext cx="6336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 flipV="1">
              <a:off x="6378480" y="1884240"/>
              <a:ext cx="20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 flipV="1">
              <a:off x="6335280" y="1792080"/>
              <a:ext cx="4284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flipV="1">
              <a:off x="6310440" y="1682280"/>
              <a:ext cx="25200" cy="1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 flipV="1">
              <a:off x="6306840" y="1647360"/>
              <a:ext cx="32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flipV="1">
              <a:off x="6232320" y="1558440"/>
              <a:ext cx="745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flipV="1">
              <a:off x="6219720" y="1525680"/>
              <a:ext cx="129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219720" y="1525680"/>
              <a:ext cx="4255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V="1">
              <a:off x="6620040" y="1593720"/>
              <a:ext cx="152280" cy="59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 flipV="1">
              <a:off x="6180120" y="1428840"/>
              <a:ext cx="39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 flipV="1">
              <a:off x="6178680" y="1343160"/>
              <a:ext cx="14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V="1">
              <a:off x="7724880" y="812520"/>
              <a:ext cx="61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>
              <a:off x="7786800" y="764640"/>
              <a:ext cx="172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7245000" y="1217520"/>
              <a:ext cx="66600" cy="3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7191000" y="1285920"/>
              <a:ext cx="17640" cy="77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 flipV="1">
              <a:off x="6571800" y="1590840"/>
              <a:ext cx="55800" cy="71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6764400" y="1467000"/>
              <a:ext cx="304560" cy="12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969240" y="1236600"/>
              <a:ext cx="104040" cy="23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57"/>
                  </a:moveTo>
                  <a:arcTo wR="10800" hR="10800" stAng="-10754537" swAng="525263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57"/>
                  </a:moveTo>
                  <a:arcTo wR="10800" hR="10800" stAng="-10754537" swAng="5252631"/>
                </a:path>
              </a:pathLst>
            </a:custGeom>
            <a:noFill/>
            <a:ln cap="rnd"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6959160" y="2247840"/>
              <a:ext cx="3348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7080120" y="819000"/>
              <a:ext cx="144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7071840" y="863640"/>
              <a:ext cx="972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 flipV="1">
              <a:off x="6973560" y="1342800"/>
              <a:ext cx="66600" cy="5094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V="1">
              <a:off x="6991200" y="1848960"/>
              <a:ext cx="51120" cy="405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 flipV="1">
              <a:off x="7365600" y="2306520"/>
              <a:ext cx="7956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7292880" y="939600"/>
              <a:ext cx="2556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203960" y="1090800"/>
              <a:ext cx="63720" cy="7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202520" y="111276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6856200" y="1276200"/>
              <a:ext cx="27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 flipV="1">
              <a:off x="7175160" y="1617840"/>
              <a:ext cx="34920" cy="4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172920" y="219708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204240" y="139392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467400" y="1422360"/>
              <a:ext cx="4096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368040" y="100008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411600" y="73188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358320" y="1209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036200" y="7174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460280" y="64764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628400" y="101592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643880" y="13748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309080" y="160812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293600" y="1878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062840" y="19162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 flipV="1">
              <a:off x="7319880" y="1999800"/>
              <a:ext cx="316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459560" y="235908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193160" y="132408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381800" y="3300480"/>
              <a:ext cx="568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061760" y="312120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787800" y="29224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819120" y="190656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678720" y="2227320"/>
              <a:ext cx="490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438240" y="208584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569280" y="1668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277040" y="2174760"/>
              <a:ext cx="90720" cy="1447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237440" y="1941480"/>
              <a:ext cx="39600" cy="2304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205760" y="1812960"/>
              <a:ext cx="31680" cy="1285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182000" y="1744560"/>
              <a:ext cx="23760" cy="6984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124760" y="1407960"/>
              <a:ext cx="55440" cy="336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7488360" y="914400"/>
            <a:ext cx="666720" cy="1144440"/>
            <a:chOff x="7488360" y="914400"/>
            <a:chExt cx="666720" cy="1144440"/>
          </a:xfrm>
        </p:grpSpPr>
        <p:grpSp>
          <p:nvGrpSpPr>
            <p:cNvPr id="969" name=""/>
            <p:cNvGrpSpPr/>
            <p:nvPr/>
          </p:nvGrpSpPr>
          <p:grpSpPr>
            <a:xfrm>
              <a:off x="7812000" y="920880"/>
              <a:ext cx="284400" cy="965160"/>
              <a:chOff x="7812000" y="920880"/>
              <a:chExt cx="284400" cy="965160"/>
            </a:xfrm>
          </p:grpSpPr>
          <p:sp>
            <p:nvSpPr>
              <p:cNvPr id="970" name=""/>
              <p:cNvSpPr/>
              <p:nvPr/>
            </p:nvSpPr>
            <p:spPr>
              <a:xfrm>
                <a:off x="7823160" y="1297080"/>
                <a:ext cx="176400" cy="585720"/>
              </a:xfrm>
              <a:custGeom>
                <a:avLst/>
                <a:gdLst/>
                <a:ahLst/>
                <a:rect l="l" t="t" r="r" b="b"/>
                <a:pathLst>
                  <a:path w="111" h="369">
                    <a:moveTo>
                      <a:pt x="1" y="368"/>
                    </a:moveTo>
                    <a:lnTo>
                      <a:pt x="11" y="365"/>
                    </a:lnTo>
                    <a:lnTo>
                      <a:pt x="12" y="340"/>
                    </a:lnTo>
                    <a:lnTo>
                      <a:pt x="13" y="318"/>
                    </a:lnTo>
                    <a:lnTo>
                      <a:pt x="15" y="296"/>
                    </a:lnTo>
                    <a:lnTo>
                      <a:pt x="17" y="274"/>
                    </a:lnTo>
                    <a:lnTo>
                      <a:pt x="20" y="256"/>
                    </a:lnTo>
                    <a:lnTo>
                      <a:pt x="23" y="241"/>
                    </a:lnTo>
                    <a:lnTo>
                      <a:pt x="25" y="226"/>
                    </a:lnTo>
                    <a:lnTo>
                      <a:pt x="28" y="209"/>
                    </a:lnTo>
                    <a:lnTo>
                      <a:pt x="32" y="194"/>
                    </a:lnTo>
                    <a:lnTo>
                      <a:pt x="38" y="177"/>
                    </a:lnTo>
                    <a:lnTo>
                      <a:pt x="43" y="162"/>
                    </a:lnTo>
                    <a:lnTo>
                      <a:pt x="47" y="148"/>
                    </a:lnTo>
                    <a:lnTo>
                      <a:pt x="53" y="135"/>
                    </a:lnTo>
                    <a:lnTo>
                      <a:pt x="59" y="118"/>
                    </a:lnTo>
                    <a:lnTo>
                      <a:pt x="67" y="99"/>
                    </a:lnTo>
                    <a:lnTo>
                      <a:pt x="73" y="88"/>
                    </a:lnTo>
                    <a:lnTo>
                      <a:pt x="79" y="77"/>
                    </a:lnTo>
                    <a:lnTo>
                      <a:pt x="85" y="65"/>
                    </a:lnTo>
                    <a:lnTo>
                      <a:pt x="92" y="56"/>
                    </a:lnTo>
                    <a:lnTo>
                      <a:pt x="101" y="41"/>
                    </a:lnTo>
                    <a:lnTo>
                      <a:pt x="110" y="34"/>
                    </a:lnTo>
                    <a:lnTo>
                      <a:pt x="103" y="0"/>
                    </a:lnTo>
                    <a:lnTo>
                      <a:pt x="90" y="16"/>
                    </a:lnTo>
                    <a:lnTo>
                      <a:pt x="76" y="37"/>
                    </a:lnTo>
                    <a:lnTo>
                      <a:pt x="64" y="58"/>
                    </a:lnTo>
                    <a:lnTo>
                      <a:pt x="53" y="84"/>
                    </a:lnTo>
                    <a:lnTo>
                      <a:pt x="35" y="122"/>
                    </a:lnTo>
                    <a:lnTo>
                      <a:pt x="21" y="161"/>
                    </a:lnTo>
                    <a:lnTo>
                      <a:pt x="10" y="201"/>
                    </a:lnTo>
                    <a:lnTo>
                      <a:pt x="5" y="237"/>
                    </a:lnTo>
                    <a:lnTo>
                      <a:pt x="0" y="279"/>
                    </a:lnTo>
                    <a:lnTo>
                      <a:pt x="0" y="313"/>
                    </a:lnTo>
                    <a:lnTo>
                      <a:pt x="1" y="36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915320" y="920880"/>
                <a:ext cx="181080" cy="250560"/>
              </a:xfrm>
              <a:custGeom>
                <a:avLst/>
                <a:gdLst/>
                <a:ahLst/>
                <a:rect l="l" t="t" r="r" b="b"/>
                <a:pathLst>
                  <a:path w="114" h="158">
                    <a:moveTo>
                      <a:pt x="89" y="155"/>
                    </a:moveTo>
                    <a:lnTo>
                      <a:pt x="113" y="149"/>
                    </a:lnTo>
                    <a:lnTo>
                      <a:pt x="106" y="143"/>
                    </a:lnTo>
                    <a:lnTo>
                      <a:pt x="99" y="137"/>
                    </a:lnTo>
                    <a:lnTo>
                      <a:pt x="92" y="128"/>
                    </a:lnTo>
                    <a:lnTo>
                      <a:pt x="84" y="118"/>
                    </a:lnTo>
                    <a:lnTo>
                      <a:pt x="76" y="107"/>
                    </a:lnTo>
                    <a:lnTo>
                      <a:pt x="68" y="98"/>
                    </a:lnTo>
                    <a:lnTo>
                      <a:pt x="61" y="88"/>
                    </a:lnTo>
                    <a:lnTo>
                      <a:pt x="53" y="79"/>
                    </a:lnTo>
                    <a:lnTo>
                      <a:pt x="48" y="69"/>
                    </a:lnTo>
                    <a:lnTo>
                      <a:pt x="42" y="58"/>
                    </a:lnTo>
                    <a:lnTo>
                      <a:pt x="36" y="46"/>
                    </a:lnTo>
                    <a:lnTo>
                      <a:pt x="31" y="34"/>
                    </a:lnTo>
                    <a:lnTo>
                      <a:pt x="26" y="22"/>
                    </a:lnTo>
                    <a:lnTo>
                      <a:pt x="21" y="9"/>
                    </a:lnTo>
                    <a:lnTo>
                      <a:pt x="17" y="0"/>
                    </a:lnTo>
                    <a:lnTo>
                      <a:pt x="0" y="4"/>
                    </a:lnTo>
                    <a:lnTo>
                      <a:pt x="5" y="23"/>
                    </a:lnTo>
                    <a:lnTo>
                      <a:pt x="15" y="46"/>
                    </a:lnTo>
                    <a:lnTo>
                      <a:pt x="27" y="79"/>
                    </a:lnTo>
                    <a:lnTo>
                      <a:pt x="40" y="102"/>
                    </a:lnTo>
                    <a:lnTo>
                      <a:pt x="57" y="122"/>
                    </a:lnTo>
                    <a:lnTo>
                      <a:pt x="71" y="142"/>
                    </a:lnTo>
                    <a:lnTo>
                      <a:pt x="85" y="157"/>
                    </a:lnTo>
                    <a:lnTo>
                      <a:pt x="112" y="149"/>
                    </a:lnTo>
                    <a:lnTo>
                      <a:pt x="89" y="155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8023320" y="1155600"/>
                <a:ext cx="73080" cy="355680"/>
              </a:xfrm>
              <a:custGeom>
                <a:avLst/>
                <a:gdLst/>
                <a:ahLst/>
                <a:rect l="l" t="t" r="r" b="b"/>
                <a:pathLst>
                  <a:path w="46" h="224">
                    <a:moveTo>
                      <a:pt x="1" y="223"/>
                    </a:moveTo>
                    <a:lnTo>
                      <a:pt x="20" y="217"/>
                    </a:lnTo>
                    <a:lnTo>
                      <a:pt x="21" y="203"/>
                    </a:lnTo>
                    <a:lnTo>
                      <a:pt x="21" y="189"/>
                    </a:lnTo>
                    <a:lnTo>
                      <a:pt x="22" y="176"/>
                    </a:lnTo>
                    <a:lnTo>
                      <a:pt x="23" y="162"/>
                    </a:lnTo>
                    <a:lnTo>
                      <a:pt x="25" y="146"/>
                    </a:lnTo>
                    <a:lnTo>
                      <a:pt x="25" y="128"/>
                    </a:lnTo>
                    <a:lnTo>
                      <a:pt x="28" y="106"/>
                    </a:lnTo>
                    <a:lnTo>
                      <a:pt x="29" y="85"/>
                    </a:lnTo>
                    <a:lnTo>
                      <a:pt x="32" y="72"/>
                    </a:lnTo>
                    <a:lnTo>
                      <a:pt x="34" y="54"/>
                    </a:lnTo>
                    <a:lnTo>
                      <a:pt x="36" y="36"/>
                    </a:lnTo>
                    <a:lnTo>
                      <a:pt x="39" y="18"/>
                    </a:lnTo>
                    <a:lnTo>
                      <a:pt x="43" y="6"/>
                    </a:lnTo>
                    <a:lnTo>
                      <a:pt x="45" y="0"/>
                    </a:lnTo>
                    <a:lnTo>
                      <a:pt x="21" y="5"/>
                    </a:lnTo>
                    <a:lnTo>
                      <a:pt x="16" y="20"/>
                    </a:lnTo>
                    <a:lnTo>
                      <a:pt x="11" y="48"/>
                    </a:lnTo>
                    <a:lnTo>
                      <a:pt x="6" y="81"/>
                    </a:lnTo>
                    <a:lnTo>
                      <a:pt x="3" y="110"/>
                    </a:lnTo>
                    <a:lnTo>
                      <a:pt x="0" y="142"/>
                    </a:lnTo>
                    <a:lnTo>
                      <a:pt x="0" y="173"/>
                    </a:lnTo>
                    <a:lnTo>
                      <a:pt x="0" y="196"/>
                    </a:lnTo>
                    <a:lnTo>
                      <a:pt x="1" y="2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812000" y="928800"/>
                <a:ext cx="249480" cy="957240"/>
              </a:xfrm>
              <a:custGeom>
                <a:avLst/>
                <a:gdLst/>
                <a:ahLst/>
                <a:rect l="l" t="t" r="r" b="b"/>
                <a:pathLst>
                  <a:path w="157" h="603">
                    <a:moveTo>
                      <a:pt x="9" y="602"/>
                    </a:moveTo>
                    <a:lnTo>
                      <a:pt x="5" y="571"/>
                    </a:lnTo>
                    <a:lnTo>
                      <a:pt x="3" y="554"/>
                    </a:lnTo>
                    <a:lnTo>
                      <a:pt x="1" y="535"/>
                    </a:lnTo>
                    <a:lnTo>
                      <a:pt x="1" y="517"/>
                    </a:lnTo>
                    <a:lnTo>
                      <a:pt x="0" y="500"/>
                    </a:lnTo>
                    <a:lnTo>
                      <a:pt x="0" y="482"/>
                    </a:lnTo>
                    <a:lnTo>
                      <a:pt x="0" y="466"/>
                    </a:lnTo>
                    <a:lnTo>
                      <a:pt x="1" y="447"/>
                    </a:lnTo>
                    <a:lnTo>
                      <a:pt x="2" y="427"/>
                    </a:lnTo>
                    <a:lnTo>
                      <a:pt x="5" y="405"/>
                    </a:lnTo>
                    <a:lnTo>
                      <a:pt x="7" y="387"/>
                    </a:lnTo>
                    <a:lnTo>
                      <a:pt x="9" y="365"/>
                    </a:lnTo>
                    <a:lnTo>
                      <a:pt x="13" y="345"/>
                    </a:lnTo>
                    <a:lnTo>
                      <a:pt x="17" y="325"/>
                    </a:lnTo>
                    <a:lnTo>
                      <a:pt x="21" y="308"/>
                    </a:lnTo>
                    <a:lnTo>
                      <a:pt x="24" y="289"/>
                    </a:lnTo>
                    <a:lnTo>
                      <a:pt x="27" y="273"/>
                    </a:lnTo>
                    <a:lnTo>
                      <a:pt x="33" y="255"/>
                    </a:lnTo>
                    <a:lnTo>
                      <a:pt x="37" y="237"/>
                    </a:lnTo>
                    <a:lnTo>
                      <a:pt x="43" y="217"/>
                    </a:lnTo>
                    <a:lnTo>
                      <a:pt x="48" y="202"/>
                    </a:lnTo>
                    <a:lnTo>
                      <a:pt x="54" y="183"/>
                    </a:lnTo>
                    <a:lnTo>
                      <a:pt x="60" y="168"/>
                    </a:lnTo>
                    <a:lnTo>
                      <a:pt x="66" y="151"/>
                    </a:lnTo>
                    <a:lnTo>
                      <a:pt x="73" y="138"/>
                    </a:lnTo>
                    <a:lnTo>
                      <a:pt x="80" y="128"/>
                    </a:lnTo>
                    <a:lnTo>
                      <a:pt x="86" y="117"/>
                    </a:lnTo>
                    <a:lnTo>
                      <a:pt x="65" y="0"/>
                    </a:lnTo>
                    <a:lnTo>
                      <a:pt x="72" y="14"/>
                    </a:lnTo>
                    <a:lnTo>
                      <a:pt x="79" y="33"/>
                    </a:lnTo>
                    <a:lnTo>
                      <a:pt x="85" y="47"/>
                    </a:lnTo>
                    <a:lnTo>
                      <a:pt x="90" y="59"/>
                    </a:lnTo>
                    <a:lnTo>
                      <a:pt x="95" y="70"/>
                    </a:lnTo>
                    <a:lnTo>
                      <a:pt x="100" y="79"/>
                    </a:lnTo>
                    <a:lnTo>
                      <a:pt x="106" y="87"/>
                    </a:lnTo>
                    <a:lnTo>
                      <a:pt x="111" y="97"/>
                    </a:lnTo>
                    <a:lnTo>
                      <a:pt x="117" y="105"/>
                    </a:lnTo>
                    <a:lnTo>
                      <a:pt x="125" y="116"/>
                    </a:lnTo>
                    <a:lnTo>
                      <a:pt x="133" y="124"/>
                    </a:lnTo>
                    <a:lnTo>
                      <a:pt x="140" y="134"/>
                    </a:lnTo>
                    <a:lnTo>
                      <a:pt x="148" y="143"/>
                    </a:lnTo>
                    <a:lnTo>
                      <a:pt x="156" y="150"/>
                    </a:lnTo>
                    <a:lnTo>
                      <a:pt x="153" y="161"/>
                    </a:lnTo>
                    <a:lnTo>
                      <a:pt x="150" y="170"/>
                    </a:lnTo>
                    <a:lnTo>
                      <a:pt x="149" y="182"/>
                    </a:lnTo>
                    <a:lnTo>
                      <a:pt x="147" y="195"/>
                    </a:lnTo>
                    <a:lnTo>
                      <a:pt x="145" y="206"/>
                    </a:lnTo>
                    <a:lnTo>
                      <a:pt x="143" y="219"/>
                    </a:lnTo>
                    <a:lnTo>
                      <a:pt x="142" y="230"/>
                    </a:lnTo>
                    <a:lnTo>
                      <a:pt x="141" y="244"/>
                    </a:lnTo>
                    <a:lnTo>
                      <a:pt x="140" y="257"/>
                    </a:lnTo>
                    <a:lnTo>
                      <a:pt x="139" y="270"/>
                    </a:lnTo>
                    <a:lnTo>
                      <a:pt x="138" y="283"/>
                    </a:lnTo>
                    <a:lnTo>
                      <a:pt x="137" y="296"/>
                    </a:lnTo>
                    <a:lnTo>
                      <a:pt x="137" y="309"/>
                    </a:lnTo>
                    <a:lnTo>
                      <a:pt x="137" y="320"/>
                    </a:lnTo>
                    <a:lnTo>
                      <a:pt x="136" y="334"/>
                    </a:lnTo>
                    <a:lnTo>
                      <a:pt x="135" y="348"/>
                    </a:lnTo>
                    <a:lnTo>
                      <a:pt x="135" y="365"/>
                    </a:lnTo>
                    <a:lnTo>
                      <a:pt x="110" y="246"/>
                    </a:lnTo>
                    <a:lnTo>
                      <a:pt x="100" y="256"/>
                    </a:lnTo>
                    <a:lnTo>
                      <a:pt x="94" y="268"/>
                    </a:lnTo>
                    <a:lnTo>
                      <a:pt x="80" y="290"/>
                    </a:lnTo>
                    <a:lnTo>
                      <a:pt x="74" y="303"/>
                    </a:lnTo>
                    <a:lnTo>
                      <a:pt x="68" y="315"/>
                    </a:lnTo>
                    <a:lnTo>
                      <a:pt x="59" y="338"/>
                    </a:lnTo>
                    <a:lnTo>
                      <a:pt x="53" y="350"/>
                    </a:lnTo>
                    <a:lnTo>
                      <a:pt x="47" y="365"/>
                    </a:lnTo>
                    <a:lnTo>
                      <a:pt x="42" y="380"/>
                    </a:lnTo>
                    <a:lnTo>
                      <a:pt x="37" y="392"/>
                    </a:lnTo>
                    <a:lnTo>
                      <a:pt x="33" y="403"/>
                    </a:lnTo>
                    <a:lnTo>
                      <a:pt x="29" y="417"/>
                    </a:lnTo>
                    <a:lnTo>
                      <a:pt x="25" y="432"/>
                    </a:lnTo>
                    <a:lnTo>
                      <a:pt x="22" y="447"/>
                    </a:lnTo>
                    <a:lnTo>
                      <a:pt x="19" y="461"/>
                    </a:lnTo>
                    <a:lnTo>
                      <a:pt x="16" y="480"/>
                    </a:lnTo>
                    <a:lnTo>
                      <a:pt x="14" y="497"/>
                    </a:lnTo>
                    <a:lnTo>
                      <a:pt x="13" y="514"/>
                    </a:lnTo>
                    <a:lnTo>
                      <a:pt x="12" y="532"/>
                    </a:lnTo>
                    <a:lnTo>
                      <a:pt x="10" y="550"/>
                    </a:lnTo>
                    <a:lnTo>
                      <a:pt x="10" y="569"/>
                    </a:lnTo>
                    <a:lnTo>
                      <a:pt x="9" y="602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"/>
            <p:cNvGrpSpPr/>
            <p:nvPr/>
          </p:nvGrpSpPr>
          <p:grpSpPr>
            <a:xfrm>
              <a:off x="7601040" y="914400"/>
              <a:ext cx="245880" cy="981000"/>
              <a:chOff x="7601040" y="914400"/>
              <a:chExt cx="245880" cy="981000"/>
            </a:xfrm>
          </p:grpSpPr>
          <p:sp>
            <p:nvSpPr>
              <p:cNvPr id="975" name=""/>
              <p:cNvSpPr/>
              <p:nvPr/>
            </p:nvSpPr>
            <p:spPr>
              <a:xfrm>
                <a:off x="7631280" y="928800"/>
                <a:ext cx="215640" cy="966600"/>
              </a:xfrm>
              <a:custGeom>
                <a:avLst/>
                <a:gdLst/>
                <a:ahLst/>
                <a:rect l="l" t="t" r="r" b="b"/>
                <a:pathLst>
                  <a:path w="136" h="609">
                    <a:moveTo>
                      <a:pt x="115" y="608"/>
                    </a:moveTo>
                    <a:lnTo>
                      <a:pt x="121" y="577"/>
                    </a:lnTo>
                    <a:lnTo>
                      <a:pt x="124" y="561"/>
                    </a:lnTo>
                    <a:lnTo>
                      <a:pt x="127" y="543"/>
                    </a:lnTo>
                    <a:lnTo>
                      <a:pt x="129" y="526"/>
                    </a:lnTo>
                    <a:lnTo>
                      <a:pt x="131" y="510"/>
                    </a:lnTo>
                    <a:lnTo>
                      <a:pt x="132" y="492"/>
                    </a:lnTo>
                    <a:lnTo>
                      <a:pt x="133" y="474"/>
                    </a:lnTo>
                    <a:lnTo>
                      <a:pt x="135" y="456"/>
                    </a:lnTo>
                    <a:lnTo>
                      <a:pt x="135" y="436"/>
                    </a:lnTo>
                    <a:lnTo>
                      <a:pt x="133" y="414"/>
                    </a:lnTo>
                    <a:lnTo>
                      <a:pt x="132" y="396"/>
                    </a:lnTo>
                    <a:lnTo>
                      <a:pt x="131" y="374"/>
                    </a:lnTo>
                    <a:lnTo>
                      <a:pt x="129" y="354"/>
                    </a:lnTo>
                    <a:lnTo>
                      <a:pt x="126" y="333"/>
                    </a:lnTo>
                    <a:lnTo>
                      <a:pt x="124" y="315"/>
                    </a:lnTo>
                    <a:lnTo>
                      <a:pt x="121" y="295"/>
                    </a:lnTo>
                    <a:lnTo>
                      <a:pt x="119" y="278"/>
                    </a:lnTo>
                    <a:lnTo>
                      <a:pt x="116" y="259"/>
                    </a:lnTo>
                    <a:lnTo>
                      <a:pt x="111" y="240"/>
                    </a:lnTo>
                    <a:lnTo>
                      <a:pt x="108" y="219"/>
                    </a:lnTo>
                    <a:lnTo>
                      <a:pt x="103" y="203"/>
                    </a:lnTo>
                    <a:lnTo>
                      <a:pt x="98" y="183"/>
                    </a:lnTo>
                    <a:lnTo>
                      <a:pt x="93" y="166"/>
                    </a:lnTo>
                    <a:lnTo>
                      <a:pt x="88" y="148"/>
                    </a:lnTo>
                    <a:lnTo>
                      <a:pt x="82" y="134"/>
                    </a:lnTo>
                    <a:lnTo>
                      <a:pt x="76" y="123"/>
                    </a:lnTo>
                    <a:lnTo>
                      <a:pt x="71" y="111"/>
                    </a:lnTo>
                    <a:lnTo>
                      <a:pt x="99" y="0"/>
                    </a:lnTo>
                    <a:lnTo>
                      <a:pt x="91" y="14"/>
                    </a:lnTo>
                    <a:lnTo>
                      <a:pt x="84" y="26"/>
                    </a:lnTo>
                    <a:lnTo>
                      <a:pt x="77" y="42"/>
                    </a:lnTo>
                    <a:lnTo>
                      <a:pt x="70" y="52"/>
                    </a:lnTo>
                    <a:lnTo>
                      <a:pt x="64" y="60"/>
                    </a:lnTo>
                    <a:lnTo>
                      <a:pt x="58" y="69"/>
                    </a:lnTo>
                    <a:lnTo>
                      <a:pt x="52" y="76"/>
                    </a:lnTo>
                    <a:lnTo>
                      <a:pt x="46" y="84"/>
                    </a:lnTo>
                    <a:lnTo>
                      <a:pt x="39" y="91"/>
                    </a:lnTo>
                    <a:lnTo>
                      <a:pt x="31" y="99"/>
                    </a:lnTo>
                    <a:lnTo>
                      <a:pt x="23" y="109"/>
                    </a:lnTo>
                    <a:lnTo>
                      <a:pt x="15" y="116"/>
                    </a:lnTo>
                    <a:lnTo>
                      <a:pt x="7" y="123"/>
                    </a:lnTo>
                    <a:lnTo>
                      <a:pt x="0" y="129"/>
                    </a:lnTo>
                    <a:lnTo>
                      <a:pt x="0" y="139"/>
                    </a:lnTo>
                    <a:lnTo>
                      <a:pt x="1" y="150"/>
                    </a:lnTo>
                    <a:lnTo>
                      <a:pt x="2" y="161"/>
                    </a:lnTo>
                    <a:lnTo>
                      <a:pt x="4" y="173"/>
                    </a:lnTo>
                    <a:lnTo>
                      <a:pt x="5" y="186"/>
                    </a:lnTo>
                    <a:lnTo>
                      <a:pt x="6" y="199"/>
                    </a:lnTo>
                    <a:lnTo>
                      <a:pt x="6" y="210"/>
                    </a:lnTo>
                    <a:lnTo>
                      <a:pt x="7" y="224"/>
                    </a:lnTo>
                    <a:lnTo>
                      <a:pt x="6" y="237"/>
                    </a:lnTo>
                    <a:lnTo>
                      <a:pt x="7" y="251"/>
                    </a:lnTo>
                    <a:lnTo>
                      <a:pt x="7" y="264"/>
                    </a:lnTo>
                    <a:lnTo>
                      <a:pt x="7" y="275"/>
                    </a:lnTo>
                    <a:lnTo>
                      <a:pt x="6" y="290"/>
                    </a:lnTo>
                    <a:lnTo>
                      <a:pt x="6" y="302"/>
                    </a:lnTo>
                    <a:lnTo>
                      <a:pt x="5" y="315"/>
                    </a:lnTo>
                    <a:lnTo>
                      <a:pt x="5" y="327"/>
                    </a:lnTo>
                    <a:lnTo>
                      <a:pt x="3" y="346"/>
                    </a:lnTo>
                    <a:lnTo>
                      <a:pt x="38" y="232"/>
                    </a:lnTo>
                    <a:lnTo>
                      <a:pt x="46" y="245"/>
                    </a:lnTo>
                    <a:lnTo>
                      <a:pt x="53" y="258"/>
                    </a:lnTo>
                    <a:lnTo>
                      <a:pt x="64" y="284"/>
                    </a:lnTo>
                    <a:lnTo>
                      <a:pt x="69" y="297"/>
                    </a:lnTo>
                    <a:lnTo>
                      <a:pt x="75" y="310"/>
                    </a:lnTo>
                    <a:lnTo>
                      <a:pt x="83" y="335"/>
                    </a:lnTo>
                    <a:lnTo>
                      <a:pt x="88" y="349"/>
                    </a:lnTo>
                    <a:lnTo>
                      <a:pt x="92" y="365"/>
                    </a:lnTo>
                    <a:lnTo>
                      <a:pt x="95" y="380"/>
                    </a:lnTo>
                    <a:lnTo>
                      <a:pt x="98" y="392"/>
                    </a:lnTo>
                    <a:lnTo>
                      <a:pt x="101" y="404"/>
                    </a:lnTo>
                    <a:lnTo>
                      <a:pt x="103" y="419"/>
                    </a:lnTo>
                    <a:lnTo>
                      <a:pt x="107" y="436"/>
                    </a:lnTo>
                    <a:lnTo>
                      <a:pt x="109" y="449"/>
                    </a:lnTo>
                    <a:lnTo>
                      <a:pt x="110" y="461"/>
                    </a:lnTo>
                    <a:lnTo>
                      <a:pt x="111" y="481"/>
                    </a:lnTo>
                    <a:lnTo>
                      <a:pt x="111" y="496"/>
                    </a:lnTo>
                    <a:lnTo>
                      <a:pt x="110" y="516"/>
                    </a:lnTo>
                    <a:lnTo>
                      <a:pt x="110" y="533"/>
                    </a:lnTo>
                    <a:lnTo>
                      <a:pt x="109" y="552"/>
                    </a:lnTo>
                    <a:lnTo>
                      <a:pt x="102" y="601"/>
                    </a:lnTo>
                    <a:lnTo>
                      <a:pt x="115" y="60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08960" y="1282680"/>
                <a:ext cx="79200" cy="196920"/>
              </a:xfrm>
              <a:custGeom>
                <a:avLst/>
                <a:gdLst/>
                <a:ahLst/>
                <a:rect l="l" t="t" r="r" b="b"/>
                <a:pathLst>
                  <a:path w="50" h="124">
                    <a:moveTo>
                      <a:pt x="17" y="123"/>
                    </a:moveTo>
                    <a:lnTo>
                      <a:pt x="0" y="114"/>
                    </a:lnTo>
                    <a:lnTo>
                      <a:pt x="33" y="0"/>
                    </a:lnTo>
                    <a:lnTo>
                      <a:pt x="42" y="6"/>
                    </a:lnTo>
                    <a:lnTo>
                      <a:pt x="49" y="18"/>
                    </a:lnTo>
                    <a:lnTo>
                      <a:pt x="17" y="1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711920" y="914400"/>
                <a:ext cx="78120" cy="190440"/>
              </a:xfrm>
              <a:custGeom>
                <a:avLst/>
                <a:gdLst/>
                <a:ahLst/>
                <a:rect l="l" t="t" r="r" b="b"/>
                <a:pathLst>
                  <a:path w="49" h="120">
                    <a:moveTo>
                      <a:pt x="48" y="7"/>
                    </a:moveTo>
                    <a:lnTo>
                      <a:pt x="31" y="0"/>
                    </a:lnTo>
                    <a:lnTo>
                      <a:pt x="0" y="108"/>
                    </a:lnTo>
                    <a:lnTo>
                      <a:pt x="19" y="119"/>
                    </a:lnTo>
                    <a:lnTo>
                      <a:pt x="48" y="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601040" y="914400"/>
                <a:ext cx="223920" cy="971640"/>
              </a:xfrm>
              <a:custGeom>
                <a:avLst/>
                <a:gdLst/>
                <a:ahLst/>
                <a:rect l="l" t="t" r="r" b="b"/>
                <a:pathLst>
                  <a:path w="141" h="612">
                    <a:moveTo>
                      <a:pt x="120" y="611"/>
                    </a:moveTo>
                    <a:lnTo>
                      <a:pt x="126" y="580"/>
                    </a:lnTo>
                    <a:lnTo>
                      <a:pt x="129" y="566"/>
                    </a:lnTo>
                    <a:lnTo>
                      <a:pt x="133" y="546"/>
                    </a:lnTo>
                    <a:lnTo>
                      <a:pt x="134" y="529"/>
                    </a:lnTo>
                    <a:lnTo>
                      <a:pt x="137" y="512"/>
                    </a:lnTo>
                    <a:lnTo>
                      <a:pt x="138" y="494"/>
                    </a:lnTo>
                    <a:lnTo>
                      <a:pt x="139" y="478"/>
                    </a:lnTo>
                    <a:lnTo>
                      <a:pt x="140" y="460"/>
                    </a:lnTo>
                    <a:lnTo>
                      <a:pt x="140" y="438"/>
                    </a:lnTo>
                    <a:lnTo>
                      <a:pt x="138" y="417"/>
                    </a:lnTo>
                    <a:lnTo>
                      <a:pt x="138" y="398"/>
                    </a:lnTo>
                    <a:lnTo>
                      <a:pt x="136" y="376"/>
                    </a:lnTo>
                    <a:lnTo>
                      <a:pt x="133" y="356"/>
                    </a:lnTo>
                    <a:lnTo>
                      <a:pt x="131" y="335"/>
                    </a:lnTo>
                    <a:lnTo>
                      <a:pt x="129" y="317"/>
                    </a:lnTo>
                    <a:lnTo>
                      <a:pt x="126" y="296"/>
                    </a:lnTo>
                    <a:lnTo>
                      <a:pt x="123" y="281"/>
                    </a:lnTo>
                    <a:lnTo>
                      <a:pt x="120" y="261"/>
                    </a:lnTo>
                    <a:lnTo>
                      <a:pt x="116" y="242"/>
                    </a:lnTo>
                    <a:lnTo>
                      <a:pt x="110" y="222"/>
                    </a:lnTo>
                    <a:lnTo>
                      <a:pt x="107" y="204"/>
                    </a:lnTo>
                    <a:lnTo>
                      <a:pt x="101" y="185"/>
                    </a:lnTo>
                    <a:lnTo>
                      <a:pt x="96" y="166"/>
                    </a:lnTo>
                    <a:lnTo>
                      <a:pt x="91" y="148"/>
                    </a:lnTo>
                    <a:lnTo>
                      <a:pt x="84" y="135"/>
                    </a:lnTo>
                    <a:lnTo>
                      <a:pt x="79" y="123"/>
                    </a:lnTo>
                    <a:lnTo>
                      <a:pt x="73" y="112"/>
                    </a:lnTo>
                    <a:lnTo>
                      <a:pt x="101" y="0"/>
                    </a:lnTo>
                    <a:lnTo>
                      <a:pt x="93" y="14"/>
                    </a:lnTo>
                    <a:lnTo>
                      <a:pt x="87" y="27"/>
                    </a:lnTo>
                    <a:lnTo>
                      <a:pt x="79" y="42"/>
                    </a:lnTo>
                    <a:lnTo>
                      <a:pt x="72" y="51"/>
                    </a:lnTo>
                    <a:lnTo>
                      <a:pt x="66" y="60"/>
                    </a:lnTo>
                    <a:lnTo>
                      <a:pt x="60" y="69"/>
                    </a:lnTo>
                    <a:lnTo>
                      <a:pt x="54" y="77"/>
                    </a:lnTo>
                    <a:lnTo>
                      <a:pt x="48" y="84"/>
                    </a:lnTo>
                    <a:lnTo>
                      <a:pt x="41" y="92"/>
                    </a:lnTo>
                    <a:lnTo>
                      <a:pt x="32" y="101"/>
                    </a:lnTo>
                    <a:lnTo>
                      <a:pt x="24" y="108"/>
                    </a:lnTo>
                    <a:lnTo>
                      <a:pt x="16" y="116"/>
                    </a:lnTo>
                    <a:lnTo>
                      <a:pt x="8" y="123"/>
                    </a:lnTo>
                    <a:lnTo>
                      <a:pt x="0" y="128"/>
                    </a:lnTo>
                    <a:lnTo>
                      <a:pt x="0" y="138"/>
                    </a:lnTo>
                    <a:lnTo>
                      <a:pt x="2" y="148"/>
                    </a:lnTo>
                    <a:lnTo>
                      <a:pt x="3" y="160"/>
                    </a:lnTo>
                    <a:lnTo>
                      <a:pt x="5" y="173"/>
                    </a:lnTo>
                    <a:lnTo>
                      <a:pt x="5" y="188"/>
                    </a:lnTo>
                    <a:lnTo>
                      <a:pt x="7" y="198"/>
                    </a:lnTo>
                    <a:lnTo>
                      <a:pt x="7" y="210"/>
                    </a:lnTo>
                    <a:lnTo>
                      <a:pt x="8" y="224"/>
                    </a:lnTo>
                    <a:lnTo>
                      <a:pt x="8" y="237"/>
                    </a:lnTo>
                    <a:lnTo>
                      <a:pt x="8" y="251"/>
                    </a:lnTo>
                    <a:lnTo>
                      <a:pt x="8" y="264"/>
                    </a:lnTo>
                    <a:lnTo>
                      <a:pt x="8" y="276"/>
                    </a:lnTo>
                    <a:lnTo>
                      <a:pt x="8" y="290"/>
                    </a:lnTo>
                    <a:lnTo>
                      <a:pt x="8" y="301"/>
                    </a:lnTo>
                    <a:lnTo>
                      <a:pt x="7" y="314"/>
                    </a:lnTo>
                    <a:lnTo>
                      <a:pt x="6" y="329"/>
                    </a:lnTo>
                    <a:lnTo>
                      <a:pt x="5" y="346"/>
                    </a:lnTo>
                    <a:lnTo>
                      <a:pt x="39" y="232"/>
                    </a:lnTo>
                    <a:lnTo>
                      <a:pt x="49" y="245"/>
                    </a:lnTo>
                    <a:lnTo>
                      <a:pt x="54" y="259"/>
                    </a:lnTo>
                    <a:lnTo>
                      <a:pt x="67" y="284"/>
                    </a:lnTo>
                    <a:lnTo>
                      <a:pt x="73" y="298"/>
                    </a:lnTo>
                    <a:lnTo>
                      <a:pt x="77" y="311"/>
                    </a:lnTo>
                    <a:lnTo>
                      <a:pt x="86" y="336"/>
                    </a:lnTo>
                    <a:lnTo>
                      <a:pt x="91" y="350"/>
                    </a:lnTo>
                    <a:lnTo>
                      <a:pt x="98" y="366"/>
                    </a:lnTo>
                    <a:lnTo>
                      <a:pt x="101" y="382"/>
                    </a:lnTo>
                    <a:lnTo>
                      <a:pt x="105" y="395"/>
                    </a:lnTo>
                    <a:lnTo>
                      <a:pt x="109" y="408"/>
                    </a:lnTo>
                    <a:lnTo>
                      <a:pt x="112" y="423"/>
                    </a:lnTo>
                    <a:lnTo>
                      <a:pt x="116" y="438"/>
                    </a:lnTo>
                    <a:lnTo>
                      <a:pt x="117" y="454"/>
                    </a:lnTo>
                    <a:lnTo>
                      <a:pt x="120" y="469"/>
                    </a:lnTo>
                    <a:lnTo>
                      <a:pt x="122" y="488"/>
                    </a:lnTo>
                    <a:lnTo>
                      <a:pt x="123" y="504"/>
                    </a:lnTo>
                    <a:lnTo>
                      <a:pt x="123" y="522"/>
                    </a:lnTo>
                    <a:lnTo>
                      <a:pt x="123" y="539"/>
                    </a:lnTo>
                    <a:lnTo>
                      <a:pt x="123" y="559"/>
                    </a:lnTo>
                    <a:lnTo>
                      <a:pt x="122" y="578"/>
                    </a:lnTo>
                    <a:lnTo>
                      <a:pt x="120" y="61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7812000" y="1139760"/>
              <a:ext cx="343080" cy="911160"/>
              <a:chOff x="7812000" y="1139760"/>
              <a:chExt cx="343080" cy="911160"/>
            </a:xfrm>
          </p:grpSpPr>
          <p:sp>
            <p:nvSpPr>
              <p:cNvPr id="980" name=""/>
              <p:cNvSpPr/>
              <p:nvPr/>
            </p:nvSpPr>
            <p:spPr>
              <a:xfrm>
                <a:off x="7812000" y="1533600"/>
                <a:ext cx="227160" cy="517320"/>
              </a:xfrm>
              <a:custGeom>
                <a:avLst/>
                <a:gdLst/>
                <a:ahLst/>
                <a:rect l="l" t="t" r="r" b="b"/>
                <a:pathLst>
                  <a:path w="143" h="326">
                    <a:moveTo>
                      <a:pt x="0" y="323"/>
                    </a:moveTo>
                    <a:lnTo>
                      <a:pt x="9" y="325"/>
                    </a:lnTo>
                    <a:lnTo>
                      <a:pt x="12" y="300"/>
                    </a:lnTo>
                    <a:lnTo>
                      <a:pt x="16" y="277"/>
                    </a:lnTo>
                    <a:lnTo>
                      <a:pt x="20" y="259"/>
                    </a:lnTo>
                    <a:lnTo>
                      <a:pt x="25" y="239"/>
                    </a:lnTo>
                    <a:lnTo>
                      <a:pt x="29" y="221"/>
                    </a:lnTo>
                    <a:lnTo>
                      <a:pt x="34" y="206"/>
                    </a:lnTo>
                    <a:lnTo>
                      <a:pt x="37" y="193"/>
                    </a:lnTo>
                    <a:lnTo>
                      <a:pt x="43" y="178"/>
                    </a:lnTo>
                    <a:lnTo>
                      <a:pt x="48" y="165"/>
                    </a:lnTo>
                    <a:lnTo>
                      <a:pt x="56" y="148"/>
                    </a:lnTo>
                    <a:lnTo>
                      <a:pt x="61" y="136"/>
                    </a:lnTo>
                    <a:lnTo>
                      <a:pt x="68" y="124"/>
                    </a:lnTo>
                    <a:lnTo>
                      <a:pt x="75" y="113"/>
                    </a:lnTo>
                    <a:lnTo>
                      <a:pt x="83" y="99"/>
                    </a:lnTo>
                    <a:lnTo>
                      <a:pt x="93" y="84"/>
                    </a:lnTo>
                    <a:lnTo>
                      <a:pt x="101" y="75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22" y="50"/>
                    </a:lnTo>
                    <a:lnTo>
                      <a:pt x="133" y="39"/>
                    </a:lnTo>
                    <a:lnTo>
                      <a:pt x="142" y="33"/>
                    </a:lnTo>
                    <a:lnTo>
                      <a:pt x="139" y="0"/>
                    </a:lnTo>
                    <a:lnTo>
                      <a:pt x="125" y="9"/>
                    </a:lnTo>
                    <a:lnTo>
                      <a:pt x="108" y="25"/>
                    </a:lnTo>
                    <a:lnTo>
                      <a:pt x="94" y="41"/>
                    </a:lnTo>
                    <a:lnTo>
                      <a:pt x="80" y="65"/>
                    </a:lnTo>
                    <a:lnTo>
                      <a:pt x="59" y="94"/>
                    </a:lnTo>
                    <a:lnTo>
                      <a:pt x="42" y="128"/>
                    </a:lnTo>
                    <a:lnTo>
                      <a:pt x="26" y="163"/>
                    </a:lnTo>
                    <a:lnTo>
                      <a:pt x="17" y="195"/>
                    </a:lnTo>
                    <a:lnTo>
                      <a:pt x="8" y="236"/>
                    </a:lnTo>
                    <a:lnTo>
                      <a:pt x="3" y="26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8004240" y="1139760"/>
                <a:ext cx="150840" cy="287280"/>
              </a:xfrm>
              <a:custGeom>
                <a:avLst/>
                <a:gdLst/>
                <a:ahLst/>
                <a:rect l="l" t="t" r="r" b="b"/>
                <a:pathLst>
                  <a:path w="95" h="181">
                    <a:moveTo>
                      <a:pt x="71" y="178"/>
                    </a:moveTo>
                    <a:lnTo>
                      <a:pt x="94" y="180"/>
                    </a:lnTo>
                    <a:lnTo>
                      <a:pt x="88" y="172"/>
                    </a:lnTo>
                    <a:lnTo>
                      <a:pt x="83" y="165"/>
                    </a:lnTo>
                    <a:lnTo>
                      <a:pt x="77" y="154"/>
                    </a:lnTo>
                    <a:lnTo>
                      <a:pt x="69" y="140"/>
                    </a:lnTo>
                    <a:lnTo>
                      <a:pt x="62" y="128"/>
                    </a:lnTo>
                    <a:lnTo>
                      <a:pt x="55" y="114"/>
                    </a:lnTo>
                    <a:lnTo>
                      <a:pt x="50" y="102"/>
                    </a:lnTo>
                    <a:lnTo>
                      <a:pt x="45" y="91"/>
                    </a:lnTo>
                    <a:lnTo>
                      <a:pt x="39" y="80"/>
                    </a:lnTo>
                    <a:lnTo>
                      <a:pt x="35" y="67"/>
                    </a:lnTo>
                    <a:lnTo>
                      <a:pt x="30" y="53"/>
                    </a:lnTo>
                    <a:lnTo>
                      <a:pt x="26" y="40"/>
                    </a:lnTo>
                    <a:lnTo>
                      <a:pt x="23" y="26"/>
                    </a:lnTo>
                    <a:lnTo>
                      <a:pt x="19" y="12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2" y="20"/>
                    </a:lnTo>
                    <a:lnTo>
                      <a:pt x="9" y="48"/>
                    </a:lnTo>
                    <a:lnTo>
                      <a:pt x="19" y="84"/>
                    </a:lnTo>
                    <a:lnTo>
                      <a:pt x="28" y="111"/>
                    </a:lnTo>
                    <a:lnTo>
                      <a:pt x="43" y="135"/>
                    </a:lnTo>
                    <a:lnTo>
                      <a:pt x="54" y="159"/>
                    </a:lnTo>
                    <a:lnTo>
                      <a:pt x="66" y="178"/>
                    </a:lnTo>
                    <a:lnTo>
                      <a:pt x="94" y="180"/>
                    </a:lnTo>
                    <a:lnTo>
                      <a:pt x="93" y="180"/>
                    </a:lnTo>
                    <a:lnTo>
                      <a:pt x="71" y="17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8050320" y="1427040"/>
                <a:ext cx="104760" cy="328680"/>
              </a:xfrm>
              <a:custGeom>
                <a:avLst/>
                <a:gdLst/>
                <a:ahLst/>
                <a:rect l="l" t="t" r="r" b="b"/>
                <a:pathLst>
                  <a:path w="66" h="207">
                    <a:moveTo>
                      <a:pt x="0" y="204"/>
                    </a:moveTo>
                    <a:lnTo>
                      <a:pt x="18" y="206"/>
                    </a:lnTo>
                    <a:lnTo>
                      <a:pt x="20" y="191"/>
                    </a:lnTo>
                    <a:lnTo>
                      <a:pt x="21" y="178"/>
                    </a:lnTo>
                    <a:lnTo>
                      <a:pt x="24" y="165"/>
                    </a:lnTo>
                    <a:lnTo>
                      <a:pt x="26" y="152"/>
                    </a:lnTo>
                    <a:lnTo>
                      <a:pt x="29" y="137"/>
                    </a:lnTo>
                    <a:lnTo>
                      <a:pt x="32" y="120"/>
                    </a:lnTo>
                    <a:lnTo>
                      <a:pt x="36" y="99"/>
                    </a:lnTo>
                    <a:lnTo>
                      <a:pt x="41" y="79"/>
                    </a:lnTo>
                    <a:lnTo>
                      <a:pt x="43" y="65"/>
                    </a:lnTo>
                    <a:lnTo>
                      <a:pt x="48" y="51"/>
                    </a:lnTo>
                    <a:lnTo>
                      <a:pt x="53" y="34"/>
                    </a:lnTo>
                    <a:lnTo>
                      <a:pt x="58" y="18"/>
                    </a:lnTo>
                    <a:lnTo>
                      <a:pt x="62" y="6"/>
                    </a:lnTo>
                    <a:lnTo>
                      <a:pt x="65" y="0"/>
                    </a:lnTo>
                    <a:lnTo>
                      <a:pt x="41" y="0"/>
                    </a:lnTo>
                    <a:lnTo>
                      <a:pt x="35" y="12"/>
                    </a:lnTo>
                    <a:lnTo>
                      <a:pt x="26" y="37"/>
                    </a:lnTo>
                    <a:lnTo>
                      <a:pt x="17" y="68"/>
                    </a:lnTo>
                    <a:lnTo>
                      <a:pt x="12" y="95"/>
                    </a:lnTo>
                    <a:lnTo>
                      <a:pt x="7" y="125"/>
                    </a:lnTo>
                    <a:lnTo>
                      <a:pt x="2" y="156"/>
                    </a:lnTo>
                    <a:lnTo>
                      <a:pt x="0" y="178"/>
                    </a:lnTo>
                    <a:lnTo>
                      <a:pt x="0" y="20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7812000" y="1143000"/>
                <a:ext cx="306360" cy="907920"/>
              </a:xfrm>
              <a:custGeom>
                <a:avLst/>
                <a:gdLst/>
                <a:ahLst/>
                <a:rect l="l" t="t" r="r" b="b"/>
                <a:pathLst>
                  <a:path w="193" h="572">
                    <a:moveTo>
                      <a:pt x="1" y="571"/>
                    </a:moveTo>
                    <a:lnTo>
                      <a:pt x="0" y="538"/>
                    </a:lnTo>
                    <a:lnTo>
                      <a:pt x="0" y="523"/>
                    </a:lnTo>
                    <a:lnTo>
                      <a:pt x="0" y="504"/>
                    </a:lnTo>
                    <a:lnTo>
                      <a:pt x="1" y="485"/>
                    </a:lnTo>
                    <a:lnTo>
                      <a:pt x="2" y="469"/>
                    </a:lnTo>
                    <a:lnTo>
                      <a:pt x="4" y="451"/>
                    </a:lnTo>
                    <a:lnTo>
                      <a:pt x="7" y="436"/>
                    </a:lnTo>
                    <a:lnTo>
                      <a:pt x="9" y="418"/>
                    </a:lnTo>
                    <a:lnTo>
                      <a:pt x="12" y="397"/>
                    </a:lnTo>
                    <a:lnTo>
                      <a:pt x="17" y="378"/>
                    </a:lnTo>
                    <a:lnTo>
                      <a:pt x="20" y="360"/>
                    </a:lnTo>
                    <a:lnTo>
                      <a:pt x="25" y="342"/>
                    </a:lnTo>
                    <a:lnTo>
                      <a:pt x="31" y="323"/>
                    </a:lnTo>
                    <a:lnTo>
                      <a:pt x="37" y="303"/>
                    </a:lnTo>
                    <a:lnTo>
                      <a:pt x="43" y="289"/>
                    </a:lnTo>
                    <a:lnTo>
                      <a:pt x="48" y="271"/>
                    </a:lnTo>
                    <a:lnTo>
                      <a:pt x="54" y="256"/>
                    </a:lnTo>
                    <a:lnTo>
                      <a:pt x="60" y="239"/>
                    </a:lnTo>
                    <a:lnTo>
                      <a:pt x="67" y="223"/>
                    </a:lnTo>
                    <a:lnTo>
                      <a:pt x="74" y="207"/>
                    </a:lnTo>
                    <a:lnTo>
                      <a:pt x="81" y="191"/>
                    </a:lnTo>
                    <a:lnTo>
                      <a:pt x="89" y="177"/>
                    </a:lnTo>
                    <a:lnTo>
                      <a:pt x="97" y="162"/>
                    </a:lnTo>
                    <a:lnTo>
                      <a:pt x="105" y="150"/>
                    </a:lnTo>
                    <a:lnTo>
                      <a:pt x="113" y="138"/>
                    </a:lnTo>
                    <a:lnTo>
                      <a:pt x="120" y="130"/>
                    </a:lnTo>
                    <a:lnTo>
                      <a:pt x="127" y="123"/>
                    </a:lnTo>
                    <a:lnTo>
                      <a:pt x="120" y="0"/>
                    </a:lnTo>
                    <a:lnTo>
                      <a:pt x="124" y="18"/>
                    </a:lnTo>
                    <a:lnTo>
                      <a:pt x="129" y="38"/>
                    </a:lnTo>
                    <a:lnTo>
                      <a:pt x="134" y="54"/>
                    </a:lnTo>
                    <a:lnTo>
                      <a:pt x="138" y="65"/>
                    </a:lnTo>
                    <a:lnTo>
                      <a:pt x="141" y="79"/>
                    </a:lnTo>
                    <a:lnTo>
                      <a:pt x="145" y="90"/>
                    </a:lnTo>
                    <a:lnTo>
                      <a:pt x="150" y="101"/>
                    </a:lnTo>
                    <a:lnTo>
                      <a:pt x="155" y="110"/>
                    </a:lnTo>
                    <a:lnTo>
                      <a:pt x="159" y="121"/>
                    </a:lnTo>
                    <a:lnTo>
                      <a:pt x="166" y="133"/>
                    </a:lnTo>
                    <a:lnTo>
                      <a:pt x="173" y="145"/>
                    </a:lnTo>
                    <a:lnTo>
                      <a:pt x="178" y="157"/>
                    </a:lnTo>
                    <a:lnTo>
                      <a:pt x="185" y="169"/>
                    </a:lnTo>
                    <a:lnTo>
                      <a:pt x="192" y="177"/>
                    </a:lnTo>
                    <a:lnTo>
                      <a:pt x="189" y="187"/>
                    </a:lnTo>
                    <a:lnTo>
                      <a:pt x="185" y="197"/>
                    </a:lnTo>
                    <a:lnTo>
                      <a:pt x="181" y="207"/>
                    </a:lnTo>
                    <a:lnTo>
                      <a:pt x="179" y="218"/>
                    </a:lnTo>
                    <a:lnTo>
                      <a:pt x="175" y="230"/>
                    </a:lnTo>
                    <a:lnTo>
                      <a:pt x="172" y="240"/>
                    </a:lnTo>
                    <a:lnTo>
                      <a:pt x="170" y="252"/>
                    </a:lnTo>
                    <a:lnTo>
                      <a:pt x="168" y="264"/>
                    </a:lnTo>
                    <a:lnTo>
                      <a:pt x="165" y="277"/>
                    </a:lnTo>
                    <a:lnTo>
                      <a:pt x="163" y="290"/>
                    </a:lnTo>
                    <a:lnTo>
                      <a:pt x="160" y="303"/>
                    </a:lnTo>
                    <a:lnTo>
                      <a:pt x="158" y="315"/>
                    </a:lnTo>
                    <a:lnTo>
                      <a:pt x="157" y="328"/>
                    </a:lnTo>
                    <a:lnTo>
                      <a:pt x="154" y="339"/>
                    </a:lnTo>
                    <a:lnTo>
                      <a:pt x="153" y="350"/>
                    </a:lnTo>
                    <a:lnTo>
                      <a:pt x="150" y="364"/>
                    </a:lnTo>
                    <a:lnTo>
                      <a:pt x="149" y="383"/>
                    </a:lnTo>
                    <a:lnTo>
                      <a:pt x="137" y="254"/>
                    </a:lnTo>
                    <a:lnTo>
                      <a:pt x="127" y="264"/>
                    </a:lnTo>
                    <a:lnTo>
                      <a:pt x="118" y="272"/>
                    </a:lnTo>
                    <a:lnTo>
                      <a:pt x="103" y="290"/>
                    </a:lnTo>
                    <a:lnTo>
                      <a:pt x="96" y="299"/>
                    </a:lnTo>
                    <a:lnTo>
                      <a:pt x="89" y="310"/>
                    </a:lnTo>
                    <a:lnTo>
                      <a:pt x="77" y="328"/>
                    </a:lnTo>
                    <a:lnTo>
                      <a:pt x="70" y="339"/>
                    </a:lnTo>
                    <a:lnTo>
                      <a:pt x="62" y="353"/>
                    </a:lnTo>
                    <a:lnTo>
                      <a:pt x="56" y="364"/>
                    </a:lnTo>
                    <a:lnTo>
                      <a:pt x="50" y="375"/>
                    </a:lnTo>
                    <a:lnTo>
                      <a:pt x="45" y="385"/>
                    </a:lnTo>
                    <a:lnTo>
                      <a:pt x="39" y="397"/>
                    </a:lnTo>
                    <a:lnTo>
                      <a:pt x="33" y="411"/>
                    </a:lnTo>
                    <a:lnTo>
                      <a:pt x="29" y="424"/>
                    </a:lnTo>
                    <a:lnTo>
                      <a:pt x="24" y="438"/>
                    </a:lnTo>
                    <a:lnTo>
                      <a:pt x="20" y="454"/>
                    </a:lnTo>
                    <a:lnTo>
                      <a:pt x="17" y="469"/>
                    </a:lnTo>
                    <a:lnTo>
                      <a:pt x="13" y="486"/>
                    </a:lnTo>
                    <a:lnTo>
                      <a:pt x="10" y="504"/>
                    </a:lnTo>
                    <a:lnTo>
                      <a:pt x="7" y="522"/>
                    </a:lnTo>
                    <a:lnTo>
                      <a:pt x="5" y="541"/>
                    </a:lnTo>
                    <a:lnTo>
                      <a:pt x="1" y="57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7488360" y="1138320"/>
              <a:ext cx="328320" cy="920520"/>
              <a:chOff x="7488360" y="1138320"/>
              <a:chExt cx="328320" cy="920520"/>
            </a:xfrm>
          </p:grpSpPr>
          <p:sp>
            <p:nvSpPr>
              <p:cNvPr id="985" name=""/>
              <p:cNvSpPr/>
              <p:nvPr/>
            </p:nvSpPr>
            <p:spPr>
              <a:xfrm>
                <a:off x="7551720" y="1544760"/>
                <a:ext cx="52560" cy="198360"/>
              </a:xfrm>
              <a:custGeom>
                <a:avLst/>
                <a:gdLst/>
                <a:ahLst/>
                <a:rect l="l" t="t" r="r" b="b"/>
                <a:pathLst>
                  <a:path w="33" h="125">
                    <a:moveTo>
                      <a:pt x="18" y="124"/>
                    </a:moveTo>
                    <a:lnTo>
                      <a:pt x="0" y="124"/>
                    </a:lnTo>
                    <a:lnTo>
                      <a:pt x="14" y="0"/>
                    </a:lnTo>
                    <a:lnTo>
                      <a:pt x="23" y="2"/>
                    </a:lnTo>
                    <a:lnTo>
                      <a:pt x="32" y="9"/>
                    </a:lnTo>
                    <a:lnTo>
                      <a:pt x="18" y="12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589880" y="1139760"/>
                <a:ext cx="49320" cy="193680"/>
              </a:xfrm>
              <a:custGeom>
                <a:avLst/>
                <a:gdLst/>
                <a:ahLst/>
                <a:rect l="l" t="t" r="r" b="b"/>
                <a:pathLst>
                  <a:path w="31" h="122">
                    <a:moveTo>
                      <a:pt x="30" y="0"/>
                    </a:moveTo>
                    <a:lnTo>
                      <a:pt x="13" y="0"/>
                    </a:lnTo>
                    <a:lnTo>
                      <a:pt x="0" y="121"/>
                    </a:lnTo>
                    <a:lnTo>
                      <a:pt x="21" y="12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87" name=""/>
              <p:cNvGrpSpPr/>
              <p:nvPr/>
            </p:nvGrpSpPr>
            <p:grpSpPr>
              <a:xfrm>
                <a:off x="7488360" y="1138320"/>
                <a:ext cx="328320" cy="920520"/>
                <a:chOff x="7488360" y="1138320"/>
                <a:chExt cx="328320" cy="92052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7520040" y="1138320"/>
                  <a:ext cx="296640" cy="920520"/>
                </a:xfrm>
                <a:custGeom>
                  <a:avLst/>
                  <a:gdLst/>
                  <a:ahLst/>
                  <a:rect l="l" t="t" r="r" b="b"/>
                  <a:pathLst>
                    <a:path w="187" h="580">
                      <a:moveTo>
                        <a:pt x="185" y="577"/>
                      </a:moveTo>
                      <a:lnTo>
                        <a:pt x="186" y="545"/>
                      </a:lnTo>
                      <a:lnTo>
                        <a:pt x="186" y="530"/>
                      </a:lnTo>
                      <a:lnTo>
                        <a:pt x="186" y="510"/>
                      </a:lnTo>
                      <a:lnTo>
                        <a:pt x="186" y="492"/>
                      </a:lnTo>
                      <a:lnTo>
                        <a:pt x="185" y="475"/>
                      </a:lnTo>
                      <a:lnTo>
                        <a:pt x="183" y="457"/>
                      </a:lnTo>
                      <a:lnTo>
                        <a:pt x="181" y="442"/>
                      </a:lnTo>
                      <a:lnTo>
                        <a:pt x="179" y="424"/>
                      </a:lnTo>
                      <a:lnTo>
                        <a:pt x="176" y="403"/>
                      </a:lnTo>
                      <a:lnTo>
                        <a:pt x="171" y="384"/>
                      </a:lnTo>
                      <a:lnTo>
                        <a:pt x="168" y="365"/>
                      </a:lnTo>
                      <a:lnTo>
                        <a:pt x="163" y="345"/>
                      </a:lnTo>
                      <a:lnTo>
                        <a:pt x="158" y="326"/>
                      </a:lnTo>
                      <a:lnTo>
                        <a:pt x="153" y="307"/>
                      </a:lnTo>
                      <a:lnTo>
                        <a:pt x="147" y="292"/>
                      </a:lnTo>
                      <a:lnTo>
                        <a:pt x="142" y="273"/>
                      </a:lnTo>
                      <a:lnTo>
                        <a:pt x="136" y="259"/>
                      </a:lnTo>
                      <a:lnTo>
                        <a:pt x="131" y="241"/>
                      </a:lnTo>
                      <a:lnTo>
                        <a:pt x="124" y="225"/>
                      </a:lnTo>
                      <a:lnTo>
                        <a:pt x="117" y="209"/>
                      </a:lnTo>
                      <a:lnTo>
                        <a:pt x="111" y="193"/>
                      </a:lnTo>
                      <a:lnTo>
                        <a:pt x="102" y="178"/>
                      </a:lnTo>
                      <a:lnTo>
                        <a:pt x="95" y="162"/>
                      </a:lnTo>
                      <a:lnTo>
                        <a:pt x="87" y="150"/>
                      </a:lnTo>
                      <a:lnTo>
                        <a:pt x="79" y="138"/>
                      </a:lnTo>
                      <a:lnTo>
                        <a:pt x="72" y="128"/>
                      </a:lnTo>
                      <a:lnTo>
                        <a:pt x="64" y="122"/>
                      </a:lnTo>
                      <a:lnTo>
                        <a:pt x="74" y="0"/>
                      </a:lnTo>
                      <a:lnTo>
                        <a:pt x="69" y="18"/>
                      </a:lnTo>
                      <a:lnTo>
                        <a:pt x="64" y="33"/>
                      </a:lnTo>
                      <a:lnTo>
                        <a:pt x="60" y="51"/>
                      </a:lnTo>
                      <a:lnTo>
                        <a:pt x="55" y="64"/>
                      </a:lnTo>
                      <a:lnTo>
                        <a:pt x="51" y="76"/>
                      </a:lnTo>
                      <a:lnTo>
                        <a:pt x="46" y="86"/>
                      </a:lnTo>
                      <a:lnTo>
                        <a:pt x="42" y="97"/>
                      </a:lnTo>
                      <a:lnTo>
                        <a:pt x="37" y="106"/>
                      </a:lnTo>
                      <a:lnTo>
                        <a:pt x="32" y="118"/>
                      </a:lnTo>
                      <a:lnTo>
                        <a:pt x="25" y="130"/>
                      </a:lnTo>
                      <a:lnTo>
                        <a:pt x="19" y="142"/>
                      </a:lnTo>
                      <a:lnTo>
                        <a:pt x="12" y="152"/>
                      </a:lnTo>
                      <a:lnTo>
                        <a:pt x="5" y="164"/>
                      </a:lnTo>
                      <a:lnTo>
                        <a:pt x="0" y="172"/>
                      </a:lnTo>
                      <a:lnTo>
                        <a:pt x="1" y="182"/>
                      </a:lnTo>
                      <a:lnTo>
                        <a:pt x="5" y="191"/>
                      </a:lnTo>
                      <a:lnTo>
                        <a:pt x="7" y="202"/>
                      </a:lnTo>
                      <a:lnTo>
                        <a:pt x="11" y="214"/>
                      </a:lnTo>
                      <a:lnTo>
                        <a:pt x="14" y="226"/>
                      </a:lnTo>
                      <a:lnTo>
                        <a:pt x="17" y="237"/>
                      </a:lnTo>
                      <a:lnTo>
                        <a:pt x="19" y="248"/>
                      </a:lnTo>
                      <a:lnTo>
                        <a:pt x="21" y="261"/>
                      </a:lnTo>
                      <a:lnTo>
                        <a:pt x="23" y="273"/>
                      </a:lnTo>
                      <a:lnTo>
                        <a:pt x="25" y="286"/>
                      </a:lnTo>
                      <a:lnTo>
                        <a:pt x="27" y="299"/>
                      </a:lnTo>
                      <a:lnTo>
                        <a:pt x="29" y="311"/>
                      </a:lnTo>
                      <a:lnTo>
                        <a:pt x="31" y="324"/>
                      </a:lnTo>
                      <a:lnTo>
                        <a:pt x="33" y="336"/>
                      </a:lnTo>
                      <a:lnTo>
                        <a:pt x="34" y="347"/>
                      </a:lnTo>
                      <a:lnTo>
                        <a:pt x="36" y="362"/>
                      </a:lnTo>
                      <a:lnTo>
                        <a:pt x="37" y="381"/>
                      </a:lnTo>
                      <a:lnTo>
                        <a:pt x="52" y="253"/>
                      </a:lnTo>
                      <a:lnTo>
                        <a:pt x="63" y="261"/>
                      </a:lnTo>
                      <a:lnTo>
                        <a:pt x="71" y="271"/>
                      </a:lnTo>
                      <a:lnTo>
                        <a:pt x="86" y="290"/>
                      </a:lnTo>
                      <a:lnTo>
                        <a:pt x="93" y="300"/>
                      </a:lnTo>
                      <a:lnTo>
                        <a:pt x="100" y="311"/>
                      </a:lnTo>
                      <a:lnTo>
                        <a:pt x="108" y="325"/>
                      </a:lnTo>
                      <a:lnTo>
                        <a:pt x="118" y="342"/>
                      </a:lnTo>
                      <a:lnTo>
                        <a:pt x="125" y="357"/>
                      </a:lnTo>
                      <a:lnTo>
                        <a:pt x="134" y="378"/>
                      </a:lnTo>
                      <a:lnTo>
                        <a:pt x="140" y="396"/>
                      </a:lnTo>
                      <a:lnTo>
                        <a:pt x="146" y="413"/>
                      </a:lnTo>
                      <a:lnTo>
                        <a:pt x="151" y="428"/>
                      </a:lnTo>
                      <a:lnTo>
                        <a:pt x="153" y="438"/>
                      </a:lnTo>
                      <a:lnTo>
                        <a:pt x="157" y="457"/>
                      </a:lnTo>
                      <a:lnTo>
                        <a:pt x="161" y="473"/>
                      </a:lnTo>
                      <a:lnTo>
                        <a:pt x="165" y="492"/>
                      </a:lnTo>
                      <a:lnTo>
                        <a:pt x="167" y="519"/>
                      </a:lnTo>
                      <a:lnTo>
                        <a:pt x="169" y="539"/>
                      </a:lnTo>
                      <a:lnTo>
                        <a:pt x="170" y="579"/>
                      </a:lnTo>
                      <a:lnTo>
                        <a:pt x="185" y="577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7488360" y="1139760"/>
                  <a:ext cx="307800" cy="919080"/>
                </a:xfrm>
                <a:custGeom>
                  <a:avLst/>
                  <a:gdLst/>
                  <a:ahLst/>
                  <a:rect l="l" t="t" r="r" b="b"/>
                  <a:pathLst>
                    <a:path w="194" h="579">
                      <a:moveTo>
                        <a:pt x="191" y="578"/>
                      </a:moveTo>
                      <a:lnTo>
                        <a:pt x="193" y="545"/>
                      </a:lnTo>
                      <a:lnTo>
                        <a:pt x="193" y="530"/>
                      </a:lnTo>
                      <a:lnTo>
                        <a:pt x="193" y="511"/>
                      </a:lnTo>
                      <a:lnTo>
                        <a:pt x="192" y="493"/>
                      </a:lnTo>
                      <a:lnTo>
                        <a:pt x="191" y="476"/>
                      </a:lnTo>
                      <a:lnTo>
                        <a:pt x="190" y="457"/>
                      </a:lnTo>
                      <a:lnTo>
                        <a:pt x="187" y="442"/>
                      </a:lnTo>
                      <a:lnTo>
                        <a:pt x="186" y="424"/>
                      </a:lnTo>
                      <a:lnTo>
                        <a:pt x="182" y="403"/>
                      </a:lnTo>
                      <a:lnTo>
                        <a:pt x="178" y="384"/>
                      </a:lnTo>
                      <a:lnTo>
                        <a:pt x="174" y="367"/>
                      </a:lnTo>
                      <a:lnTo>
                        <a:pt x="169" y="347"/>
                      </a:lnTo>
                      <a:lnTo>
                        <a:pt x="163" y="327"/>
                      </a:lnTo>
                      <a:lnTo>
                        <a:pt x="158" y="307"/>
                      </a:lnTo>
                      <a:lnTo>
                        <a:pt x="152" y="292"/>
                      </a:lnTo>
                      <a:lnTo>
                        <a:pt x="147" y="273"/>
                      </a:lnTo>
                      <a:lnTo>
                        <a:pt x="142" y="260"/>
                      </a:lnTo>
                      <a:lnTo>
                        <a:pt x="135" y="243"/>
                      </a:lnTo>
                      <a:lnTo>
                        <a:pt x="128" y="225"/>
                      </a:lnTo>
                      <a:lnTo>
                        <a:pt x="120" y="209"/>
                      </a:lnTo>
                      <a:lnTo>
                        <a:pt x="115" y="193"/>
                      </a:lnTo>
                      <a:lnTo>
                        <a:pt x="106" y="178"/>
                      </a:lnTo>
                      <a:lnTo>
                        <a:pt x="99" y="163"/>
                      </a:lnTo>
                      <a:lnTo>
                        <a:pt x="91" y="150"/>
                      </a:lnTo>
                      <a:lnTo>
                        <a:pt x="82" y="138"/>
                      </a:lnTo>
                      <a:lnTo>
                        <a:pt x="75" y="128"/>
                      </a:lnTo>
                      <a:lnTo>
                        <a:pt x="67" y="121"/>
                      </a:lnTo>
                      <a:lnTo>
                        <a:pt x="77" y="0"/>
                      </a:lnTo>
                      <a:lnTo>
                        <a:pt x="72" y="18"/>
                      </a:lnTo>
                      <a:lnTo>
                        <a:pt x="67" y="33"/>
                      </a:lnTo>
                      <a:lnTo>
                        <a:pt x="61" y="51"/>
                      </a:lnTo>
                      <a:lnTo>
                        <a:pt x="57" y="65"/>
                      </a:lnTo>
                      <a:lnTo>
                        <a:pt x="52" y="76"/>
                      </a:lnTo>
                      <a:lnTo>
                        <a:pt x="49" y="86"/>
                      </a:lnTo>
                      <a:lnTo>
                        <a:pt x="43" y="97"/>
                      </a:lnTo>
                      <a:lnTo>
                        <a:pt x="39" y="107"/>
                      </a:lnTo>
                      <a:lnTo>
                        <a:pt x="34" y="118"/>
                      </a:lnTo>
                      <a:lnTo>
                        <a:pt x="27" y="130"/>
                      </a:lnTo>
                      <a:lnTo>
                        <a:pt x="20" y="143"/>
                      </a:lnTo>
                      <a:lnTo>
                        <a:pt x="13" y="152"/>
                      </a:lnTo>
                      <a:lnTo>
                        <a:pt x="6" y="164"/>
                      </a:lnTo>
                      <a:lnTo>
                        <a:pt x="0" y="173"/>
                      </a:lnTo>
                      <a:lnTo>
                        <a:pt x="1" y="183"/>
                      </a:lnTo>
                      <a:lnTo>
                        <a:pt x="5" y="192"/>
                      </a:lnTo>
                      <a:lnTo>
                        <a:pt x="8" y="202"/>
                      </a:lnTo>
                      <a:lnTo>
                        <a:pt x="11" y="213"/>
                      </a:lnTo>
                      <a:lnTo>
                        <a:pt x="15" y="226"/>
                      </a:lnTo>
                      <a:lnTo>
                        <a:pt x="17" y="237"/>
                      </a:lnTo>
                      <a:lnTo>
                        <a:pt x="19" y="249"/>
                      </a:lnTo>
                      <a:lnTo>
                        <a:pt x="22" y="260"/>
                      </a:lnTo>
                      <a:lnTo>
                        <a:pt x="24" y="273"/>
                      </a:lnTo>
                      <a:lnTo>
                        <a:pt x="27" y="287"/>
                      </a:lnTo>
                      <a:lnTo>
                        <a:pt x="29" y="300"/>
                      </a:lnTo>
                      <a:lnTo>
                        <a:pt x="31" y="311"/>
                      </a:lnTo>
                      <a:lnTo>
                        <a:pt x="32" y="324"/>
                      </a:lnTo>
                      <a:lnTo>
                        <a:pt x="34" y="337"/>
                      </a:lnTo>
                      <a:lnTo>
                        <a:pt x="35" y="347"/>
                      </a:lnTo>
                      <a:lnTo>
                        <a:pt x="37" y="362"/>
                      </a:lnTo>
                      <a:lnTo>
                        <a:pt x="39" y="379"/>
                      </a:lnTo>
                      <a:lnTo>
                        <a:pt x="53" y="253"/>
                      </a:lnTo>
                      <a:lnTo>
                        <a:pt x="65" y="262"/>
                      </a:lnTo>
                      <a:lnTo>
                        <a:pt x="73" y="272"/>
                      </a:lnTo>
                      <a:lnTo>
                        <a:pt x="88" y="290"/>
                      </a:lnTo>
                      <a:lnTo>
                        <a:pt x="96" y="300"/>
                      </a:lnTo>
                      <a:lnTo>
                        <a:pt x="103" y="311"/>
                      </a:lnTo>
                      <a:lnTo>
                        <a:pt x="115" y="330"/>
                      </a:lnTo>
                      <a:lnTo>
                        <a:pt x="122" y="342"/>
                      </a:lnTo>
                      <a:lnTo>
                        <a:pt x="131" y="356"/>
                      </a:lnTo>
                      <a:lnTo>
                        <a:pt x="137" y="369"/>
                      </a:lnTo>
                      <a:lnTo>
                        <a:pt x="143" y="378"/>
                      </a:lnTo>
                      <a:lnTo>
                        <a:pt x="148" y="389"/>
                      </a:lnTo>
                      <a:lnTo>
                        <a:pt x="153" y="401"/>
                      </a:lnTo>
                      <a:lnTo>
                        <a:pt x="160" y="416"/>
                      </a:lnTo>
                      <a:lnTo>
                        <a:pt x="163" y="429"/>
                      </a:lnTo>
                      <a:lnTo>
                        <a:pt x="169" y="443"/>
                      </a:lnTo>
                      <a:lnTo>
                        <a:pt x="173" y="459"/>
                      </a:lnTo>
                      <a:lnTo>
                        <a:pt x="176" y="476"/>
                      </a:lnTo>
                      <a:lnTo>
                        <a:pt x="179" y="493"/>
                      </a:lnTo>
                      <a:lnTo>
                        <a:pt x="182" y="510"/>
                      </a:lnTo>
                      <a:lnTo>
                        <a:pt x="185" y="528"/>
                      </a:lnTo>
                      <a:lnTo>
                        <a:pt x="187" y="548"/>
                      </a:lnTo>
                      <a:lnTo>
                        <a:pt x="191" y="578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990" name=""/>
          <p:cNvGraphicFramePr/>
          <p:nvPr/>
        </p:nvGraphicFramePr>
        <p:xfrm>
          <a:off x="933480" y="220680"/>
          <a:ext cx="2951280" cy="365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3480" y="220680"/>
                    <a:ext cx="295128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74C4-1684-431D-B8BB-E3C51C54427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83055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obert Haig (1926): renta producto del ahorro de costos de transporte; asignación vía rem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in (Renta + costo tpte) = costo de fri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cologist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ark &amp; Burques:Valor renta determina el u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ig: ¿Uso determina valor o a la invers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wley: Hogares se distribuyen por renta, costo de transporte y </a:t>
            </a:r>
            <a:r>
              <a:rPr b="0" lang="es-ES_tradnl" sz="2800" spc="-1" strike="noStrike">
                <a:solidFill>
                  <a:srgbClr val="ff6633"/>
                </a:solidFill>
                <a:latin typeface="Times New Roman"/>
              </a:rPr>
              <a:t>localización de otros hogar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Estos factores generan la renta residenc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Walter Firey: Minimizar costo total de obtener máxima satisfacción sea mínimo. Costo incluye elementos sentiment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B4C8-F133-4F4A-AB7A-7D8B3EFD4A1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Teoría de localización residencial</a:t>
            </a:r>
            <a:br>
              <a:rPr sz="3600"/>
            </a:b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Alonso (1961-64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upuest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xplanada homogénea: idéntica calidad, lista para usar, compra y venta libre, se aceptan hoy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formación perfecta, no hay restricciones legales ni soci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mpradores maximizan utilidad, vendedores maximizan gananc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cio: </a:t>
            </a:r>
            <a:r>
              <a:rPr b="0" lang="es-ES_tradnl" sz="2800" spc="-1" strike="noStrike">
                <a:solidFill>
                  <a:srgbClr val="ff6633"/>
                </a:solidFill>
                <a:latin typeface="Times New Roman"/>
              </a:rPr>
              <a:t>Arriend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venta y costo de propie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amaño terreno: trivial para un solo ocupante, una fracción para múltiples ocupant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1418-9D0B-4A54-AC0E-CA04F507F12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.Equilibrio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ci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l terr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istancia del centro CB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nidad de Decisión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"hombre económico" Individuo puede representar un hogar (opinantes o no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idéntico en todas direc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onocentro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empleo y servicios concentrada en CB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quilibrio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nsiste en definir la cantidad de terreno y localización que el individuo comprará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FEB1-6F7F-4A6B-B012-7AB18349C52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Equilibrio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19320" y="3124080"/>
            <a:ext cx="73152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x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ienes de consumo a precio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tancia al C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tamaño de terreno a precio en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(t)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recio suelo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calizado en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or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k(t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costo de transporte desde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al C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ingreso del hog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741760" y="1447920"/>
                <a:ext cx="41176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614880" y="1416240"/>
            <a:ext cx="152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ble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l ho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27CF-0891-499B-BEEF-B7A551F2E25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upuesto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29800" y="1474920"/>
            <a:ext cx="6495120" cy="4492800"/>
            <a:chOff x="829800" y="1474920"/>
            <a:chExt cx="6495120" cy="4492800"/>
          </a:xfrm>
        </p:grpSpPr>
        <p:sp>
          <p:nvSpPr>
            <p:cNvPr id="91" name=""/>
            <p:cNvSpPr/>
            <p:nvPr/>
          </p:nvSpPr>
          <p:spPr>
            <a:xfrm>
              <a:off x="1238760" y="1508760"/>
              <a:ext cx="0" cy="390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38760" y="5410440"/>
              <a:ext cx="5886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35480" y="1703880"/>
              <a:ext cx="4431240" cy="3381120"/>
            </a:xfrm>
            <a:custGeom>
              <a:avLst/>
              <a:gdLst/>
              <a:ahLst/>
              <a:rect l="l" t="t" r="r" b="b"/>
              <a:pathLst>
                <a:path w="3216" h="2496">
                  <a:moveTo>
                    <a:pt x="0" y="0"/>
                  </a:moveTo>
                  <a:cubicBezTo>
                    <a:pt x="44" y="296"/>
                    <a:pt x="88" y="592"/>
                    <a:pt x="240" y="864"/>
                  </a:cubicBezTo>
                  <a:cubicBezTo>
                    <a:pt x="392" y="1136"/>
                    <a:pt x="624" y="1416"/>
                    <a:pt x="912" y="1632"/>
                  </a:cubicBezTo>
                  <a:cubicBezTo>
                    <a:pt x="1200" y="1848"/>
                    <a:pt x="1584" y="2016"/>
                    <a:pt x="1968" y="2160"/>
                  </a:cubicBezTo>
                  <a:cubicBezTo>
                    <a:pt x="2352" y="2304"/>
                    <a:pt x="2992" y="2432"/>
                    <a:pt x="3216" y="2496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00080" y="1833840"/>
              <a:ext cx="3703680" cy="3251160"/>
            </a:xfrm>
            <a:custGeom>
              <a:avLst/>
              <a:gdLst/>
              <a:ahLst/>
              <a:rect l="l" t="t" r="r" b="b"/>
              <a:pathLst>
                <a:path w="2688" h="2400">
                  <a:moveTo>
                    <a:pt x="0" y="2400"/>
                  </a:moveTo>
                  <a:cubicBezTo>
                    <a:pt x="280" y="2360"/>
                    <a:pt x="560" y="2320"/>
                    <a:pt x="816" y="2208"/>
                  </a:cubicBezTo>
                  <a:cubicBezTo>
                    <a:pt x="1072" y="2096"/>
                    <a:pt x="1280" y="2000"/>
                    <a:pt x="1536" y="1728"/>
                  </a:cubicBezTo>
                  <a:cubicBezTo>
                    <a:pt x="1792" y="1456"/>
                    <a:pt x="2160" y="864"/>
                    <a:pt x="2352" y="576"/>
                  </a:cubicBezTo>
                  <a:cubicBezTo>
                    <a:pt x="2544" y="288"/>
                    <a:pt x="2624" y="104"/>
                    <a:pt x="2688" y="0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02640" y="485676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P(t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64520" y="173520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k(t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58880" y="544176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29800" y="550800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CB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72280" y="1474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477120" y="1752480"/>
                <a:ext cx="7617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858000" y="4572000"/>
                <a:ext cx="7621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6096960" y="3656880"/>
            <a:ext cx="27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Precios exóge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8402-B1D0-4AC3-9429-19C42664258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43000" y="1295280"/>
            <a:ext cx="7772400" cy="510552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La restricción de ingreso...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286000" y="1447920"/>
                <a:ext cx="5105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971800" y="2133720"/>
                <a:ext cx="42670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362320" y="2738520"/>
                <a:ext cx="45720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057400" y="3429000"/>
                <a:ext cx="64008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47920" y="4898880"/>
                <a:ext cx="25905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984920" y="4919760"/>
                <a:ext cx="34732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0C9A-0FF5-4975-B417-EDBF1887BE3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43000" y="1219320"/>
            <a:ext cx="7696080" cy="510516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822320" y="1447920"/>
                <a:ext cx="27576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La función de utilidad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057400" y="2057400"/>
                <a:ext cx="46292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603760" y="2971800"/>
                <a:ext cx="2549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  <m:r>
                      <m:t xml:space="preserve">→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432480" y="5018040"/>
                <a:ext cx="12636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987560" y="2881440"/>
                <a:ext cx="263700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  <m:r>
                      <m:t xml:space="preserve">→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33720" y="4849920"/>
                <a:ext cx="22096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2338560" y="3809160"/>
            <a:ext cx="20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nillo concéntr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17080" y="3809160"/>
            <a:ext cx="148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fecto rad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01240" y="4266000"/>
            <a:ext cx="43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sas marginales de sustitu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222E-C7F0-4158-BC9C-599C17C1B28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 M</cp:lastModifiedBy>
  <dcterms:modified xsi:type="dcterms:W3CDTF">2004-08-09T14:20:47Z</dcterms:modified>
  <cp:revision>113</cp:revision>
  <dc:subject/>
  <dc:title>General</dc:title>
</cp:coreProperties>
</file>