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88F-BBD9-47D5-BC3A-E8F061B0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6CF-DC14-4631-8396-0029EAB6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9E8-8769-4DA1-8636-611E9F1D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4BD-4F8C-4718-AEDC-86EE7010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E83-8837-4B55-92A1-E289E27B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481-6999-4869-A90D-B8CDBFCE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BA3-436A-4E71-9759-2BC552FC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2DD-9F60-45CD-B04E-4771C8E8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BDD-DA0D-4A3D-8EB3-9D52E38D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C82-D0C0-4E40-8E8A-C49027E3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F65-687B-4AE8-BC33-B706B24F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F3B-BA5A-484D-88FD-63974704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0EEE-3089-4F3F-B992-96C2852A3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INETICA DE RE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OCH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stituyendo en la tasa de reacción bimodal se ob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cual puede ser integrado considerando que 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              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escribimos esta expresión en forma adimensional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352680" y="1447920"/>
                <a:ext cx="25416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95480" y="2895480"/>
                <a:ext cx="346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52480" y="373392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19520" y="4876920"/>
                <a:ext cx="36208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3" name="mono02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546960" cy="540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63800" y="49528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08" name="mono03" descr=""/>
          <p:cNvPicPr/>
          <p:nvPr/>
        </p:nvPicPr>
        <p:blipFill>
          <a:blip r:embed="rId2"/>
          <a:stretch/>
        </p:blipFill>
        <p:spPr>
          <a:xfrm>
            <a:off x="1600200" y="838080"/>
            <a:ext cx="6405480" cy="539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5480" y="4854600"/>
                <a:ext cx="1022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l caso en el cual               se tiene el siguiente modelo de rea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ual se puede integrar para obten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930480" y="838080"/>
                <a:ext cx="1022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57600" y="1619280"/>
                <a:ext cx="18748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33920" y="3048120"/>
                <a:ext cx="179208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casos es posible pensar en reacciones en serie compuestas de más de un paso. Uno de los casos más simples es el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guiendo con el procedimiento indicado anteriormente, supongamos que se tienen las siguientes reacciones simples 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integrar considerando que inicialmente existe un contenido del compuesto A igual a           se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657600" y="1828800"/>
                <a:ext cx="1854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B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657600" y="3429000"/>
                <a:ext cx="1854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505320" y="4549680"/>
                <a:ext cx="42516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581280" y="5181480"/>
                <a:ext cx="20401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la tasa de cambio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demos notar que se forma por la descomposi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se pierde por su transformación a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reemplazamos la expresión par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que se puede resolver considerando que par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 se tiene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 . 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352680" y="1847880"/>
                <a:ext cx="24861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87480" y="3232080"/>
                <a:ext cx="3689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375080" y="4321080"/>
                <a:ext cx="42552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819520" y="4876920"/>
                <a:ext cx="36986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267080" y="5694480"/>
                <a:ext cx="6732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terminar la variación d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 realizamos un balance de mas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=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nulas, mientras que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     . En todo tiempo posterior la masa total se debe mantener, i.e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anterior permit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60880" y="2057400"/>
                <a:ext cx="4255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798640" y="2951280"/>
                <a:ext cx="36021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657600" y="4343400"/>
                <a:ext cx="18478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5120" y="5105520"/>
                <a:ext cx="57927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sumen se puede escribi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33920" y="1752480"/>
                <a:ext cx="16952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286000" y="2724120"/>
                <a:ext cx="46386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00200" y="4021200"/>
                <a:ext cx="6103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56" name="mono04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6705360" cy="4857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735600" y="3797280"/>
                <a:ext cx="809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61" name="mono05" descr=""/>
          <p:cNvPicPr/>
          <p:nvPr/>
        </p:nvPicPr>
        <p:blipFill>
          <a:blip r:embed="rId2"/>
          <a:stretch/>
        </p:blipFill>
        <p:spPr>
          <a:xfrm>
            <a:off x="1676520" y="990720"/>
            <a:ext cx="6856200" cy="486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764400" y="3797280"/>
                <a:ext cx="750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delo BIOCHLOR simula la atenuación natural de solventes clorados, en un proceso de reacciones en serie como las estudiadas anterior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ecuencia de reacciones es l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cuaciones que describen esta secuenc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17600" y="2590920"/>
                <a:ext cx="48247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T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DCE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VC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E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30760" y="3551400"/>
                <a:ext cx="1508040" cy="34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19640" y="4151160"/>
                <a:ext cx="2295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400560" y="4836960"/>
                <a:ext cx="23526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495600" y="5522760"/>
                <a:ext cx="21621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868560" y="6143760"/>
                <a:ext cx="14162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una de las especies cloradas es modelada con una ecuación de Advección-Dispersión en 3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74720" y="1828800"/>
                <a:ext cx="6478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371600" y="2835360"/>
                <a:ext cx="7265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284120" y="3902040"/>
                <a:ext cx="7479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CE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598760" y="4892760"/>
                <a:ext cx="678312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C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719360" y="5807160"/>
                <a:ext cx="65865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TH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OCHLOR está implementado en EX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salida típica su muestra en la figura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mono01" descr=""/>
          <p:cNvPicPr/>
          <p:nvPr/>
        </p:nvPicPr>
        <p:blipFill>
          <a:blip r:embed="rId2"/>
          <a:stretch/>
        </p:blipFill>
        <p:spPr>
          <a:xfrm>
            <a:off x="1600200" y="2209680"/>
            <a:ext cx="662940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mono02" descr=""/>
          <p:cNvPicPr/>
          <p:nvPr/>
        </p:nvPicPr>
        <p:blipFill>
          <a:blip r:embed="rId2"/>
          <a:stretch/>
        </p:blipFill>
        <p:spPr>
          <a:xfrm>
            <a:off x="2825640" y="1066680"/>
            <a:ext cx="403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mono03" descr=""/>
          <p:cNvPicPr/>
          <p:nvPr/>
        </p:nvPicPr>
        <p:blipFill>
          <a:blip r:embed="rId2"/>
          <a:srcRect l="0" t="0" r="0" b="45824"/>
          <a:stretch/>
        </p:blipFill>
        <p:spPr>
          <a:xfrm>
            <a:off x="1905120" y="1219320"/>
            <a:ext cx="6553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ono03" descr=""/>
          <p:cNvPicPr/>
          <p:nvPr/>
        </p:nvPicPr>
        <p:blipFill>
          <a:blip r:embed="rId2"/>
          <a:srcRect l="0" t="53522" r="0" b="0"/>
          <a:stretch/>
        </p:blipFill>
        <p:spPr>
          <a:xfrm>
            <a:off x="1905120" y="1447920"/>
            <a:ext cx="6553080" cy="4056120"/>
          </a:xfrm>
          <a:prstGeom prst="rect">
            <a:avLst/>
          </a:prstGeom>
          <a:ln w="0">
            <a:noFill/>
          </a:ln>
        </p:spPr>
      </p:pic>
      <p:pic>
        <p:nvPicPr>
          <p:cNvPr id="207" name="mono03" descr=""/>
          <p:cNvPicPr/>
          <p:nvPr/>
        </p:nvPicPr>
        <p:blipFill>
          <a:blip r:embed="rId3"/>
          <a:srcRect l="0" t="0" r="0" b="97148"/>
          <a:stretch/>
        </p:blipFill>
        <p:spPr>
          <a:xfrm>
            <a:off x="1905120" y="1219320"/>
            <a:ext cx="655308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mono05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75438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238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EMPLO: CABO CAÑAVERAL, FLO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mono04" descr=""/>
          <p:cNvPicPr/>
          <p:nvPr/>
        </p:nvPicPr>
        <p:blipFill>
          <a:blip r:embed="rId2"/>
          <a:stretch/>
        </p:blipFill>
        <p:spPr>
          <a:xfrm>
            <a:off x="1676520" y="1295280"/>
            <a:ext cx="65530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nética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uede ser definida como el estudio del efecto de la temperatura, presión, y concentración sobre la tasa a la cual se desarrolla una reacción quími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sa de rea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un término usado para describir la tasa de formación o desaparición de una sustancia (o especies químicas)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reacciones generalmente resultan en la pérdida de un reactante y la ganancia o formación de un producto. En forma esquemática se puede escribir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a la cual ocurre esta reacción, r, tiene unidades de concentración por tiempo, es decir, M/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505320" y="4114800"/>
                <a:ext cx="21412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actant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roduc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36232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emos el siguiente caso de un reactante A que da origen a un produc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 no existen otros reactantes y produc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anterior representa la estequiometría de una reacción irreversible en la cual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convierte en 1 mol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que el cambio en la concentración de los compuesto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proporcional a la concentra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suponemos que inicialmente la concentración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a nula, mientras que la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gual 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, podemos resolver la ecuación anterior para obtener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36920" y="1676520"/>
                <a:ext cx="712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909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05520" y="3828960"/>
                <a:ext cx="18000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475000" y="5715000"/>
                <a:ext cx="4078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r>
                      <m:t xml:space="preserve">o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2" name="mono01" descr=""/>
          <p:cNvPicPr/>
          <p:nvPr/>
        </p:nvPicPr>
        <p:blipFill>
          <a:blip r:embed="rId2"/>
          <a:stretch/>
        </p:blipFill>
        <p:spPr>
          <a:xfrm>
            <a:off x="1828800" y="1082520"/>
            <a:ext cx="6400800" cy="506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286000"/>
            <a:ext cx="7467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RODU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ACCIONES DE PRIMER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0000"/>
                </a:solidFill>
                <a:latin typeface="Arial"/>
              </a:rPr>
              <a:t>REACCIONES DE SEGUNDO O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REACCIONES SIMPLES EN SER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BIOCHLOR DECISION SUPPORT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dos moléculas de tip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podemos observar que a través del tiempo la siguiente reacción se lleva a cab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on los productos de la reacción entr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pongamos una molécula de A rodeada de muchas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La probabilidad de que l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accione con alguna molécul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ría proporcional a la cantidad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esentes en la solu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consideramos ahora un conjunto de molécula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probabilidad de reacciones es proporcional al número total de molécu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es decir, la tasa de reacción es proporcional a la multiplicación de las concentraciones del compuesto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886200" y="1752480"/>
                <a:ext cx="14860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escenario da origen a la denominad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inética bimolecular 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nética de segundo or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analizar estas ecuaciones supongamos qu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presenta la cantidad (en moles)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han reaccion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esta manera, si      y       representan las cantidades iniciales de los reactante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 tien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las concentracione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ravés del tiempo. Se tiene además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8120" y="1752480"/>
                <a:ext cx="32288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08400" y="34084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94200" y="3406680"/>
                <a:ext cx="42552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19520" y="424800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846680" y="4246560"/>
                <a:ext cx="12492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02000" y="5410080"/>
                <a:ext cx="246528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37080" y="304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2-03-07T00:28:35Z</cp:lastPrinted>
  <dcterms:modified xsi:type="dcterms:W3CDTF">2003-08-19T08:20:06Z</dcterms:modified>
  <cp:revision>47</cp:revision>
  <dc:subject/>
  <dc:title>Sin título de diapositiva</dc:title>
</cp:coreProperties>
</file>