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43D52-D883-4731-AE11-E52183AED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61B10-460D-4B9D-AC8D-1F236F65C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28BC4-FE5E-4695-958C-1670A8332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C7CCC-4286-4B0B-9693-5E7305B15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D3EE5-CF2B-4077-918C-9DA42D274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5812C-AEC9-482F-B68E-FDB32D8FD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6381E-F6C8-4EA6-A7EC-99B85F9AE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6A979-788C-48E6-B04A-CDEE00486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6E782-346A-4EFE-A22F-EF9EE3B23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8FE7D-C8A0-4361-94B9-3A37407C9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E36B7-4391-45A9-A5B3-2B7624899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76074-C39F-4A17-84E5-E80372BD2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E66A2-2BD5-434F-9A6B-F2696F4690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468520" y="5530680"/>
            <a:ext cx="719280" cy="885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6400800" y="5776920"/>
            <a:ext cx="519120" cy="6033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200400" y="5867280"/>
            <a:ext cx="3017880" cy="54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UNIVERSIDAD DE CH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FACULTAD DE CIENCIAS FÍSICAS Y MATEMÁTICA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DEPARTAMENTO DE INGENIERIA CIV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762120"/>
            <a:ext cx="655344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CI71M</a:t>
            </a:r>
            <a:br>
              <a:rPr sz="2400"/>
            </a:b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PRINCIPIOS DE REMEDIACION Y RESTAURA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143000" y="3048120"/>
            <a:ext cx="7315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CINETICA DE REAC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BIOCHL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7080" y="304920"/>
            <a:ext cx="107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71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1219320" y="837720"/>
            <a:ext cx="7238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ustituyendo en la tasa de reacción bimodal se obtien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o cual puede ser integrado considerando que en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t=0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se tiene que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x=0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on                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i escribimos esta expresión en forma adimensional se tien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3352680" y="1447920"/>
                <a:ext cx="2541600" cy="59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k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A</m:t>
                                </m:r>
                              </m:e>
                            </m:d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x</m:t>
                        </m:r>
                      </m:e>
                    </m:d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B</m:t>
                                </m:r>
                              </m:e>
                            </m:d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2895480" y="2895480"/>
                <a:ext cx="346572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A</m:t>
                                </m:r>
                              </m:e>
                            </m:d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B</m:t>
                                </m:r>
                              </m:e>
                            </m:d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d>
                                  <m:dPr>
                                    <m:begChr m:val="["/>
                                    <m:endChr m:val="]"/>
                                  </m:dPr>
                                  <m:e>
                                    <m:r>
                                      <m:t xml:space="preserve">B</m:t>
                                    </m:r>
                                  </m:e>
                                </m:d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d>
                                      <m:dPr>
                                        <m:begChr m:val="["/>
                                        <m:endChr m:val="]"/>
                                      </m:dPr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</m:d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r>
                                  <m:t xml:space="preserve">x</m:t>
                                </m:r>
                              </m:e>
                            </m:d>
                          </m:num>
                          <m:den>
                            <m:sSub>
                              <m:e>
                                <m:d>
                                  <m:dPr>
                                    <m:begChr m:val="["/>
                                    <m:endChr m:val="]"/>
                                  </m:dPr>
                                  <m:e>
                                    <m:r>
                                      <m:t xml:space="preserve">A</m:t>
                                    </m:r>
                                  </m:e>
                                </m:d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d>
                                      <m:dPr>
                                        <m:begChr m:val="["/>
                                        <m:endChr m:val="]"/>
                                      </m:dPr>
                                      <m:e>
                                        <m:r>
                                          <m:t xml:space="preserve">B</m:t>
                                        </m:r>
                                      </m:e>
                                    </m:d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r>
                                  <m:t xml:space="preserve">x</m:t>
                                </m:r>
                              </m:e>
                            </m:d>
                          </m:den>
                        </m:f>
                      </m:e>
                    </m:d>
                    <m:r>
                      <m:t xml:space="preserve">=</m:t>
                    </m:r>
                    <m:r>
                      <m:t xml:space="preserve">k</m:t>
                    </m:r>
                    <m:r>
                      <m:t xml:space="preserve">⋅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752480" y="3733920"/>
                <a:ext cx="1022400" cy="32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≠</m:t>
                    </m:r>
                    <m:sSub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2819520" y="4876920"/>
                <a:ext cx="3620880" cy="125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num>
                      <m:den>
                        <m:sSub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A</m:t>
                                </m:r>
                              </m:e>
                            </m:d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d>
                                  <m:dPr>
                                    <m:begChr m:val="["/>
                                    <m:endChr m:val="]"/>
                                  </m:dPr>
                                  <m:e>
                                    <m:r>
                                      <m:t xml:space="preserve">B</m:t>
                                    </m:r>
                                  </m:e>
                                </m:d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d>
                                  <m:dPr>
                                    <m:begChr m:val="["/>
                                    <m:endChr m:val="]"/>
                                  </m:dPr>
                                  <m:e>
                                    <m:r>
                                      <m:t xml:space="preserve">A</m:t>
                                    </m:r>
                                  </m:e>
                                </m:d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d>
                                  <m:dPr>
                                    <m:begChr m:val="["/>
                                    <m:endChr m:val="]"/>
                                  </m:dPr>
                                  <m:e>
                                    <m:r>
                                      <m:t xml:space="preserve">B</m:t>
                                    </m:r>
                                  </m:e>
                                </m:d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d>
                                  <m:dPr>
                                    <m:begChr m:val="["/>
                                    <m:endChr m:val="]"/>
                                  </m:dPr>
                                  <m:e>
                                    <m:r>
                                      <m:t xml:space="preserve">A</m:t>
                                    </m:r>
                                  </m:e>
                                </m:d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d>
                                      <m:dPr>
                                        <m:begChr m:val="["/>
                                        <m:endChr m:val="]"/>
                                      </m:dPr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</m:d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d>
                                      <m:dPr>
                                        <m:begChr m:val="["/>
                                        <m:endChr m:val="]"/>
                                      </m:dPr>
                                      <m:e>
                                        <m:r>
                                          <m:t xml:space="preserve">B</m:t>
                                        </m:r>
                                      </m:e>
                                    </m:d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e>
                            </m:d>
                            <m:r>
                              <m:t xml:space="preserve">⋅</m:t>
                            </m:r>
                            <m:r>
                              <m:t xml:space="preserve">k</m:t>
                            </m:r>
                            <m:r>
                              <m:t xml:space="preserve">⋅</m:t>
                            </m:r>
                            <m:r>
                              <m:t xml:space="preserve">t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0" name=""/>
          <p:cNvSpPr/>
          <p:nvPr/>
        </p:nvSpPr>
        <p:spPr>
          <a:xfrm>
            <a:off x="37080" y="304920"/>
            <a:ext cx="107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71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pic>
        <p:nvPicPr>
          <p:cNvPr id="103" name="mono02" descr=""/>
          <p:cNvPicPr/>
          <p:nvPr/>
        </p:nvPicPr>
        <p:blipFill>
          <a:blip r:embed="rId2"/>
          <a:stretch/>
        </p:blipFill>
        <p:spPr>
          <a:xfrm>
            <a:off x="1600200" y="838080"/>
            <a:ext cx="6546960" cy="54007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2863800" y="4952880"/>
                <a:ext cx="1022400" cy="32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&gt;</m:t>
                    </m:r>
                    <m:sSub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05" name=""/>
          <p:cNvSpPr/>
          <p:nvPr/>
        </p:nvSpPr>
        <p:spPr>
          <a:xfrm>
            <a:off x="37080" y="304920"/>
            <a:ext cx="107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71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pic>
        <p:nvPicPr>
          <p:cNvPr id="108" name="mono03" descr=""/>
          <p:cNvPicPr/>
          <p:nvPr/>
        </p:nvPicPr>
        <p:blipFill>
          <a:blip r:embed="rId2"/>
          <a:stretch/>
        </p:blipFill>
        <p:spPr>
          <a:xfrm>
            <a:off x="1600200" y="838080"/>
            <a:ext cx="6405480" cy="53946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2895480" y="4854600"/>
                <a:ext cx="1022400" cy="32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&gt;</m:t>
                    </m:r>
                    <m:sSub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10" name=""/>
          <p:cNvSpPr/>
          <p:nvPr/>
        </p:nvSpPr>
        <p:spPr>
          <a:xfrm>
            <a:off x="37080" y="304920"/>
            <a:ext cx="107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71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1219320" y="837720"/>
            <a:ext cx="7238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ara el caso en el cual               se tiene el siguiente modelo de reacció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 cual se puede integrar para obtener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3930480" y="838080"/>
                <a:ext cx="1022400" cy="32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3657600" y="1619280"/>
                <a:ext cx="1874880" cy="59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k</m:t>
                    </m:r>
                    <m:r>
                      <m:t xml:space="preserve">⋅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3733920" y="3048120"/>
                <a:ext cx="1792080" cy="64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num>
                      <m:den>
                        <m:sSub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A</m:t>
                                </m:r>
                              </m:e>
                            </m:d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sSub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A</m:t>
                                </m:r>
                              </m:e>
                            </m:d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k</m:t>
                        </m:r>
                        <m:r>
                          <m:t xml:space="preserve">⋅</m:t>
                        </m:r>
                        <m:r>
                          <m:t xml:space="preserve">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7" name=""/>
          <p:cNvSpPr/>
          <p:nvPr/>
        </p:nvSpPr>
        <p:spPr>
          <a:xfrm>
            <a:off x="37080" y="304920"/>
            <a:ext cx="107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71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143000" y="2362320"/>
            <a:ext cx="746748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INTRODUCC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REACCIONES DE PRIMER OR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Arial"/>
              </a:rPr>
              <a:t>REACCIONES DE SEGUNDO OR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ff0000"/>
                </a:solidFill>
                <a:latin typeface="Arial"/>
              </a:rPr>
              <a:t>REACCIONES SIMPLES EN SERI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Arial"/>
              </a:rPr>
              <a:t>BIOCHLOR DECISION SUPPORT SYSTE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37080" y="304920"/>
            <a:ext cx="107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71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1219320" y="837720"/>
            <a:ext cx="7238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 algunos casos es posible pensar en reacciones en serie compuestas de más de un paso. Uno de los casos más simples es el siguien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iguiendo con el procedimiento indicado anteriormente, supongamos que se tienen las siguientes reacciones simples para la tasa de cambio de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l integrar considerando que inicialmente existe un contenido del compuesto A igual a           se tien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3657600" y="1828800"/>
                <a:ext cx="1854360" cy="30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acc>
                      <m:accPr>
                        <m:chr m:val="⃗"/>
                      </m:accPr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acc>
                    <m:r>
                      <m:t xml:space="preserve">B</m:t>
                    </m:r>
                    <m:acc>
                      <m:accPr>
                        <m:chr m:val="⃗"/>
                      </m:accPr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acc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657600" y="3429000"/>
                <a:ext cx="1854360" cy="59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A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505320" y="4549680"/>
                <a:ext cx="425160" cy="32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581280" y="5181480"/>
                <a:ext cx="2040120" cy="32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A</m:t>
                        </m:r>
                      </m:e>
                    </m:d>
                    <m:r>
                      <m:t xml:space="preserve">=</m:t>
                    </m:r>
                    <m:sSub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29" name=""/>
          <p:cNvSpPr/>
          <p:nvPr/>
        </p:nvSpPr>
        <p:spPr>
          <a:xfrm>
            <a:off x="37080" y="304920"/>
            <a:ext cx="107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71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1219320" y="837720"/>
            <a:ext cx="7238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ara la tasa de cambio de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B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odemos notar que se forma por la descomposición del compuesto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y se pierde por su transformación al compuesto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i reemplazamos la expresión para la concentración de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A: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o que se puede resolver considerando que para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t=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0 se tiene que la concentración de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es igual a       . Lo anterior permite escribir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3352680" y="1847880"/>
                <a:ext cx="2486160" cy="59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A</m:t>
                        </m:r>
                      </m:e>
                    </m:d>
                    <m:r>
                      <m:t xml:space="preserve">−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⋅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B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2787480" y="3232080"/>
                <a:ext cx="3689640" cy="59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−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⋅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B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4375080" y="4321080"/>
                <a:ext cx="425520" cy="32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2819520" y="4876920"/>
                <a:ext cx="3698640" cy="64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B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A</m:t>
                                </m:r>
                              </m:e>
                            </m:d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⋅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r>
                              <m:t xml:space="preserve">t</m:t>
                            </m:r>
                          </m:e>
                        </m:d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r>
                              <m:t xml:space="preserve">t</m:t>
                            </m:r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4267080" y="5694480"/>
                <a:ext cx="673200" cy="32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≠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8" name=""/>
          <p:cNvSpPr/>
          <p:nvPr/>
        </p:nvSpPr>
        <p:spPr>
          <a:xfrm>
            <a:off x="37080" y="304920"/>
            <a:ext cx="107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71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1219320" y="837720"/>
            <a:ext cx="7238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ara determinar la variación de la concentración del compuesto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a través del tiempo realizamos un balance de masa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t=0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se tiene que las concentraciones de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son nulas, mientras que la concentración de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es igual a      . En todo tiempo posterior la masa total se debe mantener, i.e.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o anterior permite escribir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5060880" y="2057400"/>
                <a:ext cx="425520" cy="32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2798640" y="2951280"/>
                <a:ext cx="3602160" cy="32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A</m:t>
                        </m:r>
                      </m:e>
                    </m:d>
                    <m:r>
                      <m:t xml:space="preserve">+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B</m:t>
                        </m:r>
                      </m:e>
                    </m:d>
                    <m:r>
                      <m:t xml:space="preserve">+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C</m:t>
                        </m:r>
                      </m:e>
                    </m:d>
                    <m:r>
                      <m:t xml:space="preserve">=</m:t>
                    </m:r>
                    <m:sSub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3657600" y="4343400"/>
                <a:ext cx="1847880" cy="32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C</m:t>
                        </m:r>
                      </m:e>
                    </m:d>
                    <m:r>
                      <m:t xml:space="preserve">=</m:t>
                    </m:r>
                    <m:sSub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−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A</m:t>
                        </m:r>
                      </m:e>
                    </m:d>
                    <m:r>
                      <m:t xml:space="preserve">−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B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1905120" y="5105520"/>
                <a:ext cx="5792760" cy="64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C</m:t>
                        </m:r>
                      </m:e>
                    </m:d>
                    <m:r>
                      <m:t xml:space="preserve">=</m:t>
                    </m:r>
                    <m:sSub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⋅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r>
                              <m:t xml:space="preserve">t</m:t>
                            </m:r>
                          </m:e>
                        </m:d>
                      </m:e>
                    </m:d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A</m:t>
                                </m:r>
                              </m:e>
                            </m:d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⋅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r>
                              <m:t xml:space="preserve">t</m:t>
                            </m:r>
                          </m:e>
                        </m:d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r>
                              <m:t xml:space="preserve">t</m:t>
                            </m:r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46" name=""/>
          <p:cNvSpPr/>
          <p:nvPr/>
        </p:nvSpPr>
        <p:spPr>
          <a:xfrm>
            <a:off x="37080" y="304920"/>
            <a:ext cx="107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71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1219320" y="837720"/>
            <a:ext cx="7238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 resumen se puede escribir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3733920" y="1752480"/>
                <a:ext cx="1695240" cy="64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num>
                      <m:den>
                        <m:sSub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A</m:t>
                                </m:r>
                              </m:e>
                            </m:d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2286000" y="2724120"/>
                <a:ext cx="4638600" cy="108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</m:num>
                      <m:den>
                        <m:sSub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A</m:t>
                                </m:r>
                              </m:e>
                            </m:d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k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k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⋅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r>
                              <m:t xml:space="preserve">t</m:t>
                            </m:r>
                          </m:e>
                        </m:d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k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k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d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r>
                              <m:t xml:space="preserve">t</m:t>
                            </m:r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1600200" y="4021200"/>
                <a:ext cx="6103800" cy="108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</m:num>
                      <m:den>
                        <m:sSub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A</m:t>
                                </m:r>
                              </m:e>
                            </m:d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k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k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⋅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r>
                              <m:t xml:space="preserve">t</m:t>
                            </m:r>
                          </m:e>
                        </m:d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k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k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d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r>
                              <m:t xml:space="preserve">t</m:t>
                            </m:r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53" name=""/>
          <p:cNvSpPr/>
          <p:nvPr/>
        </p:nvSpPr>
        <p:spPr>
          <a:xfrm>
            <a:off x="37080" y="304920"/>
            <a:ext cx="107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71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pic>
        <p:nvPicPr>
          <p:cNvPr id="156" name="mono04" descr=""/>
          <p:cNvPicPr/>
          <p:nvPr/>
        </p:nvPicPr>
        <p:blipFill>
          <a:blip r:embed="rId2"/>
          <a:stretch/>
        </p:blipFill>
        <p:spPr>
          <a:xfrm>
            <a:off x="1676520" y="914400"/>
            <a:ext cx="6705360" cy="48578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6735600" y="3797280"/>
                <a:ext cx="809640" cy="65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8" name=""/>
          <p:cNvSpPr/>
          <p:nvPr/>
        </p:nvSpPr>
        <p:spPr>
          <a:xfrm>
            <a:off x="37080" y="304920"/>
            <a:ext cx="107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71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143000" y="2362320"/>
            <a:ext cx="746748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 algn="just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0000"/>
                </a:solidFill>
                <a:latin typeface="Arial"/>
              </a:rPr>
              <a:t>INTRODUCC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REACCIONES DE PRIMER OR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Arial"/>
              </a:rPr>
              <a:t>REACCIONES DE SEGUNDO OR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Arial"/>
              </a:rPr>
              <a:t>REACCIONES SIMPLES EN SERI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Arial"/>
              </a:rPr>
              <a:t>BIOCHLOR DECISION SUPPORT SYSTE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37080" y="304920"/>
            <a:ext cx="107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71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pic>
        <p:nvPicPr>
          <p:cNvPr id="161" name="mono05" descr=""/>
          <p:cNvPicPr/>
          <p:nvPr/>
        </p:nvPicPr>
        <p:blipFill>
          <a:blip r:embed="rId2"/>
          <a:stretch/>
        </p:blipFill>
        <p:spPr>
          <a:xfrm>
            <a:off x="1676520" y="990720"/>
            <a:ext cx="6856200" cy="48607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6764400" y="3797280"/>
                <a:ext cx="750960" cy="65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3" name=""/>
          <p:cNvSpPr/>
          <p:nvPr/>
        </p:nvSpPr>
        <p:spPr>
          <a:xfrm>
            <a:off x="37080" y="304920"/>
            <a:ext cx="107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71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143000" y="2362320"/>
            <a:ext cx="746748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INTRODUCC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REACCIONES DE PRIMER OR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Arial"/>
              </a:rPr>
              <a:t>REACCIONES DE SEGUNDO OR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Arial"/>
              </a:rPr>
              <a:t>REACCIONES SIMPLES EN SERI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ff0000"/>
                </a:solidFill>
                <a:latin typeface="Arial"/>
              </a:rPr>
              <a:t>BIOCHLOR DECISION SUPPORT SYSTE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37080" y="304920"/>
            <a:ext cx="107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71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1219320" y="837720"/>
            <a:ext cx="7238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l modelo BIOCHLOR simula la atenuación natural de solventes clorados, en un proceso de reacciones en serie como las estudiadas anteriorment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 secuencia de reacciones es la siguien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s ecuaciones que describen esta secuencia so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71" name=""/>
              <p:cNvSpPr txBox="1"/>
              <p:nvPr/>
            </p:nvSpPr>
            <p:spPr>
              <a:xfrm>
                <a:off x="2217600" y="2590920"/>
                <a:ext cx="4824720" cy="30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CE</m:t>
                    </m:r>
                    <m:acc>
                      <m:accPr>
                        <m:chr m:val="⃗"/>
                      </m:accPr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acc>
                    <m:r>
                      <m:rPr>
                        <m:lit/>
                        <m:nor/>
                      </m:rPr>
                      <m:t xml:space="preserve">TCE</m:t>
                    </m:r>
                    <m:acc>
                      <m:accPr>
                        <m:chr m:val="⃗"/>
                      </m:accPr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acc>
                    <m:r>
                      <m:rPr>
                        <m:lit/>
                        <m:nor/>
                      </m:rPr>
                      <m:t xml:space="preserve">DCE</m:t>
                    </m:r>
                    <m:acc>
                      <m:accPr>
                        <m:chr m:val="⃗"/>
                      </m:accPr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e>
                    </m:acc>
                    <m:r>
                      <m:rPr>
                        <m:lit/>
                        <m:nor/>
                      </m:rPr>
                      <m:t xml:space="preserve">VC</m:t>
                    </m:r>
                    <m:acc>
                      <m:accPr>
                        <m:chr m:val="⃗"/>
                      </m:accPr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</m:e>
                    </m:acc>
                    <m:r>
                      <m:rPr>
                        <m:lit/>
                        <m:nor/>
                      </m:rPr>
                      <m:t xml:space="preserve">ETH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2" name=""/>
          <p:cNvSpPr/>
          <p:nvPr/>
        </p:nvSpPr>
        <p:spPr>
          <a:xfrm>
            <a:off x="37080" y="304920"/>
            <a:ext cx="107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71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3830760" y="3551400"/>
                <a:ext cx="1508040" cy="34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CE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CE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3419640" y="4151160"/>
                <a:ext cx="2295360" cy="34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CE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CE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CE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3400560" y="4836960"/>
                <a:ext cx="2352600" cy="34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CE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CE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CE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3495600" y="5522760"/>
                <a:ext cx="2162160" cy="34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C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CE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3868560" y="6143760"/>
                <a:ext cx="1416240" cy="32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TH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TH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1219320" y="837720"/>
            <a:ext cx="7238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ada una de las especies cloradas es modelada con una ecuación de Advección-Dispersión en 3D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81" name=""/>
              <p:cNvSpPr txBox="1"/>
              <p:nvPr/>
            </p:nvSpPr>
            <p:spPr>
              <a:xfrm>
                <a:off x="1674720" y="1828800"/>
                <a:ext cx="647856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CE</m:t>
                        </m:r>
                      </m:sub>
                    </m:sSub>
                    <m:r>
                      <m:t xml:space="preserve">⋅</m:t>
                    </m:r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CE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⋅</m:t>
                    </m:r>
                    <m:f>
                      <m:num>
                        <m:sSup>
                          <m:e>
                            <m:r>
                              <m:t xml:space="preserve">∂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CE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⋅</m:t>
                    </m:r>
                    <m:f>
                      <m:num>
                        <m:sSup>
                          <m:e>
                            <m:r>
                              <m:t xml:space="preserve">∂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CE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r>
                      <m:t xml:space="preserve">⋅</m:t>
                    </m:r>
                    <m:f>
                      <m:num>
                        <m:sSup>
                          <m:e>
                            <m:r>
                              <m:t xml:space="preserve">∂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CE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−</m:t>
                    </m:r>
                    <m:r>
                      <m:t xml:space="preserve">v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CE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−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CE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82" name=""/>
          <p:cNvSpPr/>
          <p:nvPr/>
        </p:nvSpPr>
        <p:spPr>
          <a:xfrm>
            <a:off x="37080" y="304920"/>
            <a:ext cx="107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71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3" name=""/>
              <p:cNvSpPr txBox="1"/>
              <p:nvPr/>
            </p:nvSpPr>
            <p:spPr>
              <a:xfrm>
                <a:off x="1371600" y="2835360"/>
                <a:ext cx="726588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CE</m:t>
                        </m:r>
                      </m:sub>
                    </m:sSub>
                    <m:r>
                      <m:t xml:space="preserve">⋅</m:t>
                    </m:r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E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⋅</m:t>
                    </m:r>
                    <m:f>
                      <m:num>
                        <m:sSup>
                          <m:e>
                            <m:r>
                              <m:t xml:space="preserve">∂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E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⋅</m:t>
                    </m:r>
                    <m:f>
                      <m:num>
                        <m:sSup>
                          <m:e>
                            <m:r>
                              <m:t xml:space="preserve">∂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E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r>
                      <m:t xml:space="preserve">⋅</m:t>
                    </m:r>
                    <m:f>
                      <m:num>
                        <m:sSup>
                          <m:e>
                            <m:r>
                              <m:t xml:space="preserve">∂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E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−</m:t>
                    </m:r>
                    <m:r>
                      <m:t xml:space="preserve">v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E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CE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CE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1284120" y="3902040"/>
                <a:ext cx="747900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CE</m:t>
                        </m:r>
                      </m:sub>
                    </m:sSub>
                    <m:r>
                      <m:t xml:space="preserve">⋅</m:t>
                    </m:r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CE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⋅</m:t>
                    </m:r>
                    <m:f>
                      <m:num>
                        <m:sSup>
                          <m:e>
                            <m:r>
                              <m:t xml:space="preserve">∂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CE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⋅</m:t>
                    </m:r>
                    <m:f>
                      <m:num>
                        <m:sSup>
                          <m:e>
                            <m:r>
                              <m:t xml:space="preserve">∂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CE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r>
                      <m:t xml:space="preserve">⋅</m:t>
                    </m:r>
                    <m:f>
                      <m:num>
                        <m:sSup>
                          <m:e>
                            <m:r>
                              <m:t xml:space="preserve">∂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CE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−</m:t>
                    </m:r>
                    <m:r>
                      <m:t xml:space="preserve">v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CE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CE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CE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" name=""/>
              <p:cNvSpPr txBox="1"/>
              <p:nvPr/>
            </p:nvSpPr>
            <p:spPr>
              <a:xfrm>
                <a:off x="1598760" y="4892760"/>
                <a:ext cx="678312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C</m:t>
                        </m:r>
                      </m:sub>
                    </m:sSub>
                    <m:r>
                      <m:t xml:space="preserve">⋅</m:t>
                    </m:r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C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⋅</m:t>
                    </m:r>
                    <m:f>
                      <m:num>
                        <m:sSup>
                          <m:e>
                            <m:r>
                              <m:t xml:space="preserve">∂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C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⋅</m:t>
                    </m:r>
                    <m:f>
                      <m:num>
                        <m:sSup>
                          <m:e>
                            <m:r>
                              <m:t xml:space="preserve">∂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C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r>
                      <m:t xml:space="preserve">⋅</m:t>
                    </m:r>
                    <m:f>
                      <m:num>
                        <m:sSup>
                          <m:e>
                            <m:r>
                              <m:t xml:space="preserve">∂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C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−</m:t>
                    </m:r>
                    <m:r>
                      <m:t xml:space="preserve">v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C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CE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1719360" y="5807160"/>
                <a:ext cx="658656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TH</m:t>
                        </m:r>
                      </m:sub>
                    </m:sSub>
                    <m:r>
                      <m:t xml:space="preserve">⋅</m:t>
                    </m:r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TH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⋅</m:t>
                    </m:r>
                    <m:f>
                      <m:num>
                        <m:sSup>
                          <m:e>
                            <m:r>
                              <m:t xml:space="preserve">∂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TH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⋅</m:t>
                    </m:r>
                    <m:f>
                      <m:num>
                        <m:sSup>
                          <m:e>
                            <m:r>
                              <m:t xml:space="preserve">∂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TH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r>
                      <m:t xml:space="preserve">⋅</m:t>
                    </m:r>
                    <m:f>
                      <m:num>
                        <m:sSup>
                          <m:e>
                            <m:r>
                              <m:t xml:space="preserve">∂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TH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−</m:t>
                    </m:r>
                    <m:r>
                      <m:t xml:space="preserve">v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TH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TH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1219320" y="837720"/>
            <a:ext cx="7238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BIOCHLOR está implementado en EXCE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Una salida típica su muestra en la figura siguien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37080" y="304920"/>
            <a:ext cx="107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71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1" name="mono01" descr=""/>
          <p:cNvPicPr/>
          <p:nvPr/>
        </p:nvPicPr>
        <p:blipFill>
          <a:blip r:embed="rId2"/>
          <a:stretch/>
        </p:blipFill>
        <p:spPr>
          <a:xfrm>
            <a:off x="1600200" y="2209680"/>
            <a:ext cx="6629400" cy="408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1219320" y="609480"/>
            <a:ext cx="72388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0000"/>
                </a:solidFill>
                <a:latin typeface="Arial"/>
              </a:rPr>
              <a:t>EJEMPLO: CABO CAÑAVERAL, FLORI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37080" y="304920"/>
            <a:ext cx="107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71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" name="mono02" descr=""/>
          <p:cNvPicPr/>
          <p:nvPr/>
        </p:nvPicPr>
        <p:blipFill>
          <a:blip r:embed="rId2"/>
          <a:stretch/>
        </p:blipFill>
        <p:spPr>
          <a:xfrm>
            <a:off x="2825640" y="1066680"/>
            <a:ext cx="403236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1219320" y="609480"/>
            <a:ext cx="72388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0000"/>
                </a:solidFill>
                <a:latin typeface="Arial"/>
              </a:rPr>
              <a:t>EJEMPLO: CABO CAÑAVERAL, FLORI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7080" y="304920"/>
            <a:ext cx="107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71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1" name="mono03" descr=""/>
          <p:cNvPicPr/>
          <p:nvPr/>
        </p:nvPicPr>
        <p:blipFill>
          <a:blip r:embed="rId2"/>
          <a:srcRect l="0" t="0" r="0" b="45824"/>
          <a:stretch/>
        </p:blipFill>
        <p:spPr>
          <a:xfrm>
            <a:off x="1905120" y="1219320"/>
            <a:ext cx="655308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1219320" y="609480"/>
            <a:ext cx="72388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0000"/>
                </a:solidFill>
                <a:latin typeface="Arial"/>
              </a:rPr>
              <a:t>EJEMPLO: CABO CAÑAVERAL, FLORI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7080" y="304920"/>
            <a:ext cx="107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71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6" name="mono03" descr=""/>
          <p:cNvPicPr/>
          <p:nvPr/>
        </p:nvPicPr>
        <p:blipFill>
          <a:blip r:embed="rId2"/>
          <a:srcRect l="0" t="53522" r="0" b="0"/>
          <a:stretch/>
        </p:blipFill>
        <p:spPr>
          <a:xfrm>
            <a:off x="1905120" y="1447920"/>
            <a:ext cx="6553080" cy="4056120"/>
          </a:xfrm>
          <a:prstGeom prst="rect">
            <a:avLst/>
          </a:prstGeom>
          <a:ln w="0">
            <a:noFill/>
          </a:ln>
        </p:spPr>
      </p:pic>
      <p:pic>
        <p:nvPicPr>
          <p:cNvPr id="207" name="mono03" descr=""/>
          <p:cNvPicPr/>
          <p:nvPr/>
        </p:nvPicPr>
        <p:blipFill>
          <a:blip r:embed="rId3"/>
          <a:srcRect l="0" t="0" r="0" b="97148"/>
          <a:stretch/>
        </p:blipFill>
        <p:spPr>
          <a:xfrm>
            <a:off x="1905120" y="1219320"/>
            <a:ext cx="6553080" cy="24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1219320" y="609480"/>
            <a:ext cx="72388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0000"/>
                </a:solidFill>
                <a:latin typeface="Arial"/>
              </a:rPr>
              <a:t>EJEMPLO: CABO CAÑAVERAL, FLORI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37080" y="304920"/>
            <a:ext cx="107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71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2" name="mono05" descr=""/>
          <p:cNvPicPr/>
          <p:nvPr/>
        </p:nvPicPr>
        <p:blipFill>
          <a:blip r:embed="rId2"/>
          <a:stretch/>
        </p:blipFill>
        <p:spPr>
          <a:xfrm>
            <a:off x="1371600" y="1066680"/>
            <a:ext cx="7543800" cy="52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1219320" y="609480"/>
            <a:ext cx="72388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0000"/>
                </a:solidFill>
                <a:latin typeface="Arial"/>
              </a:rPr>
              <a:t>EJEMPLO: CABO CAÑAVERAL, FLORI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7080" y="304920"/>
            <a:ext cx="107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71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7" name="mono04" descr=""/>
          <p:cNvPicPr/>
          <p:nvPr/>
        </p:nvPicPr>
        <p:blipFill>
          <a:blip r:embed="rId2"/>
          <a:stretch/>
        </p:blipFill>
        <p:spPr>
          <a:xfrm>
            <a:off x="1676520" y="1295280"/>
            <a:ext cx="6553080" cy="45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1219320" y="837720"/>
            <a:ext cx="7238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inética de reaccione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puede ser definida como el estudio del efecto de la temperatura, presión, y concentración sobre la tasa a la cual se desarrolla una reacción química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tasa de reacción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, es un término usado para describir la tasa de formación o desaparición de una sustancia (o especies químicas).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s reacciones generalmente resultan en la pérdida de un reactante y la ganancia o formación de un producto. En forma esquemática se puede escribir lo siguien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 tasa a la cual ocurre esta reacción, r, tiene unidades de concentración por tiempo, es decir, M/L</a:t>
            </a:r>
            <a:r>
              <a:rPr b="0" lang="es-ES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-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6" name=""/>
              <p:cNvSpPr txBox="1"/>
              <p:nvPr/>
            </p:nvSpPr>
            <p:spPr>
              <a:xfrm>
                <a:off x="3505320" y="4114800"/>
                <a:ext cx="2141280" cy="30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eactante</m:t>
                    </m:r>
                    <m:r>
                      <m:t xml:space="preserve">→</m:t>
                    </m:r>
                    <m:r>
                      <m:rPr>
                        <m:lit/>
                        <m:nor/>
                      </m:rPr>
                      <m:t xml:space="preserve">producto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7" name=""/>
          <p:cNvSpPr/>
          <p:nvPr/>
        </p:nvSpPr>
        <p:spPr>
          <a:xfrm>
            <a:off x="37080" y="304920"/>
            <a:ext cx="107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71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143000" y="2362320"/>
            <a:ext cx="746748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INTRODUCC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0000"/>
                </a:solidFill>
                <a:latin typeface="Arial"/>
              </a:rPr>
              <a:t>REACCIONES DE PRIMER OR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Arial"/>
              </a:rPr>
              <a:t>REACCIONES DE SEGUNDO OR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Arial"/>
              </a:rPr>
              <a:t>REACCIONES SIMPLES EN SERI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Arial"/>
              </a:rPr>
              <a:t>BIOCHLOR DECISION SUPPORT SYSTE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7080" y="304920"/>
            <a:ext cx="107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71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1219320" y="837720"/>
            <a:ext cx="7238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onsideremos el siguiente caso de un reactante A que da origen a un producto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, y no existen otros reactantes y producto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 ecuación anterior representa la estequiometría de una reacción irreversible en la cual 1 mol de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se convierte en 1 mol de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upongamos que el cambio en la concentración de los compuestos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es proporcional a la concentración de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i suponemos que inicialmente la concentración del compuesto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era nula, mientras que la del compuesto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es igual a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[A</a:t>
            </a:r>
            <a:r>
              <a:rPr b="0" i="1" lang="es-E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, podemos resolver la ecuación anterior para obtener: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5" name=""/>
              <p:cNvSpPr txBox="1"/>
              <p:nvPr/>
            </p:nvSpPr>
            <p:spPr>
              <a:xfrm>
                <a:off x="4336920" y="1676520"/>
                <a:ext cx="712800" cy="26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→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" name=""/>
              <p:cNvSpPr txBox="1"/>
              <p:nvPr/>
            </p:nvSpPr>
            <p:spPr>
              <a:xfrm>
                <a:off x="2590920" y="3828960"/>
                <a:ext cx="1800000" cy="59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k</m:t>
                    </m:r>
                    <m:r>
                      <m:t xml:space="preserve">⋅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A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5105520" y="3828960"/>
                <a:ext cx="1800000" cy="59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=+</m:t>
                    </m:r>
                    <m:r>
                      <m:t xml:space="preserve">k</m:t>
                    </m:r>
                    <m:r>
                      <m:t xml:space="preserve">⋅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A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2475000" y="5715000"/>
                <a:ext cx="4078080" cy="64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A</m:t>
                        </m:r>
                      </m:e>
                    </m:d>
                    <m:r>
                      <m:t xml:space="preserve">=</m:t>
                    </m:r>
                    <m:sSub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k</m:t>
                        </m:r>
                        <m:r>
                          <m:t xml:space="preserve">⋅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 </m:t>
                    </m:r>
                    <m:r>
                      <m:t xml:space="preserve">o</m:t>
                    </m:r>
                    <m:r>
                      <m:t xml:space="preserve"> </m:t>
                    </m:r>
                    <m:f>
                      <m:num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num>
                      <m:den>
                        <m:sSub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A</m:t>
                                </m:r>
                              </m:e>
                            </m:d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k</m:t>
                        </m:r>
                        <m:r>
                          <m:t xml:space="preserve">⋅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69" name=""/>
          <p:cNvSpPr/>
          <p:nvPr/>
        </p:nvSpPr>
        <p:spPr>
          <a:xfrm>
            <a:off x="37080" y="304920"/>
            <a:ext cx="107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71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pic>
        <p:nvPicPr>
          <p:cNvPr id="72" name="mono01" descr=""/>
          <p:cNvPicPr/>
          <p:nvPr/>
        </p:nvPicPr>
        <p:blipFill>
          <a:blip r:embed="rId2"/>
          <a:stretch/>
        </p:blipFill>
        <p:spPr>
          <a:xfrm>
            <a:off x="1828800" y="1082520"/>
            <a:ext cx="6400800" cy="50659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37080" y="304920"/>
            <a:ext cx="107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71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143000" y="2286000"/>
            <a:ext cx="746748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INTRODUCC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REACCIONES DE PRIMER OR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ff0000"/>
                </a:solidFill>
                <a:latin typeface="Arial"/>
              </a:rPr>
              <a:t>REACCIONES DE SEGUNDO OR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Arial"/>
              </a:rPr>
              <a:t>REACCIONES SIMPLES EN SERI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Arial"/>
              </a:rPr>
              <a:t>BIOCHLOR DECISION SUPPORT SYSTE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37080" y="304920"/>
            <a:ext cx="107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71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1219320" y="837720"/>
            <a:ext cx="7238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i consideramos dos moléculas de tipo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, podemos observar que a través del tiempo la siguiente reacción se lleva a cabo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onde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s-E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s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son los productos de la reacción entre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upongamos una molécula de A rodeada de muchas moléculas del compuesto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. La probabilidad de que la molécula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reaccione con alguna molécula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sería proporcional a la cantidad de moléculas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presentes en la solució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i consideramos ahora un conjunto de moléculas del compuesto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, la probabilidad de reacciones es proporcional al número total de moléculas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, es decir, la tasa de reacción es proporcional a la multiplicación de las concentraciones del compuesto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3886200" y="1752480"/>
                <a:ext cx="1486080" cy="32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+</m:t>
                    </m:r>
                    <m:r>
                      <m:t xml:space="preserve">B</m:t>
                    </m:r>
                    <m:r>
                      <m:t xml:space="preserve">→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82" name=""/>
          <p:cNvSpPr/>
          <p:nvPr/>
        </p:nvSpPr>
        <p:spPr>
          <a:xfrm>
            <a:off x="37080" y="304920"/>
            <a:ext cx="107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71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1219320" y="837720"/>
            <a:ext cx="7238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ste escenario da origen a la denominada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cinética bimolecular o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inética de segundo orde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ara analizar estas ecuaciones supongamos que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representa la cantidad (en moles) de los reactantes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que han reaccionado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e esta manera, si      y       representan las cantidades iniciales de los reactantes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se tiene qu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on las concentraciones de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a través del tiempo. Se tiene además qu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86" name=""/>
              <p:cNvSpPr txBox="1"/>
              <p:nvPr/>
            </p:nvSpPr>
            <p:spPr>
              <a:xfrm>
                <a:off x="3048120" y="1752480"/>
                <a:ext cx="3228840" cy="59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k</m:t>
                    </m:r>
                    <m:r>
                      <m:t xml:space="preserve">⋅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A</m:t>
                        </m:r>
                      </m:e>
                    </m:d>
                    <m:r>
                      <m:t xml:space="preserve">⋅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B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3308400" y="3408480"/>
                <a:ext cx="425520" cy="32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3994200" y="3406680"/>
                <a:ext cx="425520" cy="32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2819520" y="4248000"/>
                <a:ext cx="1249200" cy="3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A</m:t>
                        </m:r>
                      </m:e>
                    </m:d>
                    <m:r>
                      <m:t xml:space="preserve">=</m:t>
                    </m:r>
                    <m:sSub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4846680" y="4246560"/>
                <a:ext cx="1249200" cy="3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B</m:t>
                        </m:r>
                      </m:e>
                    </m:d>
                    <m:r>
                      <m:t xml:space="preserve">=</m:t>
                    </m:r>
                    <m:sSub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3402000" y="5410080"/>
                <a:ext cx="2465280" cy="59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d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A</m:t>
                                </m:r>
                              </m:e>
                            </m:d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2" name=""/>
          <p:cNvSpPr/>
          <p:nvPr/>
        </p:nvSpPr>
        <p:spPr>
          <a:xfrm>
            <a:off x="37080" y="304920"/>
            <a:ext cx="107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71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23:16:03Z</dcterms:created>
  <dc:creator>Compaq</dc:creator>
  <dc:description/>
  <dc:language>en-US</dc:language>
  <cp:lastModifiedBy>Carlos Espinoza</cp:lastModifiedBy>
  <cp:lastPrinted>2002-03-07T00:28:35Z</cp:lastPrinted>
  <dcterms:modified xsi:type="dcterms:W3CDTF">2003-08-19T08:20:06Z</dcterms:modified>
  <cp:revision>47</cp:revision>
  <dc:subject/>
  <dc:title>Sin título de diapositiva</dc:title>
</cp:coreProperties>
</file>