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6D2-2AD4-42DC-B0DB-FC7E7A59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80F-0F66-4B25-9413-854672FD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145-9B5E-4AE2-8377-AF2BBFBB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F93-AC05-4941-AA0D-F85B546E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F89-5823-4A3F-BF70-C96FDAFE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6D7-47E0-487F-83B2-7EDA441F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FD9-1302-4165-ADEA-0500F7ED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589-1638-43CA-A855-DFCABF79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A66-7EBB-4C1E-A386-8DCACDBF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831-F3DF-42DA-9903-14757EB0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F55-BB59-4822-951C-FEC5D1F2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3E0-6EE7-46DF-8E0A-86B3CABD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C5EB-8690-412F-9A37-F5A9F374D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NETICA DE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CH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ituyendo en la tasa de reacción bimodal se ob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cual puede ser integrado considerando que 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scribimos esta expresión en forma adimensional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1447920"/>
                <a:ext cx="2541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2895480"/>
                <a:ext cx="346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52480" y="373392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876920"/>
                <a:ext cx="362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3" name="mono02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5469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3800" y="49528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8" name="mono03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405480" cy="539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485460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aso en el cual               se tiene el siguiente modelo de rea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al se puede integrar para obten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30480" y="8380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1619280"/>
                <a:ext cx="1874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3048120"/>
                <a:ext cx="1792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es posible pensar en reacciones en serie compuestas de más de un paso. Uno de los casos más simples es el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do con el procedimiento indicado anteriormente, supongamos que se tienen las siguientes reacciones simples 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integrar considerando que inicialmente existe un contenido del compuesto A igual a          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828800"/>
                <a:ext cx="1854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342900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05320" y="4549680"/>
                <a:ext cx="425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81280" y="5181480"/>
                <a:ext cx="2040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notar que se forma por la descomposi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pierde por su transformación a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reemplazamos la expresión par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que se puede resolver considerando que par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 se tiene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 . 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52680" y="1847880"/>
                <a:ext cx="2486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87480" y="3232080"/>
                <a:ext cx="368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5080" y="4321080"/>
                <a:ext cx="4255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876920"/>
                <a:ext cx="36986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267080" y="5694480"/>
                <a:ext cx="673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variación d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 realizamos un balance de ma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nulas, mientras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. En todo tiempo posterior la masa total se debe mantener, i.e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60880" y="2057400"/>
                <a:ext cx="425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798640" y="2951280"/>
                <a:ext cx="3602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4343400"/>
                <a:ext cx="1847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5120" y="5105520"/>
                <a:ext cx="57927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sumen se pued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1752480"/>
                <a:ext cx="1695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2724120"/>
                <a:ext cx="46386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021200"/>
                <a:ext cx="610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56" name="mono04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705360" cy="485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35600" y="3797280"/>
                <a:ext cx="80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61" name="mono05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6856200" cy="48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64400" y="3797280"/>
                <a:ext cx="750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BIOCHLOR simula la atenuación natural de solventes clorados, en un proceso de reacciones en serie como las estudiadas an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ecuencia de reacciones es l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uaciones que describen esta secuenc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17600" y="2590920"/>
                <a:ext cx="4824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T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D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VC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E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30760" y="3551400"/>
                <a:ext cx="15080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19640" y="4151160"/>
                <a:ext cx="2295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00560" y="4836960"/>
                <a:ext cx="2352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5600" y="5522760"/>
                <a:ext cx="2162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68560" y="6143760"/>
                <a:ext cx="141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una de las especies cloradas es modelada con una ecuación de Advección-Dispersión en 3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4720" y="1828800"/>
                <a:ext cx="6478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1600" y="2835360"/>
                <a:ext cx="7265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84120" y="3902040"/>
                <a:ext cx="7479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98760" y="4892760"/>
                <a:ext cx="678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19360" y="5807160"/>
                <a:ext cx="658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CHLOR está implementado en EX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salida típica su muestra en la figur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ono01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629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mono02" descr=""/>
          <p:cNvPicPr/>
          <p:nvPr/>
        </p:nvPicPr>
        <p:blipFill>
          <a:blip r:embed="rId2"/>
          <a:stretch/>
        </p:blipFill>
        <p:spPr>
          <a:xfrm>
            <a:off x="2825640" y="1066680"/>
            <a:ext cx="403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o03" descr=""/>
          <p:cNvPicPr/>
          <p:nvPr/>
        </p:nvPicPr>
        <p:blipFill>
          <a:blip r:embed="rId2"/>
          <a:srcRect l="0" t="0" r="0" b="45824"/>
          <a:stretch/>
        </p:blipFill>
        <p:spPr>
          <a:xfrm>
            <a:off x="1905120" y="1219320"/>
            <a:ext cx="6553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ono03" descr=""/>
          <p:cNvPicPr/>
          <p:nvPr/>
        </p:nvPicPr>
        <p:blipFill>
          <a:blip r:embed="rId2"/>
          <a:srcRect l="0" t="53522" r="0" b="0"/>
          <a:stretch/>
        </p:blipFill>
        <p:spPr>
          <a:xfrm>
            <a:off x="1905120" y="1447920"/>
            <a:ext cx="6553080" cy="4056120"/>
          </a:xfrm>
          <a:prstGeom prst="rect">
            <a:avLst/>
          </a:prstGeom>
          <a:ln w="0">
            <a:noFill/>
          </a:ln>
        </p:spPr>
      </p:pic>
      <p:pic>
        <p:nvPicPr>
          <p:cNvPr id="207" name="mono03" descr=""/>
          <p:cNvPicPr/>
          <p:nvPr/>
        </p:nvPicPr>
        <p:blipFill>
          <a:blip r:embed="rId3"/>
          <a:srcRect l="0" t="0" r="0" b="97148"/>
          <a:stretch/>
        </p:blipFill>
        <p:spPr>
          <a:xfrm>
            <a:off x="1905120" y="1219320"/>
            <a:ext cx="655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ono05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543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ono04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emos el siguiente caso de un reactante A que da origen a un produc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no existen otros reactantes y produ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anterior representa la estequiometría de una reacción irreversible en la cual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vierte en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ue el cambio en la concentración de los compuest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proporcional 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uponemos que inicialment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a nula, mientras que la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, podemos resolver la ecuación anterior para obten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36920" y="1676520"/>
                <a:ext cx="712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055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75000" y="5715000"/>
                <a:ext cx="407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2" name="mono01" descr=""/>
          <p:cNvPicPr/>
          <p:nvPr/>
        </p:nvPicPr>
        <p:blipFill>
          <a:blip r:embed="rId2"/>
          <a:stretch/>
        </p:blipFill>
        <p:spPr>
          <a:xfrm>
            <a:off x="1828800" y="1082520"/>
            <a:ext cx="6400800" cy="506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dos moléculas de tip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emos observar que a través del tiempo la siguiente reacción se lleva a cab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productos de la reacción entr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una molécula de A rodeada de muchas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probabilidad de que l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ccione con algun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ría proporcional a la cantidad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esentes en la solu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ahora un conjunto de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probabilidad de reacciones es proporcional al número total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la tasa de reacción es proporcional a la multiplicación de las concentracione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86200" y="1752480"/>
                <a:ext cx="1486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cenario da origen a la denominad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nética bimolecular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tica de segundo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nalizar estas ecuaciones supongamos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presenta la cantidad (en moles)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han reaccio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esta manera, si      y       representan las cantidades iniciales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. Se tiene además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1752480"/>
                <a:ext cx="32288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34084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94200" y="34066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424800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46680" y="424656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2000" y="5410080"/>
                <a:ext cx="246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3-08-19T08:20:06Z</dcterms:modified>
  <cp:revision>47</cp:revision>
  <dc:subject/>
  <dc:title>Sin título de diapositiva</dc:title>
</cp:coreProperties>
</file>