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097-4349-4874-AE38-70242B89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23FD-3460-434F-A725-49B828DF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3DC-4A34-44F0-87FF-908352D9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EE7-9C9D-45EC-AF8B-7C02450D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2FD-F13E-4E0F-A1A7-CA8296A6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28A-83BB-4800-A095-05DEDC55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118-A9FD-4EE1-8D4F-6016EE15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331-6855-4E99-875F-2158868B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AF1-0931-44E0-8C21-E7D17770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38E-8BC8-48AE-8392-2AF4C3A8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456-7A15-4D8A-AD60-173EC560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65C-967A-487E-B144-93D31013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C220-C27B-427D-A2D0-27032D99A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NETICA DE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OCH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ituyendo en la tasa de reacción bimodal se ob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cual puede ser integrado considerando que 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        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scribimos esta expresión en forma adimensional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1447920"/>
                <a:ext cx="2541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95480" y="2895480"/>
                <a:ext cx="346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52480" y="373392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19520" y="4876920"/>
                <a:ext cx="362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3" name="mono02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546960" cy="54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63800" y="49528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8" name="mono03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405480" cy="539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5480" y="485460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l caso en el cual               se tiene el siguiente modelo de rea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ual se puede integrar para obten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30480" y="8380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57600" y="1619280"/>
                <a:ext cx="18748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33920" y="3048120"/>
                <a:ext cx="1792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es posible pensar en reacciones en serie compuestas de más de un paso. Uno de los casos más simples es el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guiendo con el procedimiento indicado anteriormente, supongamos que se tienen las siguientes reacciones simples 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integrar considerando que inicialmente existe un contenido del compuesto A igual a          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828800"/>
                <a:ext cx="1854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B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3429000"/>
                <a:ext cx="1854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05320" y="4549680"/>
                <a:ext cx="4251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81280" y="5181480"/>
                <a:ext cx="2040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demos notar que se forma por la descomposi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e pierde por su transformación a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reemplazamos la expresión par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que se puede resolver considerando que par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 se tiene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 . 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352680" y="1847880"/>
                <a:ext cx="2486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87480" y="3232080"/>
                <a:ext cx="3689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75080" y="4321080"/>
                <a:ext cx="4255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19520" y="4876920"/>
                <a:ext cx="36986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267080" y="5694480"/>
                <a:ext cx="673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rminar la variación d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 realizamos un balance de ma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nulas, mientras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. En todo tiempo posterior la masa total se debe mantener, i.e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60880" y="2057400"/>
                <a:ext cx="425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798640" y="2951280"/>
                <a:ext cx="36021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4343400"/>
                <a:ext cx="1847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5120" y="5105520"/>
                <a:ext cx="57927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sumen se pued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33920" y="1752480"/>
                <a:ext cx="1695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0" y="2724120"/>
                <a:ext cx="46386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4021200"/>
                <a:ext cx="6103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56" name="mono04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6705360" cy="485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35600" y="3797280"/>
                <a:ext cx="809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61" name="mono05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6856200" cy="486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764400" y="3797280"/>
                <a:ext cx="750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BIOCHLOR simula la atenuación natural de solventes clorados, en un proceso de reacciones en serie como las estudiadas anterior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ecuencia de reacciones es l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cuaciones que describen esta secuenc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17600" y="2590920"/>
                <a:ext cx="4824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T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D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VC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E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30760" y="3551400"/>
                <a:ext cx="15080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19640" y="4151160"/>
                <a:ext cx="2295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00560" y="4836960"/>
                <a:ext cx="2352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95600" y="5522760"/>
                <a:ext cx="2162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868560" y="6143760"/>
                <a:ext cx="1416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una de las especies cloradas es modelada con una ecuación de Advección-Dispersión en 3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74720" y="1828800"/>
                <a:ext cx="6478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71600" y="2835360"/>
                <a:ext cx="7265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284120" y="3902040"/>
                <a:ext cx="7479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98760" y="4892760"/>
                <a:ext cx="678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19360" y="5807160"/>
                <a:ext cx="658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CHLOR está implementado en EX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salida típica su muestra en la figur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mono01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6294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mono02" descr=""/>
          <p:cNvPicPr/>
          <p:nvPr/>
        </p:nvPicPr>
        <p:blipFill>
          <a:blip r:embed="rId2"/>
          <a:stretch/>
        </p:blipFill>
        <p:spPr>
          <a:xfrm>
            <a:off x="2825640" y="1066680"/>
            <a:ext cx="403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mono03" descr=""/>
          <p:cNvPicPr/>
          <p:nvPr/>
        </p:nvPicPr>
        <p:blipFill>
          <a:blip r:embed="rId2"/>
          <a:srcRect l="0" t="0" r="0" b="45824"/>
          <a:stretch/>
        </p:blipFill>
        <p:spPr>
          <a:xfrm>
            <a:off x="1905120" y="1219320"/>
            <a:ext cx="6553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ono03" descr=""/>
          <p:cNvPicPr/>
          <p:nvPr/>
        </p:nvPicPr>
        <p:blipFill>
          <a:blip r:embed="rId2"/>
          <a:srcRect l="0" t="53522" r="0" b="0"/>
          <a:stretch/>
        </p:blipFill>
        <p:spPr>
          <a:xfrm>
            <a:off x="1905120" y="1447920"/>
            <a:ext cx="6553080" cy="4056120"/>
          </a:xfrm>
          <a:prstGeom prst="rect">
            <a:avLst/>
          </a:prstGeom>
          <a:ln w="0">
            <a:noFill/>
          </a:ln>
        </p:spPr>
      </p:pic>
      <p:pic>
        <p:nvPicPr>
          <p:cNvPr id="207" name="mono03" descr=""/>
          <p:cNvPicPr/>
          <p:nvPr/>
        </p:nvPicPr>
        <p:blipFill>
          <a:blip r:embed="rId3"/>
          <a:srcRect l="0" t="0" r="0" b="97148"/>
          <a:stretch/>
        </p:blipFill>
        <p:spPr>
          <a:xfrm>
            <a:off x="1905120" y="1219320"/>
            <a:ext cx="655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mono05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5438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mono04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55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emos el siguiente caso de un reactante A que da origen a un produc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no existen otros reactantes y produ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anterior representa la estequiometría de una reacción irreversible en la cual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convierte en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que el cambio en la concentración de los compuesto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proporcional 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uponemos que inicialment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a nula, mientras que la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, podemos resolver la ecuación anterior para obtener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36920" y="1676520"/>
                <a:ext cx="712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909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055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475000" y="5715000"/>
                <a:ext cx="4078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2" name="mono01" descr=""/>
          <p:cNvPicPr/>
          <p:nvPr/>
        </p:nvPicPr>
        <p:blipFill>
          <a:blip r:embed="rId2"/>
          <a:stretch/>
        </p:blipFill>
        <p:spPr>
          <a:xfrm>
            <a:off x="1828800" y="1082520"/>
            <a:ext cx="6400800" cy="506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86000"/>
            <a:ext cx="7467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dos moléculas de tip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demos observar que a través del tiempo la siguiente reacción se lleva a cab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los productos de la reacción entr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una molécula de A rodeada de muchas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probabilidad de que l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ccione con algun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ría proporcional a la cantidad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esentes en la solu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ahora un conjunto de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probabilidad de reacciones es proporcional al número total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decir, la tasa de reacción es proporcional a la multiplicación de las concentracione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86200" y="1752480"/>
                <a:ext cx="1486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escenario da origen a la denominad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inética bimolecular 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ética de segundo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nalizar estas ecuaciones supongamos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presenta la cantidad (en moles)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han reaccion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esta manera, si      y       representan las cantidades iniciales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. Se tiene además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8120" y="1752480"/>
                <a:ext cx="32288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08400" y="34084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94200" y="34066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19520" y="424800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46680" y="424656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02000" y="5410080"/>
                <a:ext cx="2465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3-08-19T08:20:06Z</dcterms:modified>
  <cp:revision>47</cp:revision>
  <dc:subject/>
  <dc:title>Sin título de diapositiva</dc:title>
</cp:coreProperties>
</file>