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AD8-7F33-414D-88E2-C2D7B377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858-6C45-4272-93B1-0F62624B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6E1-B1CE-42E0-8C2E-7913F4E6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40A-A531-4CF3-8AFB-37A67848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B0B-4B1E-4EDE-9AB1-97E53D6D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E41-E558-4D8F-8E52-4870F757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683-A59A-419D-A65D-139C1372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068-7328-472D-B142-56BBE44A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571-C598-4FBA-838A-98D962E6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5FF-8759-4820-A87C-16B01B0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0FF-DE19-48F5-B7CE-6C708D3F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391-FF8B-4031-8FF6-AA77616C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D718-AE8F-4FE9-A9BC-AB8D9DE3D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o2%20copia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487692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grantes:  Bárbara Astud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uricio C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audia Mel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drigo Me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153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i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0492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371600"/>
            <a:ext cx="8153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RESOLU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istancia mínima entre dos puntos próximos que pueden verse separad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Ojo humano no puede ver separados dos puntos cuando su distancia es menor a una décima de milímet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óptico, el poder separador máximo es de 0,2 décimas de mic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electrónico, el poder separador llega hasta 10 ángstrom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8359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DEFINI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Se refiere a la nitidez de las imágenes obtenidas, sobre todo respecto a sus contorn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AUMENTO DE MICROSCOP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Relación entre el diámetro aparente de la imagen y el diámetro o longitud del objet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aumenta 100 diámetros un objeto, la imagen que estamos viendo es 100 veces mayor que el tamaño real del obje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371600"/>
            <a:ext cx="8335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máximo de 0,2 m , con lo que un objeto puede ser ampliado un máximo de 1500 veces, permitiendo así la observación de células viv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de 100 Å (1Å = 10−10m), ampliando un objeto hasta 250.000 veces, que mediante tratamiento óptico ó digital puede llegar hasta el millón de aumentos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5122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entro de los microscopios eléctricos, el que posee mayor poder de ampliar los objetos es el Microscopio Electrónico de Transmisió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ueden aumentar un objeto hasta un milló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l Microscopio Electrónico de Barrido puede amplia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los objetos 100.000 veces o más , y además puede produci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imágenes tridimension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0948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 Características físicas del microscop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05120"/>
            <a:ext cx="7848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MECÁN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movimiento para el enfoqu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aumento de las imágenes que se   observan a través de ell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DE 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ansmite y regula la cantidad de luz necesaria para efectuar la observación a través del microscop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4240" y="380880"/>
            <a:ext cx="145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0" y="2514600"/>
            <a:ext cx="122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BRAZ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1160" y="1447920"/>
            <a:ext cx="184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198108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3040" y="1295280"/>
            <a:ext cx="10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2200" y="3505320"/>
            <a:ext cx="184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A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9040" y="4267080"/>
            <a:ext cx="178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I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2360" y="5867280"/>
            <a:ext cx="668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680" y="3429000"/>
            <a:ext cx="1499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3280" y="4572000"/>
            <a:ext cx="1024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OC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7600" y="4114800"/>
            <a:ext cx="247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172200" y="624852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3794"/>
                </a:moveTo>
                <a:lnTo>
                  <a:pt x="59642" y="10800"/>
                </a:lnTo>
                <a:lnTo>
                  <a:pt x="4562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0" y="6248520"/>
            <a:ext cx="3200400" cy="609480"/>
          </a:xfrm>
          <a:custGeom>
            <a:avLst/>
            <a:gdLst>
              <a:gd name="textAreaLeft" fmla="*/ 39240 w 3200400"/>
              <a:gd name="textAreaRight" fmla="*/ 3161160 w 3200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3368" h="21600">
                <a:moveTo>
                  <a:pt x="0" y="0"/>
                </a:moveTo>
                <a:lnTo>
                  <a:pt x="113368" y="0"/>
                </a:lnTo>
                <a:lnTo>
                  <a:pt x="113368" y="21600"/>
                </a:lnTo>
                <a:lnTo>
                  <a:pt x="0" y="21600"/>
                </a:lnTo>
                <a:close/>
              </a:path>
              <a:path fill="lightenLess" w="113368" h="21600">
                <a:moveTo>
                  <a:pt x="0" y="0"/>
                </a:moveTo>
                <a:lnTo>
                  <a:pt x="113368" y="0"/>
                </a:lnTo>
                <a:lnTo>
                  <a:pt x="111968" y="1400"/>
                </a:lnTo>
                <a:lnTo>
                  <a:pt x="1400" y="1400"/>
                </a:lnTo>
                <a:close/>
              </a:path>
              <a:path fill="darken" w="113368" h="21600">
                <a:moveTo>
                  <a:pt x="113368" y="0"/>
                </a:moveTo>
                <a:lnTo>
                  <a:pt x="113368" y="21600"/>
                </a:lnTo>
                <a:lnTo>
                  <a:pt x="111968" y="20200"/>
                </a:lnTo>
                <a:lnTo>
                  <a:pt x="111968" y="1400"/>
                </a:lnTo>
                <a:close/>
              </a:path>
              <a:path fill="darkenLess" w="113368" h="21600">
                <a:moveTo>
                  <a:pt x="1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8" y="20200"/>
                </a:lnTo>
                <a:close/>
              </a:path>
              <a:path fill="lighten" w="1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68" h="21600">
                <a:moveTo>
                  <a:pt x="49678" y="3794"/>
                </a:moveTo>
                <a:lnTo>
                  <a:pt x="63691" y="10800"/>
                </a:lnTo>
                <a:lnTo>
                  <a:pt x="49678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1600" y="5637240"/>
            <a:ext cx="212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REGULADOR DE L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INTENSIDAD DE LU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200400" y="6248520"/>
            <a:ext cx="3048120" cy="609480"/>
          </a:xfrm>
          <a:custGeom>
            <a:avLst/>
            <a:gdLst>
              <a:gd name="textAreaLeft" fmla="*/ 39240 w 3048120"/>
              <a:gd name="textAreaRight" fmla="*/ 3008880 w 3048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7974" h="21600">
                <a:moveTo>
                  <a:pt x="0" y="0"/>
                </a:moveTo>
                <a:lnTo>
                  <a:pt x="107974" y="0"/>
                </a:lnTo>
                <a:lnTo>
                  <a:pt x="107974" y="21600"/>
                </a:lnTo>
                <a:lnTo>
                  <a:pt x="0" y="21600"/>
                </a:lnTo>
                <a:close/>
              </a:path>
              <a:path fill="lightenLess" w="107974" h="21600">
                <a:moveTo>
                  <a:pt x="0" y="0"/>
                </a:moveTo>
                <a:lnTo>
                  <a:pt x="107974" y="0"/>
                </a:lnTo>
                <a:lnTo>
                  <a:pt x="106574" y="1400"/>
                </a:lnTo>
                <a:lnTo>
                  <a:pt x="1400" y="1400"/>
                </a:lnTo>
                <a:close/>
              </a:path>
              <a:path fill="darken" w="107974" h="21600">
                <a:moveTo>
                  <a:pt x="107974" y="0"/>
                </a:moveTo>
                <a:lnTo>
                  <a:pt x="107974" y="21600"/>
                </a:lnTo>
                <a:lnTo>
                  <a:pt x="106574" y="20200"/>
                </a:lnTo>
                <a:lnTo>
                  <a:pt x="106574" y="1400"/>
                </a:lnTo>
                <a:close/>
              </a:path>
              <a:path fill="darkenLess" w="107974" h="21600">
                <a:moveTo>
                  <a:pt x="107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4" y="20200"/>
                </a:lnTo>
                <a:close/>
              </a:path>
              <a:path fill="lighten" w="107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74" h="21600">
                <a:moveTo>
                  <a:pt x="46981" y="3794"/>
                </a:moveTo>
                <a:lnTo>
                  <a:pt x="60994" y="10800"/>
                </a:lnTo>
                <a:lnTo>
                  <a:pt x="4698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2590920"/>
            <a:ext cx="1255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640" y="294804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TAOBJE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6920" y="1295280"/>
            <a:ext cx="801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: Constituye la base sobre la que se apoya el microscopi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1905120"/>
            <a:ext cx="6439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: Une el lente ocular con el lente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" y="2438280"/>
            <a:ext cx="7905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: Es una pieza giratoria provista de orificios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os cuales  se enroscan los objetivo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560" y="3276720"/>
            <a:ext cx="8117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: Es una pieza metálica plana en la que se coloca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 u objeto que se va a observa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360" y="4648320"/>
            <a:ext cx="7475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ACROMÉTRICO: Girando este tornillo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sciende o desciende el tubo del microscopio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920" y="5562720"/>
            <a:ext cx="8499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ICROMERICO: Permite movimientos finos pa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enfoque definitivo de la muestra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1 Sistema Mecán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638680" y="6272280"/>
            <a:ext cx="3505320" cy="585720"/>
          </a:xfrm>
          <a:custGeom>
            <a:avLst/>
            <a:gdLst>
              <a:gd name="textAreaLeft" fmla="*/ 37800 w 3505320"/>
              <a:gd name="textAreaRight" fmla="*/ 3467520 w 35053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129202" h="21600">
                <a:moveTo>
                  <a:pt x="0" y="0"/>
                </a:moveTo>
                <a:lnTo>
                  <a:pt x="129202" y="0"/>
                </a:lnTo>
                <a:lnTo>
                  <a:pt x="129202" y="21600"/>
                </a:lnTo>
                <a:lnTo>
                  <a:pt x="0" y="21600"/>
                </a:lnTo>
                <a:close/>
              </a:path>
              <a:path fill="lightenLess" w="129202" h="21600">
                <a:moveTo>
                  <a:pt x="0" y="0"/>
                </a:moveTo>
                <a:lnTo>
                  <a:pt x="129202" y="0"/>
                </a:lnTo>
                <a:lnTo>
                  <a:pt x="127802" y="1400"/>
                </a:lnTo>
                <a:lnTo>
                  <a:pt x="1400" y="1400"/>
                </a:lnTo>
                <a:close/>
              </a:path>
              <a:path fill="darken" w="129202" h="21600">
                <a:moveTo>
                  <a:pt x="129202" y="0"/>
                </a:moveTo>
                <a:lnTo>
                  <a:pt x="129202" y="21600"/>
                </a:lnTo>
                <a:lnTo>
                  <a:pt x="127802" y="20200"/>
                </a:lnTo>
                <a:lnTo>
                  <a:pt x="127802" y="1400"/>
                </a:lnTo>
                <a:close/>
              </a:path>
              <a:path fill="darkenLess" w="129202" h="21600">
                <a:moveTo>
                  <a:pt x="129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802" y="20200"/>
                </a:lnTo>
                <a:close/>
              </a:path>
              <a:path fill="lighten" w="129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202" h="21600">
                <a:moveTo>
                  <a:pt x="57595" y="10800"/>
                </a:moveTo>
                <a:lnTo>
                  <a:pt x="71607" y="3794"/>
                </a:lnTo>
                <a:lnTo>
                  <a:pt x="71607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4114800"/>
            <a:ext cx="4511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: Sujetan el portaobje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2 Sistema Ópt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080" y="1295280"/>
            <a:ext cx="7678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CULAR: Permiten aumentar al objeto y van en la par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perior del tub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40" y="2209680"/>
            <a:ext cx="852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en aumento de las imágenes de los objet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se encuentran cerca de la preparación que se exami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720" y="3200400"/>
            <a:ext cx="7020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UTILIZADOS GENERALME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DE DOS TIP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320" y="4191120"/>
            <a:ext cx="847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secos se utilizan sin necesidad de colocar susta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 entre ellos y la preparació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960" y="5029200"/>
            <a:ext cx="8504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de inmersión. Para observar a través de este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colocar una gota de aceite de cedro entre el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 preparación, de manera que la lente frontal entre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o con el aceite de cedro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5791320" y="624204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320" y="1371600"/>
            <a:ext cx="7470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SPEJO: Tiene dos caras: una cóncava y otra pla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amente se prescinde del espejo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a cambio de un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de luz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720" y="2819520"/>
            <a:ext cx="78627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: Está formado por un sistema de lentes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uya finalidad es concentrar los rayos luminosos sob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plano de la preparación.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6200" y="4191120"/>
            <a:ext cx="8256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: Generalmente está provisto de u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-iris, que regula su abertura y controla la calidad 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uz que debe pasar a través del condensador.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3 Sistema Ilumina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791320" y="624852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 Funcionamiento del microscopio 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6160" y="1600200"/>
            <a:ext cx="8056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AMPLIFICACIÓN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Óptico: Lentes Objetivo y 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DER DE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ermite la “definición”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de Iluminación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0492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Temas a desarrollar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040" y="1905120"/>
            <a:ext cx="41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Tipos de microscop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000" y="2819520"/>
            <a:ext cx="715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Limitaciones de los tipos de microscopi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oder de resolu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6600" y="4114800"/>
            <a:ext cx="754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Características físicas del 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2640" y="5181480"/>
            <a:ext cx="610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Descripción del funcionamiento d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Amplificación de la imag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2400" y="1523880"/>
            <a:ext cx="185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MA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0" y="4038480"/>
            <a:ext cx="155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819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051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4080" y="175248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3080" y="4038480"/>
            <a:ext cx="18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7160" y="28954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luz2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622760" cy="4483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78760" y="21337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MA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4360" y="2743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73080" y="4724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4840" y="548640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ACTE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Poder de Resolu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0320" y="1295280"/>
            <a:ext cx="8613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Capacidad de mostrar de forma distinta y separ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dos puntos muy cercan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oder resolutivo de un microscopio compuesto depen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ongitud de onda utilizada y de una propiedad óp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ente conocida como apertura numérica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el aire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apertura numérica nunca será mayor de 1,0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un acei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mersión, se obtienen aperturas numéricas entre 1,2 y 1,4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un microscopio tiene un poder de resolución de 0,25 µm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gnifica que las partículas con un tamaño más pequeñ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 0,25 µm no pueden distinguirse unas de otr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Ilumin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3840" y="1371600"/>
            <a:ext cx="4730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luz que proviene de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luminosa es dirigida hacia 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preparación por medio del espej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1240" y="2743200"/>
            <a:ext cx="4534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ntes de llegar el haz de luz a l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, este será concent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condensador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760" y="4114800"/>
            <a:ext cx="456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diafragma permitirá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ar el tamaño del cono de lu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que llegará al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uz3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886200" cy="4952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774200" y="472428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760" y="3429000"/>
            <a:ext cx="137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1828800"/>
            <a:ext cx="13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0" y="5791320"/>
            <a:ext cx="30492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866920" y="5791320"/>
            <a:ext cx="38124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4419720"/>
            <a:ext cx="2286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866920" y="4419720"/>
            <a:ext cx="30492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705720" y="3048120"/>
            <a:ext cx="380880" cy="9144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3048120"/>
            <a:ext cx="4572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95680" y="37339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.Tipos de Microscopio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4440" y="1617840"/>
            <a:ext cx="309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590920"/>
            <a:ext cx="5715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ple: Una lente, pequeña, convex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ompuesto: Dos sistemas de lentes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(objetivo y ocula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virtual aument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295280"/>
          <a:ext cx="337032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33703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3400" y="146520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09680"/>
            <a:ext cx="7238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Luz Ultravioleta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ejora el detalle y se aumenta la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mentos Ópticos de Cuarzo, Fluorita, Espejos Aluminiz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Investigación Científ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200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057400"/>
            <a:ext cx="6248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trográfic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dentificar componentes de rocas ígneas y metamórf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risma que polariza la lu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etrografico" descr=""/>
          <p:cNvPicPr/>
          <p:nvPr/>
        </p:nvPicPr>
        <p:blipFill>
          <a:blip r:embed="rId2"/>
          <a:stretch/>
        </p:blipFill>
        <p:spPr>
          <a:xfrm>
            <a:off x="-990720" y="3254400"/>
            <a:ext cx="54183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mls" descr=""/>
          <p:cNvPicPr/>
          <p:nvPr/>
        </p:nvPicPr>
        <p:blipFill>
          <a:blip r:embed="rId2"/>
          <a:stretch/>
        </p:blipFill>
        <p:spPr>
          <a:xfrm>
            <a:off x="6270480" y="1219320"/>
            <a:ext cx="287352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252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2209680"/>
            <a:ext cx="6642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Campo Oscur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uz intensa, concentr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Objetos analizados aparecen brillant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y el resto como fondo osc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ilar al de campo oscuro, menor intens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rmite analizar especies “transparente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análisis de tejidos viv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120" y="1219320"/>
            <a:ext cx="372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Electrón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8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transmi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Haz de electrones dirigido al objeto, zonas pequeñ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Aumento del objeto hasta 1 millo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ctrónico de Barrid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paz de analizar una mayor superficie del objeto a la ve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ectura a través de haz de electron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da punto es un pixel del monit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ágenes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66880" y="2286000"/>
          <a:ext cx="594360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286000"/>
                    <a:ext cx="594360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62120" y="1752480"/>
            <a:ext cx="609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 Electrónico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280" y="1219320"/>
            <a:ext cx="484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de Sonda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960" y="1981080"/>
            <a:ext cx="8353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Efecto Túne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recorre superficie mediante sonda, aplicación de voltaj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genera corriente que permite visualizar ondu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uerza Atóm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 y no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nda, no emplea corriente de efecto tún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Funcionamiento simi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288200" y="4572000"/>
          <a:ext cx="185580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8200" y="4572000"/>
                    <a:ext cx="18558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7:50Z</dcterms:created>
  <dc:creator>Mcartes</dc:creator>
  <dc:description/>
  <dc:language>en-US</dc:language>
  <cp:lastModifiedBy>Mcartes</cp:lastModifiedBy>
  <dcterms:modified xsi:type="dcterms:W3CDTF">2004-08-26T07:12:36Z</dcterms:modified>
  <cp:revision>43</cp:revision>
  <dc:subject/>
  <dc:title>Microscopio  y  Microscopía</dc:title>
</cp:coreProperties>
</file>