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B74-3A1F-4AA4-89E8-724E1B39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80B-0927-47D6-B400-B4BE4231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447-6585-46ED-8F88-3438909B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0B8-9467-4277-8C08-FF591555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033-B31F-410B-A0A8-7C151709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B3A-AEE0-4538-9541-C370F610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4FE-E2FC-4AB8-B846-6D630BE6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AF0-37F3-4C78-AE62-4D348633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294-738F-4745-A65E-EAD59509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B92-94CB-4604-8143-7A5C68C5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80B-BAE8-4566-956B-6487AEA0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CCF-A181-4600-B5F6-BD27163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3D37-B357-4A03-A195-46D78D09F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343400" y="685800"/>
          <a:ext cx="4495680" cy="335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685800"/>
                    <a:ext cx="449568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igestión An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gestión 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2004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gestor%20anaerobio" descr=""/>
          <p:cNvPicPr/>
          <p:nvPr/>
        </p:nvPicPr>
        <p:blipFill>
          <a:blip r:embed="rId3"/>
          <a:stretch/>
        </p:blipFill>
        <p:spPr>
          <a:xfrm>
            <a:off x="4419720" y="4444920"/>
            <a:ext cx="4419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es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ceso más lento que la digestión aeróbica (30-45 dí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de operación compleja por ser muy sensible a los tóx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sta en marcha requiere un largo período de aclima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os residuos son fermentados exclusivamente por bacterias, anaerobias facultativas y estrictas, en 3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)  Hidr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) Síntesis de ácidos orgánicos de bajo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i) Producción de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Las dos primeras etapas son conocidas como “no metanogénicas” y la última como “metano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sorcio de bacterias anaerobias que inter actúan sinergísticamente en 3 (4) etapa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acterias (1) Hidrolíticas, (2) Fermentativas Acidogénicas, (3) Acetogénicas, (4) Metanóg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ducto fi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teria orgánica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N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2f17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Factores que controlan la Digestión Anaeróbica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iempo de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osición Química del agua serv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etencia de las bacterias metanógenas con las sulfato redu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óxicos: 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amonio, hidrocarburos clorados, ácidos volátiles, metales pesados, cianuros, sulfuros, taninos, salinidad,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133720"/>
            <a:ext cx="79246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Hidrólisis bacteriana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teria orgánica compl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i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ermentación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nóm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cetogénica bacteriana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Glucosa, Aminoácidos, Acidos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acterias acetogénicas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Acidos orgánicos, Alcoholes y Cet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Acetato y CO2 + 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(iii)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Metanógen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Metano, CO2, H2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cc66"/>
                </a:solidFill>
                <a:latin typeface="Arial"/>
              </a:rPr>
              <a:t>(i y ii)  Etapas No metanogénica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ff9900"/>
                </a:solidFill>
                <a:latin typeface="Arial"/>
              </a:rPr>
              <a:t>(iii)    Etapa metanogé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63120" y="2286000"/>
            <a:ext cx="0" cy="26668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4495680"/>
            <a:ext cx="72392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066320" y="2209680"/>
            <a:ext cx="76964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09680"/>
            <a:ext cx="0" cy="2286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4956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5029200"/>
            <a:ext cx="72392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1. Hidrólisis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 Alta concentración de bacterias anaerobias facultativas “proteolíticas”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- 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, de los géneros </a:t>
            </a:r>
            <a:r>
              <a:rPr b="0" i="1" lang="es-ES_tradnl" sz="2200" spc="-1" strike="noStrike">
                <a:solidFill>
                  <a:srgbClr val="ffffff"/>
                </a:solidFill>
                <a:latin typeface="Comic Sans MS"/>
              </a:rPr>
              <a:t>Clostridium, Bacteriodes,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y algunas formas cocáceas que generan proteasas extracelulares que hidrolizan las proteínas en polipéptidos y aminoácidos, los que posteriormente son asimilados al interior de la célu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xisten también bacterias lipolíticas anaerobi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hidrolizan los lípidos a ácidos grasos orgánicos de cadena co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Bacterias celulolíticas anaerobias estrict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degradan la celulosas y hemicelulosa a almid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stas asociaciones bacterianas se conocen por su funcionalidad, ya que son difíciles de aislar y cultivar por métodos convenci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2. Formación de ácidos orgánicos. 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En esta etapa se produce un gran incremento de bacterias anaerobias estrictas no metanogénicas (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De taxonomía compleja y poco conocida (bacilos gram negativos no esporu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Productos de su metabolismo son variados: ácidos orgánicos, CO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, amoníaco, alcoholes, cetonas, H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Compuesto de vida media muy corta ya que son rápidamente recic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También se encuentran bacterias sulfato reductoras, que generan H2S, gas corrosiva, que tiene la ventaja de insolubilizar los met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Comic Sans MS"/>
              </a:rPr>
              <a:t>3. Generación de Metano.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Gran concentración de bacterias metanogénicas exclusivas (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- 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) anaerobias extrictas, del grupo de las Arqu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Usan como fuente de carbono C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, CH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OOH, HCO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on bacterias extremadamente sensibles a trazas de 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u fisiología poco conocid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íficiles de cultivar y ais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Requerimientos ambientales de desarrollo muy estri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Ver Tabla ane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Procesos Metabólicos de generación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ermentación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oxido-reducción de acid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3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-COOH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Respiración anaeróbica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de sustratos inorgánicos redu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4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cc3300"/>
                </a:solidFill>
                <a:latin typeface="Arial Narrow"/>
              </a:rPr>
              <a:t>     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2 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O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581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50292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%5BMethanobacterium%2520thermoautotrophicum%5D%2520%5BTGCTGCTGCTC%5D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76360" cy="3265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Bacterias Productoras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Bacterias ancestrales específicas de sus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etato : </a:t>
            </a: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se conocen solo 3 especies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barkeri, M. mazei,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soehngen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: 27 e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tros sustr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etanol 13, Metilaminas 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onóxido de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Carbono 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ormato 1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No usan 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3 espe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Introducción al 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876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Un lodo de aguas servidas es el producto de la decantación de los sólidos y está compuesto de lodos primarios y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sólidos totales bajo (1-2%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material biodegradable muy alto (DBO 10 g/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De ahí que el tratamiento aeróbico sea muy cost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Requisitos ambientales para el desarrollo de las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bacterias del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447920"/>
            <a:ext cx="7543800" cy="84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Oxígeno libre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pH óptimo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6.8 - 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Relación C:N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0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mperatura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sófilos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5-2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rmófilos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45 - 5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lcalinidad (CaCO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1500 - 3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cidos Volátiles (CH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OOH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tales pesados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d-Ni-Cu-Pb-Zn-Cr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41280" y="1295280"/>
          <a:ext cx="6419880" cy="4799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1295280"/>
                    <a:ext cx="6419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144440"/>
          <a:ext cx="7226280" cy="5408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4440"/>
                    <a:ext cx="722628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REMOCIÓN DE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cterias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orden mag.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 - 99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2 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tooz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.5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Tratamiento de Aguas Servidas en Chile*</a:t>
            </a: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Cobertura Nacional: 71,6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Plantas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oblació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 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1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8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I Región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7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V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82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9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66720" y="17521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   Plantas   Poblac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3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56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1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0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R. M.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   74,6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7848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638680"/>
            <a:ext cx="7772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0840" y="58672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Times New Roman"/>
              </a:rPr>
              <a:t>*SISS Dic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0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mposición de un Lodo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 -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BO5 mg/L-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00 - 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T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medad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5 -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V 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0 -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sas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5 -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Composición de un Lodo de aguas servidas </a:t>
            </a:r>
            <a:r>
              <a:rPr b="1" lang="es-ES_tradnl" sz="2800" spc="-1" strike="noStrike">
                <a:solidFill>
                  <a:srgbClr val="ffcc66"/>
                </a:solidFill>
                <a:latin typeface="Comic Sans MS"/>
              </a:rPr>
              <a:t>(peso se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teí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28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íp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olisacár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elulosa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4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emicelulos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3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igni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201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muy utilizado para estabilizar lodos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rresponde a una serie de procesos biológicos que transforman la materia orgánica en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y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reducen los sólidos volátiles entre 30% -  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Esquema de un Digestor Anaerób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digestor" descr=""/>
          <p:cNvPicPr/>
          <p:nvPr/>
        </p:nvPicPr>
        <p:blipFill>
          <a:blip r:embed="rId1"/>
          <a:stretch/>
        </p:blipFill>
        <p:spPr>
          <a:xfrm>
            <a:off x="2057400" y="1909800"/>
            <a:ext cx="5029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99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No se requiere oxígeno libre. Los organismos degradan la materia orgánica en usando el oxígeno combinado en e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Proceso menos costoso, no requiere suministro de O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ignificativa disminución del volumen del lodo estabilizado (3-20 veces menos que los procesos aeróbicos). 50% gas en proceso anaeróbic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5% del carbono orgánico es transformado en biomasa, en el aeróbico, el 50% pasa a biomas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minuye el volumen del lodo en un 40 - 50% por formación de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50 - 55%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40 - 45%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razas de 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produce un gas de alto poder calorífico METANO ( 9.000 kcal/m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 la D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epta altas cargas de DQO, es apta para R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erva la actividad microbiana ante operación dis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de degradar xenobióticos y orgánicos naturales recalcit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2:37:46Z</dcterms:created>
  <dc:creator>Gabriela Castillo</dc:creator>
  <dc:description/>
  <dc:language>en-US</dc:language>
  <cp:lastModifiedBy>Gabriela Castillo</cp:lastModifiedBy>
  <dcterms:modified xsi:type="dcterms:W3CDTF">2004-11-09T08:29:36Z</dcterms:modified>
  <cp:revision>8</cp:revision>
  <dc:subject/>
  <dc:title> Tratamiento de Lodos</dc:title>
</cp:coreProperties>
</file>