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4D8-205E-42A7-B8A9-C8A486B7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5AD-6E77-4BAE-91B2-B97E3241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C2E-6E5A-46D1-88C6-14E2BBC0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213-2B56-4721-AF50-9D1468EB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5A8-F765-449C-A93A-CB081999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2B2-4805-4849-A256-D63C031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1CA-BB8E-4823-858D-DD6DF340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142-3C25-4E7B-8EC7-2C589DDA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D04-3606-4B36-98C9-51610B24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F34-2BCE-4B28-93DE-9C398403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474-4FCC-407F-AB9B-59A7E252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BAB-0C9D-4A4F-ACF7-78A4017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84A-162C-4B15-9F73-9261894A0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685800"/>
          <a:ext cx="4495680" cy="335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85800"/>
                    <a:ext cx="44956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gestión An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gestión 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200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gestor%20anaerobio" descr=""/>
          <p:cNvPicPr/>
          <p:nvPr/>
        </p:nvPicPr>
        <p:blipFill>
          <a:blip r:embed="rId3"/>
          <a:stretch/>
        </p:blipFill>
        <p:spPr>
          <a:xfrm>
            <a:off x="4419720" y="4444920"/>
            <a:ext cx="4419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es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ceso más lento que la digestión aeróbica (30-45 dí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de operación compleja por ser muy sensible a los tóx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sta en marcha requiere un largo período de aclima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os residuos son fermentados exclusivamente por bacterias, anaerobias facultativas y estrictas, en 3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)  Hidr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) Síntesis de ácidos orgánicos de bajo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i) Producción de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Las dos primeras etapas son conocidas como “no metanogénicas” y la última como “metan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orcio de bacterias anaerobias que inter actúan sinergísticamente en 3 (4) etapa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cterias (1) Hidrolíticas, (2) Fermentativas Acidogénicas, (3) Acetogénicas, (4) Metanóg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ducto fi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teria orgánica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N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2f17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actores que controlan la Digestión Anaeróbica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iempo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osición Química del agua ser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etencia de las bacterias metanógenas con las sulfato re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óxicos: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amonio, hidrocarburos clorados, ácidos volátiles, metales pesados, cianuros, sulfuros, taninos, salinidad,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7924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Hidrólisis bacterian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teria orgánica compl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i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ermentación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nóm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cetogénica bacterian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lucosa, Aminoácidos, Acidos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cterias acetogénicas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Acidos orgánicos, Alcoholes y Ce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Acetato y CO2 + 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(iii)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Metanógen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Metano, CO2, 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cc66"/>
                </a:solidFill>
                <a:latin typeface="Arial"/>
              </a:rPr>
              <a:t>(i y ii)  Etapas No metanogénica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ff9900"/>
                </a:solidFill>
                <a:latin typeface="Arial"/>
              </a:rPr>
              <a:t>(iii)    Etapa metanogé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63120" y="2286000"/>
            <a:ext cx="0" cy="26668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95680"/>
            <a:ext cx="7239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66320" y="2209680"/>
            <a:ext cx="76964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0" cy="2286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1. Hidrólisis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 Alta concentración de bacterias anaerobias facultativas “proteolíticas”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- 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, de los géneros </a:t>
            </a:r>
            <a:r>
              <a:rPr b="0" i="1" lang="es-ES_tradnl" sz="2200" spc="-1" strike="noStrike">
                <a:solidFill>
                  <a:srgbClr val="ffffff"/>
                </a:solidFill>
                <a:latin typeface="Comic Sans MS"/>
              </a:rPr>
              <a:t>Clostridium, Bacteriodes,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y algunas formas cocáceas que generan proteasas extracelulares que hidrolizan las proteínas en polipéptidos y aminoácidos, los que posteriormente son asimilados al interior de la cél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xisten también bacterias lipolíticas anaerobi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hidrolizan los lípidos a ácidos grasos orgánicos de cadena co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Bacterias celulolíticas anaerobias estrict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degradan la celulosas y hemicelulosa a almid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stas asociaciones bacterianas se conocen por su funcionalidad, ya que son difíciles de aislar y cultivar por métodos conven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2. Formación de ácidos orgánicos. 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En esta etapa se produce un gran incremento de bacterias anaerobias estrictas no metanogénicas (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De taxonomía compleja y poco conocida (bacilos gram negativos no esporu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Productos de su metabolismo son variados: ácidos orgánicos, CO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, amoníaco, alcoholes, cetonas, H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Compuesto de vida media muy corta ya que son rápidamente recic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También se encuentran bacterias sulfato reductoras, que generan H2S, gas corrosiva, que tiene la ventaja de insolubilizar los met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3. Generación de Metano.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Gran concentración de bacterias metanogénicas exclusivas (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- 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) anaerobias extrictas, del grupo de las Arqu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Usan como fuente de carbono C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, CH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OOH, H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on bacterias extremadamente sensibles a trazas de 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u fisiología poco conocid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íficiles de cultivar y ais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Requerimientos ambientales de desarrollo muy estri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Ver Tabla a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Procesos Metabólicos de generación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ermentación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oxido-reducción de acid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3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-COOH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Respiración anaeróbica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de sustratos inorgánicos redu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4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cc3300"/>
                </a:solidFill>
                <a:latin typeface="Arial Narrow"/>
              </a:rPr>
              <a:t>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2 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O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581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%5BMethanobacterium%2520thermoautotrophicum%5D%2520%5BTGCTGCTGCTC%5D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7636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Bacterias Productoras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Bacterias ancestrales específicas de sus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etato : </a:t>
            </a: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se conocen solo 3 especies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barkeri, M. mazei,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soehnge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: 27 e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tros sustr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etanol 13, Metilaminas 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onóxido de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Carbono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ormato 1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o usan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3 espe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Introducción al 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Un lodo de aguas servidas es el producto de la decantación de los sólidos y está compuesto de lodos primarios y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sólidos totales bajo (1-2%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material biodegradable muy alto (DBO 10 g/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e ahí que el tratamiento aeróbico sea muy cost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Requisitos ambientales para el desarrollo de las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bacterias del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543800" cy="84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Oxígeno libre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pH óptimo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6.8 -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Relación C:N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0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mperatura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sófilos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5-2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rmófilos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45 - 5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lcalinidad (CaCO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1500 - 3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cidos Volátiles (CH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OOH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tales pesados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d-Ni-Cu-Pb-Zn-Cr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41280" y="1295280"/>
          <a:ext cx="6419880" cy="479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295280"/>
                    <a:ext cx="6419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144440"/>
          <a:ext cx="7226280" cy="540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4440"/>
                    <a:ext cx="722628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MOCIÓN DE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cteria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orden mag.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 - 99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2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tooz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.5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ratamiento de Aguas Servidas en Chile*</a:t>
            </a: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Cobertura Nacional: 71,6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Plantas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oblació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 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1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I Región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7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V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82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9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   Plantas   Poblac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3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5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1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0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R. M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 74,6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63868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840" y="5867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*SISS Dic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0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mposición de un Lodo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 -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BO5 mg/L-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- 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T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medad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5 -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V 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0 -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sas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5 -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mposición de un Lodo de aguas servidas </a:t>
            </a: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(peso se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28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íp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lisacár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elulos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4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emicelulos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3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igni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muy utilizado para estabilizar lodos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esponde a una serie de procesos biológicos que transforman la materia orgánica en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ducen los sólidos volátiles entre 30% -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Esquema de un Digestor Anaerób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gestor" descr=""/>
          <p:cNvPicPr/>
          <p:nvPr/>
        </p:nvPicPr>
        <p:blipFill>
          <a:blip r:embed="rId1"/>
          <a:stretch/>
        </p:blipFill>
        <p:spPr>
          <a:xfrm>
            <a:off x="2057400" y="1909800"/>
            <a:ext cx="5029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No se requiere oxígeno libre. Los organismos degradan la materia orgánica en usando el oxígeno combinado en 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roceso menos costoso, no requiere suministro de O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ignificativa disminución del volumen del lodo estabilizado (3-20 veces menos que los procesos aeróbicos). 50% gas en proceso anaerób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5% del carbono orgánico es transformado en biomasa, en el aeróbico, el 50% pasa a biomas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el volumen del lodo en un 40 - 50% por formación d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50 - 55%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40 - 45%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razas de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produce un gas de alto poder calorífico METANO ( 9.000 kcal/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a D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epta altas cargas de DQO, es apta para R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rva la actividad microbiana ante operación dis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degradar xenobióticos y orgánicos naturale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2:37:46Z</dcterms:created>
  <dc:creator>Gabriela Castillo</dc:creator>
  <dc:description/>
  <dc:language>en-US</dc:language>
  <cp:lastModifiedBy>Gabriela Castillo</cp:lastModifiedBy>
  <dcterms:modified xsi:type="dcterms:W3CDTF">2004-11-09T08:29:36Z</dcterms:modified>
  <cp:revision>8</cp:revision>
  <dc:subject/>
  <dc:title> Tratamiento de Lodos</dc:title>
</cp:coreProperties>
</file>