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png" ContentType="image/pn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65AE2-45E0-4CD7-8C34-EBC5552FC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F6387-89D7-4189-A7DF-BC59D9FB5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14C35-AFB0-486F-8FCD-56B4CC95E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2911B-FEDC-4492-904F-32B32CB9F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3998D-20F8-44B8-81B0-06B26062A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55E81-DB6E-4FCA-B6C4-C87323955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3D74A-0F63-4E05-87E4-133A1F52A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62214-6486-4853-8145-CC4A2EFD5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2103C-39B9-4621-8874-DB87064EB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A5A82-EC32-4714-AA4B-FEC3E3DF9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16697-79AE-4CE0-AE01-D031E3521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C3AF1-6062-426A-B777-5A7FE25E0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A0BDC-15AE-498C-8BD3-5A0934FB7C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18.xml"/><Relationship Id="rId3" Type="http://schemas.openxmlformats.org/officeDocument/2006/relationships/slide" Target="slide16.xml"/><Relationship Id="rId4" Type="http://schemas.openxmlformats.org/officeDocument/2006/relationships/slide" Target="slide17.xml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5.xm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5.xml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5.xml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fondo2%20copiar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105520" y="4876920"/>
            <a:ext cx="34290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Integrantes:  Bárbara Astudil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Mauricio Car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Claudia Mell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Rodrigo Mez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228600"/>
            <a:ext cx="8153280" cy="420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000000"/>
                </a:solidFill>
                <a:latin typeface="Times New Roman"/>
              </a:rPr>
              <a:t>Microscopio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lang="es-ES" sz="60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1" lang="es-ES" sz="6000" spc="-1" strike="noStrike">
                <a:solidFill>
                  <a:srgbClr val="000000"/>
                </a:solidFill>
                <a:latin typeface="Times New Roman"/>
              </a:rPr>
              <a:t>Microscopía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533520" y="304920"/>
            <a:ext cx="87627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Times New Roman"/>
              </a:rPr>
              <a:t>2. Limitaciones de los tipos de  microscopios.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9480" y="1371600"/>
            <a:ext cx="8153640" cy="47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500" spc="-1" strike="noStrike">
                <a:solidFill>
                  <a:srgbClr val="000000"/>
                </a:solidFill>
                <a:latin typeface="Times New Roman"/>
              </a:rPr>
              <a:t>PODER DE RESOLUCIÓN: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2500" spc="-1" strike="noStrike">
                <a:solidFill>
                  <a:srgbClr val="000000"/>
                </a:solidFill>
                <a:latin typeface="Times New Roman"/>
              </a:rPr>
              <a:t>Distancia mínima entre dos puntos próximos que pueden verse separados.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2500" spc="-1" strike="noStrike">
                <a:solidFill>
                  <a:srgbClr val="000000"/>
                </a:solidFill>
                <a:latin typeface="Times New Roman"/>
              </a:rPr>
              <a:t>Ojo humano no puede ver separados dos puntos cuando su distancia es menor a una décima de milímetro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2500" spc="-1" strike="noStrike">
                <a:solidFill>
                  <a:srgbClr val="000000"/>
                </a:solidFill>
                <a:latin typeface="Times New Roman"/>
              </a:rPr>
              <a:t>Microscopio óptico, el poder separador máximo es de 0,2 décimas de micra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2500" spc="-1" strike="noStrike">
                <a:solidFill>
                  <a:srgbClr val="000000"/>
                </a:solidFill>
                <a:latin typeface="Times New Roman"/>
              </a:rPr>
              <a:t>Microscopio electrónico, el poder separador llega hasta 10 ángstrom.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80880" y="304920"/>
            <a:ext cx="8763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Times New Roman"/>
              </a:rPr>
              <a:t>2. Limitaciones de los tipos de  microscopios.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09480" y="1295280"/>
            <a:ext cx="8359920" cy="47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500" spc="-1" strike="noStrike">
                <a:solidFill>
                  <a:srgbClr val="000000"/>
                </a:solidFill>
                <a:latin typeface="Times New Roman"/>
              </a:rPr>
              <a:t>PODER DE DEFINICIÓN: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2500" spc="-1" strike="noStrike">
                <a:solidFill>
                  <a:srgbClr val="000000"/>
                </a:solidFill>
                <a:latin typeface="Times New Roman"/>
              </a:rPr>
              <a:t>Se refiere a la nitidez de las imágenes obtenidas, sobre todo respecto a sus contornos.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500" spc="-1" strike="noStrike">
                <a:solidFill>
                  <a:srgbClr val="000000"/>
                </a:solidFill>
                <a:latin typeface="Times New Roman"/>
              </a:rPr>
              <a:t>AUMENTO DE MICROSCOPIO: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2500" spc="-1" strike="noStrike">
                <a:solidFill>
                  <a:srgbClr val="000000"/>
                </a:solidFill>
                <a:latin typeface="Times New Roman"/>
              </a:rPr>
              <a:t>Relación entre el diámetro aparente de la imagen y el diámetro o longitud del objeto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2500" spc="-1" strike="noStrike">
                <a:solidFill>
                  <a:srgbClr val="000000"/>
                </a:solidFill>
                <a:latin typeface="Times New Roman"/>
              </a:rPr>
              <a:t>Microscopio aumenta 100 diámetros un objeto, la imagen que estamos viendo es 100 veces mayor que el tamaño real del objeto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80880" y="304920"/>
            <a:ext cx="8763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Times New Roman"/>
              </a:rPr>
              <a:t>2. Limitaciones de los tipos de  microscopios.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33520" y="1371600"/>
            <a:ext cx="8335800" cy="47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500" spc="-1" strike="noStrike">
                <a:solidFill>
                  <a:srgbClr val="000000"/>
                </a:solidFill>
                <a:latin typeface="Times New Roman"/>
              </a:rPr>
              <a:t>MICROSCOPIO ÓPTICO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2500" spc="-1" strike="noStrike">
                <a:solidFill>
                  <a:srgbClr val="000000"/>
                </a:solidFill>
                <a:latin typeface="Times New Roman"/>
              </a:rPr>
              <a:t>Poder de resolución máximo de 0,2 m , con lo que un objeto puede ser ampliado un máximo de 1500 veces, permitiendo así la observación de células vivas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500" spc="-1" strike="noStrike">
                <a:solidFill>
                  <a:srgbClr val="000000"/>
                </a:solidFill>
                <a:latin typeface="Times New Roman"/>
              </a:rPr>
              <a:t>MICROSCOPIO ELÉCTRICO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2500" spc="-1" strike="noStrike">
                <a:solidFill>
                  <a:srgbClr val="000000"/>
                </a:solidFill>
                <a:latin typeface="Times New Roman"/>
              </a:rPr>
              <a:t>Poder de resolución de 100 Å (1Å = 10−10m), ampliando un objeto hasta 250.000 veces, que mediante tratamiento óptico ó digital puede llegar hasta el millón de aumentos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80880" y="304920"/>
            <a:ext cx="8763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Times New Roman"/>
              </a:rPr>
              <a:t>2. Limitaciones de los tipos de  microscopios.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57200" y="1371600"/>
            <a:ext cx="8512200" cy="47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500" spc="-1" strike="noStrike">
                <a:solidFill>
                  <a:srgbClr val="000000"/>
                </a:solidFill>
                <a:latin typeface="Times New Roman"/>
              </a:rPr>
              <a:t>MICROSCOPIO ELÉCTRICO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000000"/>
                </a:solidFill>
                <a:latin typeface="Times New Roman"/>
              </a:rPr>
              <a:t>Dentro de los microscopios eléctricos, el que posee mayor poder de ampliar los objetos es el Microscopio Electrónico de Transmisión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2500" spc="-1" strike="noStrike">
                <a:solidFill>
                  <a:srgbClr val="000000"/>
                </a:solidFill>
                <a:latin typeface="Times New Roman"/>
              </a:rPr>
              <a:t>Pueden aumentar un objeto hasta un millón de vece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000000"/>
                </a:solidFill>
                <a:latin typeface="Times New Roman"/>
              </a:rPr>
              <a:t>El Microscopio Electrónico de Barrido puede ampliar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" sz="2500" spc="-1" strike="noStrike">
                <a:solidFill>
                  <a:srgbClr val="000000"/>
                </a:solidFill>
                <a:latin typeface="Times New Roman"/>
              </a:rPr>
              <a:t>los objetos 100.000 veces o más , y además puede producir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" sz="2500" spc="-1" strike="noStrike">
                <a:solidFill>
                  <a:srgbClr val="000000"/>
                </a:solidFill>
                <a:latin typeface="Times New Roman"/>
              </a:rPr>
              <a:t>imágenes tridimensionales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762120" y="609480"/>
            <a:ext cx="78483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Times New Roman"/>
              </a:rPr>
              <a:t>3. Características físicas del microscopio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3500" spc="-1" strike="noStrike">
                <a:solidFill>
                  <a:srgbClr val="000000"/>
                </a:solidFill>
                <a:latin typeface="Times New Roman"/>
              </a:rPr>
              <a:t>óptico.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33520" y="1905120"/>
            <a:ext cx="7848360" cy="42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SISTEMA MECÁNICO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Permite el movimiento para el enfoque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SISTEMA ÓPTICO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Permite el aumento de las imágenes que se   observan a través de ellas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SISTEMA DE ILUMINACIÓN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Transmite y regula la cantidad de luz necesaria para efectuar la observación a través del microscopio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524240" y="380880"/>
            <a:ext cx="145008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Arial"/>
              </a:rPr>
              <a:t>OCULAR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63200" y="2514600"/>
            <a:ext cx="122148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Arial"/>
              </a:rPr>
              <a:t>BRAZO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1160" y="1447920"/>
            <a:ext cx="18403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Arial"/>
              </a:rPr>
              <a:t>REVOLVER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707160" y="1981080"/>
            <a:ext cx="16923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Arial"/>
              </a:rPr>
              <a:t>OBJETIVO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373040" y="1295280"/>
            <a:ext cx="100980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Arial"/>
              </a:rPr>
              <a:t>TUBO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2200" y="3505320"/>
            <a:ext cx="184968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  <a:ea typeface="Arial"/>
              </a:rPr>
              <a:t>TORNILLO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  <a:ea typeface="Arial"/>
              </a:rPr>
              <a:t>MACROMÉTRICO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9040" y="4267080"/>
            <a:ext cx="17870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  <a:ea typeface="Arial"/>
              </a:rPr>
              <a:t>TORNILLO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  <a:ea typeface="Arial"/>
              </a:rPr>
              <a:t>MICROMÉTRICO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592360" y="5867280"/>
            <a:ext cx="6685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Arial"/>
              </a:rPr>
              <a:t>PIE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934680" y="3429000"/>
            <a:ext cx="14990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Arial"/>
              </a:rPr>
              <a:t>PLATINA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173280" y="4572000"/>
            <a:ext cx="10249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Arial"/>
              </a:rPr>
              <a:t>FOCO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37600" y="4114800"/>
            <a:ext cx="24757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Arial"/>
              </a:rPr>
              <a:t>CONDENSADOR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>
            <a:hlinkClick r:id="rId2" action="ppaction://hlinksldjump"/>
          </p:cNvPr>
          <p:cNvSpPr/>
          <p:nvPr/>
        </p:nvSpPr>
        <p:spPr>
          <a:xfrm>
            <a:off x="6172200" y="6248520"/>
            <a:ext cx="2971800" cy="609480"/>
          </a:xfrm>
          <a:custGeom>
            <a:avLst/>
            <a:gdLst>
              <a:gd name="textAreaLeft" fmla="*/ 39240 w 2971800"/>
              <a:gd name="textAreaRight" fmla="*/ 2932560 w 29718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105271" h="21600">
                <a:moveTo>
                  <a:pt x="0" y="0"/>
                </a:moveTo>
                <a:lnTo>
                  <a:pt x="105271" y="0"/>
                </a:lnTo>
                <a:lnTo>
                  <a:pt x="105271" y="21600"/>
                </a:lnTo>
                <a:lnTo>
                  <a:pt x="0" y="21600"/>
                </a:lnTo>
                <a:close/>
              </a:path>
              <a:path fill="lightenLess" w="105271" h="21600">
                <a:moveTo>
                  <a:pt x="0" y="0"/>
                </a:moveTo>
                <a:lnTo>
                  <a:pt x="105271" y="0"/>
                </a:lnTo>
                <a:lnTo>
                  <a:pt x="103871" y="1400"/>
                </a:lnTo>
                <a:lnTo>
                  <a:pt x="1400" y="1400"/>
                </a:lnTo>
                <a:close/>
              </a:path>
              <a:path fill="darken" w="105271" h="21600">
                <a:moveTo>
                  <a:pt x="105271" y="0"/>
                </a:moveTo>
                <a:lnTo>
                  <a:pt x="105271" y="21600"/>
                </a:lnTo>
                <a:lnTo>
                  <a:pt x="103871" y="20200"/>
                </a:lnTo>
                <a:lnTo>
                  <a:pt x="103871" y="1400"/>
                </a:lnTo>
                <a:close/>
              </a:path>
              <a:path fill="darkenLess" w="105271" h="21600">
                <a:moveTo>
                  <a:pt x="1052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3871" y="20200"/>
                </a:lnTo>
                <a:close/>
              </a:path>
              <a:path fill="lighten" w="1052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05271" h="21600">
                <a:moveTo>
                  <a:pt x="45629" y="3794"/>
                </a:moveTo>
                <a:lnTo>
                  <a:pt x="59642" y="10800"/>
                </a:lnTo>
                <a:lnTo>
                  <a:pt x="45629" y="17806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>
            <a:hlinkClick r:id="rId3" action="ppaction://hlinksldjump"/>
          </p:cNvPr>
          <p:cNvSpPr/>
          <p:nvPr/>
        </p:nvSpPr>
        <p:spPr>
          <a:xfrm>
            <a:off x="0" y="6248520"/>
            <a:ext cx="3200400" cy="609480"/>
          </a:xfrm>
          <a:custGeom>
            <a:avLst/>
            <a:gdLst>
              <a:gd name="textAreaLeft" fmla="*/ 39240 w 3200400"/>
              <a:gd name="textAreaRight" fmla="*/ 3161160 w 32004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113368" h="21600">
                <a:moveTo>
                  <a:pt x="0" y="0"/>
                </a:moveTo>
                <a:lnTo>
                  <a:pt x="113368" y="0"/>
                </a:lnTo>
                <a:lnTo>
                  <a:pt x="113368" y="21600"/>
                </a:lnTo>
                <a:lnTo>
                  <a:pt x="0" y="21600"/>
                </a:lnTo>
                <a:close/>
              </a:path>
              <a:path fill="lightenLess" w="113368" h="21600">
                <a:moveTo>
                  <a:pt x="0" y="0"/>
                </a:moveTo>
                <a:lnTo>
                  <a:pt x="113368" y="0"/>
                </a:lnTo>
                <a:lnTo>
                  <a:pt x="111968" y="1400"/>
                </a:lnTo>
                <a:lnTo>
                  <a:pt x="1400" y="1400"/>
                </a:lnTo>
                <a:close/>
              </a:path>
              <a:path fill="darken" w="113368" h="21600">
                <a:moveTo>
                  <a:pt x="113368" y="0"/>
                </a:moveTo>
                <a:lnTo>
                  <a:pt x="113368" y="21600"/>
                </a:lnTo>
                <a:lnTo>
                  <a:pt x="111968" y="20200"/>
                </a:lnTo>
                <a:lnTo>
                  <a:pt x="111968" y="1400"/>
                </a:lnTo>
                <a:close/>
              </a:path>
              <a:path fill="darkenLess" w="113368" h="21600">
                <a:moveTo>
                  <a:pt x="1133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1968" y="20200"/>
                </a:lnTo>
                <a:close/>
              </a:path>
              <a:path fill="lighten" w="1133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13368" h="21600">
                <a:moveTo>
                  <a:pt x="49678" y="3794"/>
                </a:moveTo>
                <a:lnTo>
                  <a:pt x="63691" y="10800"/>
                </a:lnTo>
                <a:lnTo>
                  <a:pt x="49678" y="17806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781600" y="5637240"/>
            <a:ext cx="2124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  <a:ea typeface="Arial"/>
              </a:rPr>
              <a:t>REGULADOR DE L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  <a:ea typeface="Arial"/>
              </a:rPr>
              <a:t>INTENSIDAD DE LUZ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>
            <a:hlinkClick r:id="rId4" action="ppaction://hlinksldjump"/>
          </p:cNvPr>
          <p:cNvSpPr/>
          <p:nvPr/>
        </p:nvSpPr>
        <p:spPr>
          <a:xfrm>
            <a:off x="3200400" y="6248520"/>
            <a:ext cx="3048120" cy="609480"/>
          </a:xfrm>
          <a:custGeom>
            <a:avLst/>
            <a:gdLst>
              <a:gd name="textAreaLeft" fmla="*/ 39240 w 3048120"/>
              <a:gd name="textAreaRight" fmla="*/ 3008880 w 30481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107974" h="21600">
                <a:moveTo>
                  <a:pt x="0" y="0"/>
                </a:moveTo>
                <a:lnTo>
                  <a:pt x="107974" y="0"/>
                </a:lnTo>
                <a:lnTo>
                  <a:pt x="107974" y="21600"/>
                </a:lnTo>
                <a:lnTo>
                  <a:pt x="0" y="21600"/>
                </a:lnTo>
                <a:close/>
              </a:path>
              <a:path fill="lightenLess" w="107974" h="21600">
                <a:moveTo>
                  <a:pt x="0" y="0"/>
                </a:moveTo>
                <a:lnTo>
                  <a:pt x="107974" y="0"/>
                </a:lnTo>
                <a:lnTo>
                  <a:pt x="106574" y="1400"/>
                </a:lnTo>
                <a:lnTo>
                  <a:pt x="1400" y="1400"/>
                </a:lnTo>
                <a:close/>
              </a:path>
              <a:path fill="darken" w="107974" h="21600">
                <a:moveTo>
                  <a:pt x="107974" y="0"/>
                </a:moveTo>
                <a:lnTo>
                  <a:pt x="107974" y="21600"/>
                </a:lnTo>
                <a:lnTo>
                  <a:pt x="106574" y="20200"/>
                </a:lnTo>
                <a:lnTo>
                  <a:pt x="106574" y="1400"/>
                </a:lnTo>
                <a:close/>
              </a:path>
              <a:path fill="darkenLess" w="107974" h="21600">
                <a:moveTo>
                  <a:pt x="10797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574" y="20200"/>
                </a:lnTo>
                <a:close/>
              </a:path>
              <a:path fill="lighten" w="10797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07974" h="21600">
                <a:moveTo>
                  <a:pt x="46981" y="3794"/>
                </a:moveTo>
                <a:lnTo>
                  <a:pt x="60994" y="10800"/>
                </a:lnTo>
                <a:lnTo>
                  <a:pt x="46981" y="17806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705720" y="2590920"/>
            <a:ext cx="12553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Arial"/>
              </a:rPr>
              <a:t>PINZA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61640" y="2948040"/>
            <a:ext cx="255348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Arial"/>
              </a:rPr>
              <a:t>PORTAOBJETO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76920" y="1295280"/>
            <a:ext cx="80121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Arial"/>
              </a:rPr>
              <a:t>PIE: Constituye la base sobre la que se apoya el microscopio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79080" y="1905120"/>
            <a:ext cx="643968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Arial"/>
              </a:rPr>
              <a:t>TUBO: Une el lente ocular con el lente objetivo.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78000" y="2438280"/>
            <a:ext cx="790560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Arial"/>
              </a:rPr>
              <a:t>REVOLVER: Es una pieza giratoria provista de orificios en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Arial"/>
              </a:rPr>
              <a:t>   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Arial"/>
              </a:rPr>
              <a:t>los cuales  se enroscan los objetivos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6560" y="3276720"/>
            <a:ext cx="811764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Arial"/>
              </a:rPr>
              <a:t>PLATINA: Es una pieza metálica plana en la que se coloca la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Arial"/>
              </a:rPr>
              <a:t>   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Arial"/>
              </a:rPr>
              <a:t>preparación u objeto que se va a observar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78360" y="4648320"/>
            <a:ext cx="747576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300" spc="-1" strike="noStrike">
                <a:solidFill>
                  <a:srgbClr val="000000"/>
                </a:solidFill>
                <a:latin typeface="Times New Roman"/>
                <a:ea typeface="Arial"/>
              </a:rPr>
              <a:t>TORNILLO MACROMÉTRICO: Girando este tornillo,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300" spc="-1" strike="noStrike">
                <a:solidFill>
                  <a:srgbClr val="000000"/>
                </a:solidFill>
                <a:latin typeface="Times New Roman"/>
                <a:ea typeface="Arial"/>
              </a:rPr>
              <a:t>   </a:t>
            </a:r>
            <a:r>
              <a:rPr b="1" lang="es-ES" sz="2300" spc="-1" strike="noStrike">
                <a:solidFill>
                  <a:srgbClr val="000000"/>
                </a:solidFill>
                <a:latin typeface="Times New Roman"/>
                <a:ea typeface="Arial"/>
              </a:rPr>
              <a:t>asciende o desciende el tubo del microscopio</a:t>
            </a:r>
            <a:r>
              <a:rPr b="1" lang="es-ES" sz="2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76920" y="5562720"/>
            <a:ext cx="849996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Arial"/>
              </a:rPr>
              <a:t>TORNILLO MICROMERICO: Permite movimientos finos para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Arial"/>
              </a:rPr>
              <a:t>   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Arial"/>
              </a:rPr>
              <a:t>el enfoque definitivo de la muestra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304920"/>
            <a:ext cx="54100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Times New Roman"/>
              </a:rPr>
              <a:t>3.1 Sistema Mecánico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>
            <a:hlinkClick r:id="rId2" action="ppaction://hlinksldjump"/>
          </p:cNvPr>
          <p:cNvSpPr/>
          <p:nvPr/>
        </p:nvSpPr>
        <p:spPr>
          <a:xfrm>
            <a:off x="5638680" y="6272280"/>
            <a:ext cx="3505320" cy="585720"/>
          </a:xfrm>
          <a:custGeom>
            <a:avLst/>
            <a:gdLst>
              <a:gd name="textAreaLeft" fmla="*/ 37800 w 3505320"/>
              <a:gd name="textAreaRight" fmla="*/ 3467520 w 3505320"/>
              <a:gd name="textAreaTop" fmla="*/ 37800 h 585720"/>
              <a:gd name="textAreaBottom" fmla="*/ 547920 h 585720"/>
            </a:gdLst>
            <a:ahLst/>
            <a:rect l="textAreaLeft" t="textAreaTop" r="textAreaRight" b="textAreaBottom"/>
            <a:pathLst>
              <a:path w="129202" h="21600">
                <a:moveTo>
                  <a:pt x="0" y="0"/>
                </a:moveTo>
                <a:lnTo>
                  <a:pt x="129202" y="0"/>
                </a:lnTo>
                <a:lnTo>
                  <a:pt x="129202" y="21600"/>
                </a:lnTo>
                <a:lnTo>
                  <a:pt x="0" y="21600"/>
                </a:lnTo>
                <a:close/>
              </a:path>
              <a:path fill="lightenLess" w="129202" h="21600">
                <a:moveTo>
                  <a:pt x="0" y="0"/>
                </a:moveTo>
                <a:lnTo>
                  <a:pt x="129202" y="0"/>
                </a:lnTo>
                <a:lnTo>
                  <a:pt x="127802" y="1400"/>
                </a:lnTo>
                <a:lnTo>
                  <a:pt x="1400" y="1400"/>
                </a:lnTo>
                <a:close/>
              </a:path>
              <a:path fill="darken" w="129202" h="21600">
                <a:moveTo>
                  <a:pt x="129202" y="0"/>
                </a:moveTo>
                <a:lnTo>
                  <a:pt x="129202" y="21600"/>
                </a:lnTo>
                <a:lnTo>
                  <a:pt x="127802" y="20200"/>
                </a:lnTo>
                <a:lnTo>
                  <a:pt x="127802" y="1400"/>
                </a:lnTo>
                <a:close/>
              </a:path>
              <a:path fill="darkenLess" w="129202" h="21600">
                <a:moveTo>
                  <a:pt x="129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7802" y="20200"/>
                </a:lnTo>
                <a:close/>
              </a:path>
              <a:path fill="lighten" w="129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29202" h="21600">
                <a:moveTo>
                  <a:pt x="57595" y="10800"/>
                </a:moveTo>
                <a:lnTo>
                  <a:pt x="71607" y="3794"/>
                </a:lnTo>
                <a:lnTo>
                  <a:pt x="71607" y="17806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76200" y="4114800"/>
            <a:ext cx="45115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Arial"/>
              </a:rPr>
              <a:t>PINZAS: Sujetan el portaobjeto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762120" y="304920"/>
            <a:ext cx="54100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Times New Roman"/>
              </a:rPr>
              <a:t>3.2 Sistema Óptico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51080" y="1295280"/>
            <a:ext cx="767844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OCULAR: Permiten aumentar al objeto y van en la parte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superior del tub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51440" y="2209680"/>
            <a:ext cx="852552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OBJETIVOS: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ducen aumento de las imágenes de los objetos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se encuentran cerca de la preparación que se examina.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31720" y="3200400"/>
            <a:ext cx="702036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S OBJETIVOS UTILIZADOS GENERALMENTE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N DE DOS TIPO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54320" y="4191120"/>
            <a:ext cx="847548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s objetivos secos se utilizan sin necesidad de colocar sustancia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guna entre ellos y la preparación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53960" y="5029200"/>
            <a:ext cx="8504640" cy="14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objetivo de inmersión. Para observar a través de este objetivo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 necesario colocar una gota de aceite de cedro entre el objetivo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la preparación, de manera que la lente frontal entre en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acto con el aceite de cedro 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>
            <a:hlinkClick r:id="rId2" action="ppaction://hlinksldjump"/>
          </p:cNvPr>
          <p:cNvSpPr/>
          <p:nvPr/>
        </p:nvSpPr>
        <p:spPr>
          <a:xfrm>
            <a:off x="5791320" y="6242040"/>
            <a:ext cx="3352680" cy="609480"/>
          </a:xfrm>
          <a:custGeom>
            <a:avLst/>
            <a:gdLst>
              <a:gd name="textAreaLeft" fmla="*/ 39240 w 3352680"/>
              <a:gd name="textAreaRight" fmla="*/ 3313440 w 33526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118762" h="21600">
                <a:moveTo>
                  <a:pt x="0" y="0"/>
                </a:moveTo>
                <a:lnTo>
                  <a:pt x="118762" y="0"/>
                </a:lnTo>
                <a:lnTo>
                  <a:pt x="118762" y="21600"/>
                </a:lnTo>
                <a:lnTo>
                  <a:pt x="0" y="21600"/>
                </a:lnTo>
                <a:close/>
              </a:path>
              <a:path fill="lightenLess" w="118762" h="21600">
                <a:moveTo>
                  <a:pt x="0" y="0"/>
                </a:moveTo>
                <a:lnTo>
                  <a:pt x="118762" y="0"/>
                </a:lnTo>
                <a:lnTo>
                  <a:pt x="117362" y="1400"/>
                </a:lnTo>
                <a:lnTo>
                  <a:pt x="1400" y="1400"/>
                </a:lnTo>
                <a:close/>
              </a:path>
              <a:path fill="darken" w="118762" h="21600">
                <a:moveTo>
                  <a:pt x="118762" y="0"/>
                </a:moveTo>
                <a:lnTo>
                  <a:pt x="118762" y="21600"/>
                </a:lnTo>
                <a:lnTo>
                  <a:pt x="117362" y="20200"/>
                </a:lnTo>
                <a:lnTo>
                  <a:pt x="117362" y="1400"/>
                </a:lnTo>
                <a:close/>
              </a:path>
              <a:path fill="darkenLess" w="118762" h="21600">
                <a:moveTo>
                  <a:pt x="118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7362" y="20200"/>
                </a:lnTo>
                <a:close/>
              </a:path>
              <a:path fill="lighten" w="118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18762" h="21600">
                <a:moveTo>
                  <a:pt x="52374" y="10800"/>
                </a:moveTo>
                <a:lnTo>
                  <a:pt x="66387" y="3794"/>
                </a:lnTo>
                <a:lnTo>
                  <a:pt x="66387" y="17806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301320" y="1371600"/>
            <a:ext cx="7470000" cy="11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Arial"/>
              </a:rPr>
              <a:t>ESPEJO: Tiene dos caras: una cóncava y otra plana.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ernamente se prescinde del espejo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Arial"/>
              </a:rPr>
              <a:t> a cambio de una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Arial"/>
              </a:rPr>
              <a:t>    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Arial"/>
              </a:rPr>
              <a:t>fuente de luz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97720" y="2819520"/>
            <a:ext cx="7862760" cy="11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3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s-ES" sz="2300" spc="-1" strike="noStrike">
                <a:solidFill>
                  <a:srgbClr val="000000"/>
                </a:solidFill>
                <a:latin typeface="Times New Roman"/>
                <a:ea typeface="Arial"/>
              </a:rPr>
              <a:t>CONDENSADOR: Está formado por un sistema de lentes,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300" spc="-1" strike="noStrike">
                <a:solidFill>
                  <a:srgbClr val="000000"/>
                </a:solidFill>
                <a:latin typeface="Times New Roman"/>
                <a:ea typeface="Arial"/>
              </a:rPr>
              <a:t>    </a:t>
            </a:r>
            <a:r>
              <a:rPr b="1" lang="es-ES" sz="2300" spc="-1" strike="noStrike">
                <a:solidFill>
                  <a:srgbClr val="000000"/>
                </a:solidFill>
                <a:latin typeface="Times New Roman"/>
                <a:ea typeface="Arial"/>
              </a:rPr>
              <a:t>cuya finalidad es concentrar los rayos luminosos sobre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300" spc="-1" strike="noStrike">
                <a:solidFill>
                  <a:srgbClr val="000000"/>
                </a:solidFill>
                <a:latin typeface="Times New Roman"/>
                <a:ea typeface="Arial"/>
              </a:rPr>
              <a:t>    </a:t>
            </a:r>
            <a:r>
              <a:rPr b="1" lang="es-ES" sz="2300" spc="-1" strike="noStrike">
                <a:solidFill>
                  <a:srgbClr val="000000"/>
                </a:solidFill>
                <a:latin typeface="Times New Roman"/>
                <a:ea typeface="Arial"/>
              </a:rPr>
              <a:t>el plano de la preparación.</a:t>
            </a:r>
            <a:r>
              <a:rPr b="1" lang="es-ES" sz="2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76200" y="4191120"/>
            <a:ext cx="8256600" cy="11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Arial"/>
              </a:rPr>
              <a:t>DIAFRAGMA: Generalmente está provisto de un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Arial"/>
              </a:rPr>
              <a:t>    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Arial"/>
              </a:rPr>
              <a:t>diafragma-iris, que regula su abertura y controla la calidad de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Arial"/>
              </a:rPr>
              <a:t>    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Arial"/>
              </a:rPr>
              <a:t>luz que debe pasar a través del condensador.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2120" y="304920"/>
            <a:ext cx="54100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Times New Roman"/>
              </a:rPr>
              <a:t>3.3 Sistema Iluminación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>
            <a:hlinkClick r:id="rId2" action="ppaction://hlinksldjump"/>
          </p:cNvPr>
          <p:cNvSpPr/>
          <p:nvPr/>
        </p:nvSpPr>
        <p:spPr>
          <a:xfrm>
            <a:off x="5791320" y="6248520"/>
            <a:ext cx="3352680" cy="609480"/>
          </a:xfrm>
          <a:custGeom>
            <a:avLst/>
            <a:gdLst>
              <a:gd name="textAreaLeft" fmla="*/ 39240 w 3352680"/>
              <a:gd name="textAreaRight" fmla="*/ 3313440 w 33526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118762" h="21600">
                <a:moveTo>
                  <a:pt x="0" y="0"/>
                </a:moveTo>
                <a:lnTo>
                  <a:pt x="118762" y="0"/>
                </a:lnTo>
                <a:lnTo>
                  <a:pt x="118762" y="21600"/>
                </a:lnTo>
                <a:lnTo>
                  <a:pt x="0" y="21600"/>
                </a:lnTo>
                <a:close/>
              </a:path>
              <a:path fill="lightenLess" w="118762" h="21600">
                <a:moveTo>
                  <a:pt x="0" y="0"/>
                </a:moveTo>
                <a:lnTo>
                  <a:pt x="118762" y="0"/>
                </a:lnTo>
                <a:lnTo>
                  <a:pt x="117362" y="1400"/>
                </a:lnTo>
                <a:lnTo>
                  <a:pt x="1400" y="1400"/>
                </a:lnTo>
                <a:close/>
              </a:path>
              <a:path fill="darken" w="118762" h="21600">
                <a:moveTo>
                  <a:pt x="118762" y="0"/>
                </a:moveTo>
                <a:lnTo>
                  <a:pt x="118762" y="21600"/>
                </a:lnTo>
                <a:lnTo>
                  <a:pt x="117362" y="20200"/>
                </a:lnTo>
                <a:lnTo>
                  <a:pt x="117362" y="1400"/>
                </a:lnTo>
                <a:close/>
              </a:path>
              <a:path fill="darkenLess" w="118762" h="21600">
                <a:moveTo>
                  <a:pt x="118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7362" y="20200"/>
                </a:lnTo>
                <a:close/>
              </a:path>
              <a:path fill="lighten" w="118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18762" h="21600">
                <a:moveTo>
                  <a:pt x="52374" y="10800"/>
                </a:moveTo>
                <a:lnTo>
                  <a:pt x="66387" y="3794"/>
                </a:lnTo>
                <a:lnTo>
                  <a:pt x="66387" y="17806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762120" y="304920"/>
            <a:ext cx="8915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Times New Roman"/>
              </a:rPr>
              <a:t>4. Funcionamiento del microscopio óptico.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76160" y="1600200"/>
            <a:ext cx="805644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000000"/>
                </a:solidFill>
                <a:latin typeface="Times New Roman"/>
                <a:ea typeface="Arial"/>
              </a:rPr>
              <a:t>AMPLIFICACIÓN DE LA IMAGEN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000000"/>
                </a:solidFill>
                <a:latin typeface="Times New Roman"/>
                <a:ea typeface="Arial"/>
              </a:rPr>
              <a:t>Por medio del Sistema Óptico: Lentes Objetivo y Ocula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000000"/>
                </a:solidFill>
                <a:latin typeface="Times New Roman"/>
                <a:ea typeface="Arial"/>
              </a:rPr>
              <a:t>PODER DE RESOLUCIÓN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000000"/>
                </a:solidFill>
                <a:latin typeface="Times New Roman"/>
                <a:ea typeface="Arial"/>
              </a:rPr>
              <a:t>Permite la “definición” de la imagen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000000"/>
                </a:solidFill>
                <a:latin typeface="Times New Roman"/>
                <a:ea typeface="Arial"/>
              </a:rPr>
              <a:t>ILUMINACIÓN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000000"/>
                </a:solidFill>
                <a:latin typeface="Times New Roman"/>
                <a:ea typeface="Arial"/>
              </a:rPr>
              <a:t>Por medio del Sistema de Iluminación 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685800" y="304920"/>
            <a:ext cx="51055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Times New Roman"/>
              </a:rPr>
              <a:t>Temas a desarrollar: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9040" y="1905120"/>
            <a:ext cx="4106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1. Tipos de microscopios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93000" y="2819520"/>
            <a:ext cx="7151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2. Limitaciones de los tipos de microscopios.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Poder de resolución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96600" y="4114800"/>
            <a:ext cx="7549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3. Características físicas del microscopio óptico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92640" y="5181480"/>
            <a:ext cx="61045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4. Descripción del funcionamiento del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microscopio óptico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304920"/>
            <a:ext cx="8915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Times New Roman"/>
              </a:rPr>
              <a:t>4.1 Amplificación de la imagen.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822400" y="1523880"/>
            <a:ext cx="18525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AUMENTO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PRIMARIO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800" y="4038480"/>
            <a:ext cx="15537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OCULA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447920" y="2819520"/>
            <a:ext cx="533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1080" y="1905120"/>
            <a:ext cx="685800" cy="152280"/>
          </a:xfrm>
          <a:prstGeom prst="rightArrow">
            <a:avLst>
              <a:gd name="adj1" fmla="val 50000"/>
              <a:gd name="adj2" fmla="val 112589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54080" y="1752480"/>
            <a:ext cx="18205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Arial"/>
              </a:rPr>
              <a:t>OBJETIVO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593080" y="4038480"/>
            <a:ext cx="18356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AUMENTO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FINAL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267080"/>
            <a:ext cx="685800" cy="152640"/>
          </a:xfrm>
          <a:prstGeom prst="rightArrow">
            <a:avLst>
              <a:gd name="adj1" fmla="val 50000"/>
              <a:gd name="adj2" fmla="val 112323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97160" y="2895480"/>
            <a:ext cx="840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OCUL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luz2" descr=""/>
          <p:cNvPicPr/>
          <p:nvPr/>
        </p:nvPicPr>
        <p:blipFill>
          <a:blip r:embed="rId2"/>
          <a:stretch/>
        </p:blipFill>
        <p:spPr>
          <a:xfrm>
            <a:off x="4952880" y="1981080"/>
            <a:ext cx="4622760" cy="448308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8078760" y="2133720"/>
            <a:ext cx="861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MAGE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PLA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154360" y="2743200"/>
            <a:ext cx="840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OCUL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173080" y="4724280"/>
            <a:ext cx="97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OBJETIV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314840" y="5486400"/>
            <a:ext cx="107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BACTERI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762120" y="304920"/>
            <a:ext cx="61722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Times New Roman"/>
              </a:rPr>
              <a:t>4.1 Poder de Resolución.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80320" y="1295280"/>
            <a:ext cx="8613000" cy="50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Arial"/>
              </a:rPr>
              <a:t>Capacidad de mostrar de forma distinta y separados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Arial"/>
              </a:rPr>
              <a:t>   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Arial"/>
              </a:rPr>
              <a:t>dos puntos muy cercanos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poder resolutivo de un microscopio compuesto depend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 la longitud de onda utilizada y de una propiedad óptica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 la lente conocida como apertura numérica.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ando el objetivo está separado del objeto por el aire,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 apertura numérica nunca será mayor de 1,0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ando el objetivo está separado del objeto por un aceit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 inmersión, se obtienen aperturas numéricas entre 1,2 y 1,4.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i un microscopio tiene un poder de resolución de 0,25 µm,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significa que las partículas con un tamaño más pequeño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de 0,25 µm no pueden distinguirse unas de otras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838080" y="304920"/>
            <a:ext cx="64008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Times New Roman"/>
              </a:rPr>
              <a:t>4.1 Iluminación.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03840" y="1371600"/>
            <a:ext cx="4730040" cy="11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Arial"/>
              </a:rPr>
              <a:t>La luz que proviene de la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Arial"/>
              </a:rPr>
              <a:t>fuente luminosa es dirigida hacia el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Arial"/>
              </a:rPr>
              <a:t>la preparación por medio del espej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81240" y="2743200"/>
            <a:ext cx="4534920" cy="11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Arial"/>
              </a:rPr>
              <a:t>Antes de llegar el haz de luz a la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Arial"/>
              </a:rPr>
              <a:t>preparación, este será concentrada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Arial"/>
              </a:rPr>
              <a:t>por medio del condensador. 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55760" y="4114800"/>
            <a:ext cx="4566960" cy="11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Arial"/>
              </a:rPr>
              <a:t>El diafragma permitirá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Arial"/>
              </a:rPr>
              <a:t>controlar el tamaño del cono de luz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Arial"/>
              </a:rPr>
              <a:t>que llegará al objetivo.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luz3" descr=""/>
          <p:cNvPicPr/>
          <p:nvPr/>
        </p:nvPicPr>
        <p:blipFill>
          <a:blip r:embed="rId2"/>
          <a:stretch/>
        </p:blipFill>
        <p:spPr>
          <a:xfrm>
            <a:off x="5029200" y="1905120"/>
            <a:ext cx="3886200" cy="495288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7774200" y="4724280"/>
            <a:ext cx="114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DIAFRAG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772760" y="3429000"/>
            <a:ext cx="137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CONDENSAD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164000" y="1828800"/>
            <a:ext cx="1305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PREPAR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6858000" y="5791320"/>
            <a:ext cx="304920" cy="38088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H="1" flipV="1">
            <a:off x="5866920" y="5791320"/>
            <a:ext cx="381240" cy="38088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6781680" y="4419720"/>
            <a:ext cx="228600" cy="83808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H="1" flipV="1">
            <a:off x="5866920" y="4419720"/>
            <a:ext cx="304920" cy="83808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H="1" flipV="1">
            <a:off x="6705720" y="3048120"/>
            <a:ext cx="380880" cy="91440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5867280" y="3048120"/>
            <a:ext cx="457200" cy="83808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4495680" y="3733920"/>
            <a:ext cx="2971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Monotype Corsiva"/>
                <a:ea typeface="Arial"/>
              </a:rPr>
              <a:t>FIN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52280" y="304920"/>
            <a:ext cx="6019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500" spc="-1" strike="noStrike">
                <a:solidFill>
                  <a:srgbClr val="000000"/>
                </a:solidFill>
                <a:latin typeface="Times New Roman"/>
              </a:rPr>
              <a:t>1.Tipos de Microscopios 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664440" y="1617840"/>
            <a:ext cx="30945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500" spc="-1" strike="noStrike">
                <a:solidFill>
                  <a:srgbClr val="000000"/>
                </a:solidFill>
                <a:latin typeface="Times New Roman"/>
              </a:rPr>
              <a:t>Microscopios Óptico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429000" y="2590920"/>
            <a:ext cx="571500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500" spc="-1" strike="noStrike">
                <a:solidFill>
                  <a:srgbClr val="000000"/>
                </a:solidFill>
                <a:latin typeface="Times New Roman"/>
              </a:rPr>
              <a:t>Simple: Una lente, pequeña, convexa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500" spc="-1" strike="noStrike">
                <a:solidFill>
                  <a:srgbClr val="000000"/>
                </a:solidFill>
                <a:latin typeface="Times New Roman"/>
              </a:rPr>
              <a:t>Compuesto: Dos sistemas de lentes </a:t>
            </a:r>
            <a:r>
              <a:rPr b="1" lang="es-MX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MX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MX" sz="2500" spc="-1" strike="noStrike">
                <a:solidFill>
                  <a:srgbClr val="000000"/>
                </a:solidFill>
                <a:latin typeface="Times New Roman"/>
              </a:rPr>
              <a:t>(objetivo y ocular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MX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MX" sz="2500" spc="-1" strike="noStrike">
                <a:solidFill>
                  <a:srgbClr val="000000"/>
                </a:solidFill>
                <a:latin typeface="Times New Roman"/>
              </a:rPr>
              <a:t>Imagen virtual aumentada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295280"/>
          <a:ext cx="3370320" cy="4953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1295280"/>
                    <a:ext cx="3370320" cy="495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52280" y="304920"/>
            <a:ext cx="6019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Times New Roman"/>
              </a:rPr>
              <a:t>1.Tipos de Microscopios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923400" y="1465200"/>
            <a:ext cx="45651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500" spc="-1" strike="noStrike">
                <a:solidFill>
                  <a:srgbClr val="000000"/>
                </a:solidFill>
                <a:latin typeface="Times New Roman"/>
              </a:rPr>
              <a:t>Microscopios Ópticos Especiale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143000" y="2209680"/>
            <a:ext cx="723888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500" spc="-1" strike="noStrike">
                <a:solidFill>
                  <a:srgbClr val="000000"/>
                </a:solidFill>
                <a:latin typeface="Times New Roman"/>
              </a:rPr>
              <a:t>De Luz Ultravioleta:</a:t>
            </a:r>
            <a:r>
              <a:rPr b="1" lang="es-MX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500" spc="-1" strike="noStrike">
                <a:solidFill>
                  <a:srgbClr val="000000"/>
                </a:solidFill>
                <a:latin typeface="Times New Roman"/>
              </a:rPr>
              <a:t>Mejora el detalle y se aumenta la resolución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500" spc="-1" strike="noStrike">
                <a:solidFill>
                  <a:srgbClr val="000000"/>
                </a:solidFill>
                <a:latin typeface="Times New Roman"/>
              </a:rPr>
              <a:t>Elementos Ópticos de Cuarzo, Fluorita, Espejos Aluminizado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500" spc="-1" strike="noStrike">
                <a:solidFill>
                  <a:srgbClr val="000000"/>
                </a:solidFill>
                <a:latin typeface="Times New Roman"/>
              </a:rPr>
              <a:t>Usado en Investigación Científica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52280" y="304920"/>
            <a:ext cx="6019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Times New Roman"/>
              </a:rPr>
              <a:t>1.Tipos de Microscopios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52000" y="1447920"/>
            <a:ext cx="45651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500" spc="-1" strike="noStrike">
                <a:solidFill>
                  <a:srgbClr val="000000"/>
                </a:solidFill>
                <a:latin typeface="Times New Roman"/>
              </a:rPr>
              <a:t>Microscopios Ópticos Especiale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514600" y="2057400"/>
            <a:ext cx="624852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500" spc="-1" strike="noStrike">
                <a:solidFill>
                  <a:srgbClr val="000000"/>
                </a:solidFill>
                <a:latin typeface="Times New Roman"/>
              </a:rPr>
              <a:t>Petrográfico:</a:t>
            </a:r>
            <a:r>
              <a:rPr b="1" lang="es-MX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500" spc="-1" strike="noStrike">
                <a:solidFill>
                  <a:srgbClr val="000000"/>
                </a:solidFill>
                <a:latin typeface="Times New Roman"/>
              </a:rPr>
              <a:t>Identificar componentes de rocas ígneas y metamórfica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500" spc="-1" strike="noStrike">
                <a:solidFill>
                  <a:srgbClr val="000000"/>
                </a:solidFill>
                <a:latin typeface="Times New Roman"/>
              </a:rPr>
              <a:t>Prisma que polariza la luz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etrografico" descr=""/>
          <p:cNvPicPr/>
          <p:nvPr/>
        </p:nvPicPr>
        <p:blipFill>
          <a:blip r:embed="rId2"/>
          <a:stretch/>
        </p:blipFill>
        <p:spPr>
          <a:xfrm>
            <a:off x="-990720" y="3254400"/>
            <a:ext cx="5418360" cy="360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152280" y="304920"/>
            <a:ext cx="6019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Times New Roman"/>
              </a:rPr>
              <a:t>1.Tipos de Microscopios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dmls" descr=""/>
          <p:cNvPicPr/>
          <p:nvPr/>
        </p:nvPicPr>
        <p:blipFill>
          <a:blip r:embed="rId2"/>
          <a:stretch/>
        </p:blipFill>
        <p:spPr>
          <a:xfrm>
            <a:off x="6270480" y="1219320"/>
            <a:ext cx="2873520" cy="35049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542520" y="1447920"/>
            <a:ext cx="45651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500" spc="-1" strike="noStrike">
                <a:solidFill>
                  <a:srgbClr val="000000"/>
                </a:solidFill>
                <a:latin typeface="Times New Roman"/>
              </a:rPr>
              <a:t>Microscopios Ópticos Especiale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66560" y="2209680"/>
            <a:ext cx="6642360" cy="42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500" spc="-1" strike="noStrike">
                <a:solidFill>
                  <a:srgbClr val="000000"/>
                </a:solidFill>
                <a:latin typeface="Times New Roman"/>
              </a:rPr>
              <a:t>De Campo Oscuro:</a:t>
            </a:r>
            <a:r>
              <a:rPr b="1" lang="es-MX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500" spc="-1" strike="noStrike">
                <a:solidFill>
                  <a:srgbClr val="000000"/>
                </a:solidFill>
                <a:latin typeface="Times New Roman"/>
              </a:rPr>
              <a:t>Luz intensa, concentrada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500" spc="-1" strike="noStrike">
                <a:solidFill>
                  <a:srgbClr val="000000"/>
                </a:solidFill>
                <a:latin typeface="Times New Roman"/>
              </a:rPr>
              <a:t>Objetos analizados aparecen brillantes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5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s-MX" sz="2500" spc="-1" strike="noStrike">
                <a:solidFill>
                  <a:srgbClr val="000000"/>
                </a:solidFill>
                <a:latin typeface="Times New Roman"/>
              </a:rPr>
              <a:t>y el resto como fondo oscuro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500" spc="-1" strike="noStrike">
                <a:solidFill>
                  <a:srgbClr val="000000"/>
                </a:solidFill>
                <a:latin typeface="Times New Roman"/>
              </a:rPr>
              <a:t>De Fas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500" spc="-1" strike="noStrike">
                <a:solidFill>
                  <a:srgbClr val="000000"/>
                </a:solidFill>
                <a:latin typeface="Times New Roman"/>
              </a:rPr>
              <a:t>Similar al de campo oscuro, menor intensidad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500" spc="-1" strike="noStrike">
                <a:solidFill>
                  <a:srgbClr val="000000"/>
                </a:solidFill>
                <a:latin typeface="Times New Roman"/>
              </a:rPr>
              <a:t>Permite analizar especies “transparente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500" spc="-1" strike="noStrike">
                <a:solidFill>
                  <a:srgbClr val="000000"/>
                </a:solidFill>
                <a:latin typeface="Times New Roman"/>
              </a:rPr>
              <a:t>Usado en análisis de tejidos vivo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152280" y="304920"/>
            <a:ext cx="6019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Times New Roman"/>
              </a:rPr>
              <a:t>1.Tipos de Microscopios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5120" y="1219320"/>
            <a:ext cx="3727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500" spc="-1" strike="noStrike">
                <a:solidFill>
                  <a:srgbClr val="000000"/>
                </a:solidFill>
                <a:latin typeface="Times New Roman"/>
              </a:rPr>
              <a:t>Microscopios Electrónico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85800" y="1828800"/>
            <a:ext cx="784872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500" spc="-1" strike="noStrike">
                <a:solidFill>
                  <a:srgbClr val="000000"/>
                </a:solidFill>
                <a:latin typeface="Times New Roman"/>
              </a:rPr>
              <a:t>De transmisión: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500" spc="-1" strike="noStrike">
                <a:solidFill>
                  <a:srgbClr val="000000"/>
                </a:solidFill>
                <a:latin typeface="Times New Roman"/>
              </a:rPr>
              <a:t>Haz de electrones dirigido al objeto, zonas pequeña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500" spc="-1" strike="noStrike">
                <a:solidFill>
                  <a:srgbClr val="000000"/>
                </a:solidFill>
                <a:latin typeface="Times New Roman"/>
              </a:rPr>
              <a:t>Aumento del objeto hasta 1 millon de vece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500" spc="-1" strike="noStrike">
                <a:solidFill>
                  <a:srgbClr val="000000"/>
                </a:solidFill>
                <a:latin typeface="Times New Roman"/>
              </a:rPr>
              <a:t>Electrónico de Barrido: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500" spc="-1" strike="noStrike">
                <a:solidFill>
                  <a:srgbClr val="000000"/>
                </a:solidFill>
                <a:latin typeface="Times New Roman"/>
              </a:rPr>
              <a:t>Capaz de analizar una mayor superficie del objeto a la vez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500" spc="-1" strike="noStrike">
                <a:solidFill>
                  <a:srgbClr val="000000"/>
                </a:solidFill>
                <a:latin typeface="Times New Roman"/>
              </a:rPr>
              <a:t>Lectura a través de haz de electrones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500" spc="-1" strike="noStrike">
                <a:solidFill>
                  <a:srgbClr val="000000"/>
                </a:solidFill>
                <a:latin typeface="Times New Roman"/>
              </a:rPr>
              <a:t>Cada punto es un pixel del monito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500" spc="-1" strike="noStrike">
                <a:solidFill>
                  <a:srgbClr val="000000"/>
                </a:solidFill>
                <a:latin typeface="Times New Roman"/>
              </a:rPr>
              <a:t>Imágenes 3D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152280" y="304920"/>
            <a:ext cx="6019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Times New Roman"/>
              </a:rPr>
              <a:t>1.Tipos de Microscopios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666880" y="2286000"/>
          <a:ext cx="5943600" cy="4975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666880" y="2286000"/>
                    <a:ext cx="5943600" cy="497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62120" y="1752480"/>
            <a:ext cx="60958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500" spc="-1" strike="noStrike">
                <a:solidFill>
                  <a:srgbClr val="000000"/>
                </a:solidFill>
                <a:latin typeface="Times New Roman"/>
              </a:rPr>
              <a:t>Microscopio Electrónico de Barrido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152280" y="304920"/>
            <a:ext cx="6019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Times New Roman"/>
              </a:rPr>
              <a:t>1.Tipos de Microscopios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39280" y="1219320"/>
            <a:ext cx="4848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500" spc="-1" strike="noStrike">
                <a:solidFill>
                  <a:srgbClr val="000000"/>
                </a:solidFill>
                <a:latin typeface="Times New Roman"/>
              </a:rPr>
              <a:t>Microscopios de Sonda de Barrido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71960" y="1981080"/>
            <a:ext cx="83538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500" spc="-1" strike="noStrike">
                <a:solidFill>
                  <a:srgbClr val="000000"/>
                </a:solidFill>
                <a:latin typeface="Times New Roman"/>
              </a:rPr>
              <a:t>De Efecto Túnel: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500" spc="-1" strike="noStrike">
                <a:solidFill>
                  <a:srgbClr val="000000"/>
                </a:solidFill>
                <a:latin typeface="Times New Roman"/>
              </a:rPr>
              <a:t>Se recorre superficie mediante sonda, aplicación de voltaj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500" spc="-1" strike="noStrike">
                <a:solidFill>
                  <a:srgbClr val="000000"/>
                </a:solidFill>
                <a:latin typeface="Times New Roman"/>
              </a:rPr>
              <a:t>Se genera corriente que permite visualizar ondulacione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500" spc="-1" strike="noStrike">
                <a:solidFill>
                  <a:srgbClr val="000000"/>
                </a:solidFill>
                <a:latin typeface="Times New Roman"/>
              </a:rPr>
              <a:t>Sobre materiales conductore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500" spc="-1" strike="noStrike">
                <a:solidFill>
                  <a:srgbClr val="000000"/>
                </a:solidFill>
                <a:latin typeface="Times New Roman"/>
              </a:rPr>
              <a:t>Imagen 3D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500" spc="-1" strike="noStrike">
                <a:solidFill>
                  <a:srgbClr val="000000"/>
                </a:solidFill>
                <a:latin typeface="Times New Roman"/>
              </a:rPr>
              <a:t>De Fuerza Atómica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500" spc="-1" strike="noStrike">
                <a:solidFill>
                  <a:srgbClr val="000000"/>
                </a:solidFill>
                <a:latin typeface="Times New Roman"/>
              </a:rPr>
              <a:t>Sobre materiales conductores y no conductore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500" spc="-1" strike="noStrike">
                <a:solidFill>
                  <a:srgbClr val="000000"/>
                </a:solidFill>
                <a:latin typeface="Times New Roman"/>
              </a:rPr>
              <a:t>Sonda, no emplea corriente de efecto túnel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500" spc="-1" strike="noStrike">
                <a:solidFill>
                  <a:srgbClr val="000000"/>
                </a:solidFill>
                <a:latin typeface="Times New Roman"/>
              </a:rPr>
              <a:t>Funcionamiento simila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500" spc="-1" strike="noStrike">
                <a:solidFill>
                  <a:srgbClr val="000000"/>
                </a:solidFill>
                <a:latin typeface="Times New Roman"/>
              </a:rPr>
              <a:t>Imagen 3D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7288200" y="4572000"/>
          <a:ext cx="1855800" cy="2095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288200" y="4572000"/>
                    <a:ext cx="1855800" cy="209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5T22:07:50Z</dcterms:created>
  <dc:creator>Mcartes</dc:creator>
  <dc:description/>
  <dc:language>en-US</dc:language>
  <cp:lastModifiedBy>Mcartes</cp:lastModifiedBy>
  <dcterms:modified xsi:type="dcterms:W3CDTF">2004-08-26T07:12:36Z</dcterms:modified>
  <cp:revision>43</cp:revision>
  <dc:subject/>
  <dc:title>Microscopio  y  Microscopía</dc:title>
</cp:coreProperties>
</file>