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1F2-DD15-4574-A4CD-84BBC784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3BA-68CB-4EC3-BB93-CF30622F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229-A966-43C6-8441-7718D365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D8C-C443-40EB-849C-642ACBCB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223-E3EE-4780-AC86-E5C817F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51A-504E-45D4-A95B-5C70C62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B56-5B21-4D04-A067-C519412F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778-F6D6-4E64-8B66-B521929B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F99-0CFF-48FE-9F8F-93F55CE4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EB1-69E0-4855-AC67-BD7E41D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ECF-5F0C-4A53-8D88-801CD3AE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6C5-FB83-400C-82E5-B923210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FB9-2180-425F-9AC4-7E33331A7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2%20copi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48769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grantes:  Bárbara Astud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uricio 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audia Mel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drigo M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i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815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RESOLU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istancia mínima entre dos puntos próximos que pueden verse separ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Ojo humano no puede ver separados dos puntos cuando su distancia es menor a una décima de milíme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óptico, el poder separador máximo es de 0,2 décimas de mic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electrónico, el poder separador llega hasta 10 ángstrom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8359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DEFINI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Se refiere a la nitidez de las imágenes obtenidas, sobre todo respecto a sus contorn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AUMENTO DE MICROSCOP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Relación entre el diámetro aparente de la imagen y el diámetro o longitud del obje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aumenta 100 diámetros un objeto, la imagen que estamos viendo es 100 veces mayor que el tamaño real del obje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71600"/>
            <a:ext cx="833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máximo de 0,2 m , con lo que un objeto puede ser ampliado un máximo de 1500 veces, permitiendo así la observación de células viv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de 100 Å (1Å = 10−10m), ampliando un objeto hasta 250.000 veces, que mediante tratamiento óptico ó digital puede llegar hasta el millón de aumento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512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entro de los microscopios eléctricos, el que posee mayor poder de ampliar los objetos es el Microscopio Electrónico de Transmisió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ueden aumentar un objeto hasta un milló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l Microscopio Electrónico de Barrido puede amplia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os objetos 100.000 veces o más , y además puede produci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imágenes tridimension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 Características físicas del microsco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7848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MECÁN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movimiento para el enfoq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aumento de las imágenes que se   observan a través de el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DE 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nsmite y regula la cantidad de luz necesaria para efectuar la observación a través del microscop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4240" y="38088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0" y="2514600"/>
            <a:ext cx="122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BRAZ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1160" y="1447920"/>
            <a:ext cx="184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198108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3040" y="1295280"/>
            <a:ext cx="10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2200" y="3505320"/>
            <a:ext cx="184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A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9040" y="4267080"/>
            <a:ext cx="178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I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360" y="5867280"/>
            <a:ext cx="66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680" y="3429000"/>
            <a:ext cx="149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3280" y="4572000"/>
            <a:ext cx="1024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O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7600" y="4114800"/>
            <a:ext cx="247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62485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3794"/>
                </a:moveTo>
                <a:lnTo>
                  <a:pt x="59642" y="10800"/>
                </a:lnTo>
                <a:lnTo>
                  <a:pt x="4562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8" h="21600">
                <a:moveTo>
                  <a:pt x="49678" y="3794"/>
                </a:moveTo>
                <a:lnTo>
                  <a:pt x="63691" y="10800"/>
                </a:lnTo>
                <a:lnTo>
                  <a:pt x="4967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600" y="5637240"/>
            <a:ext cx="212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DOR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INTENSIDAD DE LU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200400" y="624852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4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4" y="20200"/>
                </a:lnTo>
                <a:lnTo>
                  <a:pt x="106574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4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74" h="21600">
                <a:moveTo>
                  <a:pt x="46981" y="3794"/>
                </a:moveTo>
                <a:lnTo>
                  <a:pt x="60994" y="10800"/>
                </a:lnTo>
                <a:lnTo>
                  <a:pt x="46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590920"/>
            <a:ext cx="125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640" y="294804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TAOBJE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6920" y="1295280"/>
            <a:ext cx="801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: Constituye la base sobre la que se apoya el microscopi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1905120"/>
            <a:ext cx="6439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: Une el lente ocular con el lente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2438280"/>
            <a:ext cx="7905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: Es una pieza giratoria provista de orificios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os cuales  se enroscan los objetivo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560" y="3276720"/>
            <a:ext cx="811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: Es una pieza metálica plana en la que se coloca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 u objeto que se va a observa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360" y="4648320"/>
            <a:ext cx="7475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ACROMÉTRICO: Girando este tornill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sciende o desciende el tubo del microscopio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920" y="5562720"/>
            <a:ext cx="8499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ICROMERICO: Permite movimientos finos p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enfoque definitivo de la muestr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1 Sistema Mecá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6272280"/>
            <a:ext cx="3505320" cy="585720"/>
          </a:xfrm>
          <a:custGeom>
            <a:avLst/>
            <a:gdLst>
              <a:gd name="textAreaLeft" fmla="*/ 37800 w 3505320"/>
              <a:gd name="textAreaRight" fmla="*/ 3467520 w 3505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129202" h="21600">
                <a:moveTo>
                  <a:pt x="0" y="0"/>
                </a:moveTo>
                <a:lnTo>
                  <a:pt x="129202" y="0"/>
                </a:lnTo>
                <a:lnTo>
                  <a:pt x="129202" y="21600"/>
                </a:lnTo>
                <a:lnTo>
                  <a:pt x="0" y="21600"/>
                </a:lnTo>
                <a:close/>
              </a:path>
              <a:path fill="lightenLess" w="129202" h="21600">
                <a:moveTo>
                  <a:pt x="0" y="0"/>
                </a:moveTo>
                <a:lnTo>
                  <a:pt x="129202" y="0"/>
                </a:lnTo>
                <a:lnTo>
                  <a:pt x="127802" y="1400"/>
                </a:lnTo>
                <a:lnTo>
                  <a:pt x="1400" y="1400"/>
                </a:lnTo>
                <a:close/>
              </a:path>
              <a:path fill="darken" w="129202" h="21600">
                <a:moveTo>
                  <a:pt x="129202" y="0"/>
                </a:moveTo>
                <a:lnTo>
                  <a:pt x="129202" y="21600"/>
                </a:lnTo>
                <a:lnTo>
                  <a:pt x="127802" y="20200"/>
                </a:lnTo>
                <a:lnTo>
                  <a:pt x="127802" y="1400"/>
                </a:lnTo>
                <a:close/>
              </a:path>
              <a:path fill="darkenLess" w="129202" h="21600">
                <a:moveTo>
                  <a:pt x="129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02" y="20200"/>
                </a:lnTo>
                <a:close/>
              </a:path>
              <a:path fill="lighten" w="129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202" h="21600">
                <a:moveTo>
                  <a:pt x="57595" y="10800"/>
                </a:moveTo>
                <a:lnTo>
                  <a:pt x="71607" y="3794"/>
                </a:lnTo>
                <a:lnTo>
                  <a:pt x="71607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114800"/>
            <a:ext cx="451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: Sujetan el portaobje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2 Sistema Óp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080" y="1295280"/>
            <a:ext cx="767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CULAR: Permiten aumentar al objeto y van en la par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perior del tub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40" y="2209680"/>
            <a:ext cx="85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n aumento de las imágenes de los objet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se encuentran cerca de la preparación que se exami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20" y="3200400"/>
            <a:ext cx="702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UTILIZADOS GENERAL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DE DOS TIP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320" y="4191120"/>
            <a:ext cx="847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secos se utilizan sin necesidad de colocar susta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entre ellos y la preparació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960" y="5029200"/>
            <a:ext cx="8504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de inmersión. Para observar a través de este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colocar una gota de aceite de cedro entre el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 preparación, de manera que la lente frontal entre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o con el aceite de cedr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5791320" y="624204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320" y="1371600"/>
            <a:ext cx="7470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SPEJO: Tiene dos caras: una cóncava y otra pla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amente se prescinde del espej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a cambio de un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de lu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720" y="2819520"/>
            <a:ext cx="7862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: Está formado por un sistema de lentes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uya finalidad es concentrar los rayos luminosos sob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plano de la preparación.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200" y="4191120"/>
            <a:ext cx="825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: Generalmente está provisto de u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-iris, que regula su abertura y controla la calidad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uz que debe pasar a través del condensador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3 Sistema Ilumin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791320" y="624852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 Funcionamiento del microscopio 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600200"/>
            <a:ext cx="8056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AMPLIFICACIÓN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Óptico: Lentes Objetivo y 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DER DE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ermite la “definición”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de Iluminación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Temas a desarrolla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040" y="1905120"/>
            <a:ext cx="41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Tipos de microscop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000" y="2819520"/>
            <a:ext cx="71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Limitaciones de los tipos de microscop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oder de resolu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114800"/>
            <a:ext cx="754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Características físicas del 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2640" y="5181480"/>
            <a:ext cx="610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Descripción del funcionamiento d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Amplificación de la ima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2400" y="1523880"/>
            <a:ext cx="185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" y="4038480"/>
            <a:ext cx="155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819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05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75248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080" y="4038480"/>
            <a:ext cx="18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160" y="28954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uz2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622760" cy="448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78760" y="21337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M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4360" y="2743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080" y="4724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4840" y="548640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ACTE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Poder de Resolu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0320" y="1295280"/>
            <a:ext cx="8613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dad de mostrar de forma distinta y separ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dos puntos muy cercan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oder resolutivo de un microscopio compuesto depe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ongitud de onda utilizada y de una propiedad óp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ente conocida como apertura numérica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el aire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pertura numérica nunca será mayor de 1,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un ace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mersión, se obtienen aperturas numéricas entre 1,2 y 1,4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un microscopio tiene un poder de resolución de 0,25 µ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gnifica que las partículas con un tamaño más pequeñ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0,25 µm no pueden distinguirse unas de otr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Ilumin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1371600"/>
            <a:ext cx="473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luz que proviene de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luminosa es dirigida hacia 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preparación por medio del espej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2743200"/>
            <a:ext cx="453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ntes de llegar el haz de luz a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, este será concent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condensador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" y="4114800"/>
            <a:ext cx="456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diafragma permitirá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ar el tamaño del cono de lu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que llegará al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uz3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4200" y="47242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760" y="34290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182880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5791320"/>
            <a:ext cx="3049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579132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4419720"/>
            <a:ext cx="2286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6920" y="4419720"/>
            <a:ext cx="30492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05720" y="3048120"/>
            <a:ext cx="380880" cy="914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3048120"/>
            <a:ext cx="457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95680" y="37339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.Tipos de Microscopio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440" y="1617840"/>
            <a:ext cx="309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90920"/>
            <a:ext cx="5715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ple: Una lente, pequeña, convex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ompuesto: Dos sistemas de lentes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(objetivo y ocula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virtual aumen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95280"/>
          <a:ext cx="3370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370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400" y="146520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09680"/>
            <a:ext cx="723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Luz Ultravioleta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ejora el detalle y se aumenta la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mentos Ópticos de Cuarzo, Fluorita, Espejos Aluminiz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Investigación Cientí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200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057400"/>
            <a:ext cx="6248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trográfic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dentificar componentes de rocas ígneas y metamórf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risma que polariza la lu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etrografico" descr=""/>
          <p:cNvPicPr/>
          <p:nvPr/>
        </p:nvPicPr>
        <p:blipFill>
          <a:blip r:embed="rId2"/>
          <a:stretch/>
        </p:blipFill>
        <p:spPr>
          <a:xfrm>
            <a:off x="-990720" y="3254400"/>
            <a:ext cx="54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mls" descr=""/>
          <p:cNvPicPr/>
          <p:nvPr/>
        </p:nvPicPr>
        <p:blipFill>
          <a:blip r:embed="rId2"/>
          <a:stretch/>
        </p:blipFill>
        <p:spPr>
          <a:xfrm>
            <a:off x="6270480" y="1219320"/>
            <a:ext cx="287352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52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2209680"/>
            <a:ext cx="664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Campo Oscur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uz intensa, concentr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Objetos analizados aparecen brillant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y el resto como fondo osc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ilar al de campo oscuro, menor intens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rmite analizar especies “transparent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análisis de tejidos v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120" y="1219320"/>
            <a:ext cx="372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Electrón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transmi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Haz de electrones dirigido al objeto, zonas peque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Aumento del objeto hasta 1 millo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ctrónico de Barrid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paz de analizar una mayor superficie del objeto a la v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ectura a través de haz de electron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da punto es un pixel del monit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ágenes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286000"/>
          <a:ext cx="594360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286000"/>
                    <a:ext cx="59436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175248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 Electrónico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280" y="1219320"/>
            <a:ext cx="484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de Sonda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1981080"/>
            <a:ext cx="835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Efecto Túne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recorre superficie mediante sonda, aplicación de voltaj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genera corriente que permite visualizar ondu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uerza Ató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 y no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nda, no emplea corriente de efecto tún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Funcionamiento simi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88200" y="4572000"/>
          <a:ext cx="185580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8200" y="4572000"/>
                    <a:ext cx="18558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7:50Z</dcterms:created>
  <dc:creator>Mcartes</dc:creator>
  <dc:description/>
  <dc:language>en-US</dc:language>
  <cp:lastModifiedBy>Mcartes</cp:lastModifiedBy>
  <dcterms:modified xsi:type="dcterms:W3CDTF">2004-08-26T07:12:36Z</dcterms:modified>
  <cp:revision>43</cp:revision>
  <dc:subject/>
  <dc:title>Microscopio  y  Microscopía</dc:title>
</cp:coreProperties>
</file>