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2463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0B4-C537-41EC-9A4F-8A7BB7D3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9D3-9F05-4379-9A65-23AC6809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432-F387-43D2-A283-0AE2B14E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07B-D673-47FC-BD2A-08138A85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569-0ECE-4BA7-AC81-2431181D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507-D2DE-426B-B8E6-AB03C6DD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145-335A-46E8-A7DB-C2A8258A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612-0FB8-4841-8FA2-D24C5C3B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93C-33A2-47ED-B958-8F03C308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A3F-1F70-4953-A363-D2532AE8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EC1-FE61-4DAC-AFEC-C3E2D19A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BE4-5B26-4728-8D23-DF551BF1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92C-1F79-4418-A2BE-3D9BF2364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51D/CI71I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AL2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 combinar ambos efectos simultáneam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BIO NETO EN MATERIA ORGA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BIO NETO EN OXIGENO DISUE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590920" y="2971800"/>
                <a:ext cx="44514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7080" y="4952880"/>
                <a:ext cx="5280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28" name="ForAndy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63244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31" name="oxydemandwaste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7315200" cy="4575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0240" y="594360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0000"/>
                </a:solidFill>
                <a:latin typeface="Arial"/>
              </a:rPr>
              <a:t>OD versus D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de estado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estacionari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1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para simular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fluj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calida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del agua en las corrientes y los ríos que se pueden asumir bien mezc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 conveniente para los flujos inestables, o para los dominios que reciben entradas variables de los componentes de calidad del a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fectos de variaciones diarias en procesos relacionados con la temperatura del agua y fotosíntesis algal pueden ser simu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es una herramienta del planeamiento de la calidad del agua para ayudar a evaluar las cargas totales máximas diarias (TMDL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VARIABLES QUE CONSI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iochemical Oxyge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gae as Chlorophyl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Nitrogen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mmonia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i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a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lif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3855960" cy="4343400"/>
          </a:xfrm>
          <a:prstGeom prst="rect">
            <a:avLst/>
          </a:prstGeom>
          <a:ln w="0">
            <a:noFill/>
          </a:ln>
        </p:spPr>
      </p:pic>
      <p:pic>
        <p:nvPicPr>
          <p:cNvPr id="61" name="mono01" descr=""/>
          <p:cNvPicPr/>
          <p:nvPr/>
        </p:nvPicPr>
        <p:blipFill>
          <a:blip r:embed="rId3"/>
          <a:stretch/>
        </p:blipFill>
        <p:spPr>
          <a:xfrm>
            <a:off x="4952880" y="1905120"/>
            <a:ext cx="37386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92200" y="380880"/>
            <a:ext cx="6008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9" name="qual2e1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7286760" cy="3591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ALTERNATIVAS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4" name="reaches2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362320" y="2590920"/>
            <a:ext cx="495288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15760" y="144792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USP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37080" y="52578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COMPOS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46920" y="525780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DIMEN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886200"/>
            <a:ext cx="49528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35812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89720" y="35812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37160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838160" y="5715000"/>
                <a:ext cx="24004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COMPOSIC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105520" y="5715000"/>
                <a:ext cx="2307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DIMENTAC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105520" y="5638680"/>
            <a:ext cx="2361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5638680"/>
            <a:ext cx="2667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57880" y="30481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9680" y="685800"/>
                <a:ext cx="179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USPENS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62320" y="2590920"/>
            <a:ext cx="495288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86240" y="1447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AER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0064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82240" y="144792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OTOSIN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7080" y="52578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COMPOS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26240" y="46483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3886200"/>
            <a:ext cx="49528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5812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02264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01920" y="630360"/>
                <a:ext cx="3527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OXIGENAC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628560"/>
                <a:ext cx="1697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TOSINTESI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523880" y="1295280"/>
            <a:ext cx="358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129528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05120" y="5715000"/>
                <a:ext cx="22669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COMPOSIC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608880" y="5105520"/>
                <a:ext cx="13921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ND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629400" y="5029200"/>
            <a:ext cx="12952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5638680"/>
            <a:ext cx="2667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1120" y="3048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4-09-30T18:04:15Z</cp:lastPrinted>
  <dcterms:modified xsi:type="dcterms:W3CDTF">2004-09-30T18:04:18Z</dcterms:modified>
  <cp:revision>49</cp:revision>
  <dc:subject/>
  <dc:title>Sin título de diapositiva</dc:title>
</cp:coreProperties>
</file>