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02463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3DD-3DAC-4704-BE5B-2495558C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5AD-A8D9-4F60-8E55-D9B89AA2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BE0-9AC3-458D-8EFF-DDCD73A0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399-E482-4958-AE71-AE1EC4CC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A5E-B904-4655-ADFA-E8B6D144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E59-995A-41D3-A8FE-6EF0AAE1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1B63-AA8A-4145-BB46-E6FEC567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ACD-A418-4F42-BD26-7CBDA958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C1A-ACD7-45A9-B4FE-A51D5AE5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6F1-FE82-4AE5-8964-F53A0064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019-3D07-440D-94E7-1834F15F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9F4-B031-48A3-94AD-683B9502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DF24-68B6-4F6A-AE01-B4A43CC8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I51D/CI71I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AMINACION DE RECURSOS HI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AL2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71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 combinar ambos efectos simultáneam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MATERIA ORGA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MBIO NETO EN OXIGENO DISUE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590920" y="2971800"/>
                <a:ext cx="44514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197080" y="4952880"/>
                <a:ext cx="5280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⋅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U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28" name="ForAndy" descr=""/>
          <p:cNvPicPr/>
          <p:nvPr/>
        </p:nvPicPr>
        <p:blipFill>
          <a:blip r:embed="rId2"/>
          <a:stretch/>
        </p:blipFill>
        <p:spPr>
          <a:xfrm>
            <a:off x="1828800" y="1066680"/>
            <a:ext cx="6324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131" name="oxydemandwaste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7315200" cy="4575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0240" y="594360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0000"/>
                </a:solidFill>
                <a:latin typeface="Arial"/>
              </a:rPr>
              <a:t>OD versus D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800" y="3049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51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18960" y="91440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QUAL2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de estado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estacionari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de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1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, para simular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flujo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1" lang="es-ES_tradnl" sz="1800" spc="-1" strike="noStrike">
                <a:solidFill>
                  <a:srgbClr val="ff3300"/>
                </a:solidFill>
                <a:latin typeface="Comic Sans MS"/>
              </a:rPr>
              <a:t>calidad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del agua en las corrientes y los ríos que se pueden asumir bien mezc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 conveniente para los flujos inestables, o para los dominios que reciben entradas variables de los componentes de calidad del a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fectos de variaciones diarias en procesos relacionados con la temperatura del agua y fotosíntesis algal pueden ser simul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delo es una herramienta del planeamiento de la calidad del agua para ayudar a evaluar las cargas totales máximas diarias (TMDL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VARIABLES QUE CONSI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Oxy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Biochemical Oxygen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lgae as Chlorophyl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Nitrogen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mmonia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i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itrate as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rganic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issolved Phosphorus as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lif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3855960" cy="4343400"/>
          </a:xfrm>
          <a:prstGeom prst="rect">
            <a:avLst/>
          </a:prstGeom>
          <a:ln w="0">
            <a:noFill/>
          </a:ln>
        </p:spPr>
      </p:pic>
      <p:pic>
        <p:nvPicPr>
          <p:cNvPr id="61" name="mono01" descr=""/>
          <p:cNvPicPr/>
          <p:nvPr/>
        </p:nvPicPr>
        <p:blipFill>
          <a:blip r:embed="rId3"/>
          <a:stretch/>
        </p:blipFill>
        <p:spPr>
          <a:xfrm>
            <a:off x="4952880" y="1905120"/>
            <a:ext cx="37386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92200" y="380880"/>
            <a:ext cx="6008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69" name="qual2e1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7286760" cy="3591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18960" y="990720"/>
            <a:ext cx="739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ALTERNATIVAS DE SIMU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pic>
        <p:nvPicPr>
          <p:cNvPr id="74" name="reaches2" descr=""/>
          <p:cNvPicPr/>
          <p:nvPr/>
        </p:nvPicPr>
        <p:blipFill>
          <a:blip r:embed="rId2"/>
          <a:stretch/>
        </p:blipFill>
        <p:spPr>
          <a:xfrm>
            <a:off x="2286000" y="533520"/>
            <a:ext cx="5124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15760" y="1447920"/>
            <a:ext cx="20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SUSP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46920" y="525780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DIMEN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89720" y="35812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37160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38160" y="5715000"/>
                <a:ext cx="24004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105520" y="5715000"/>
                <a:ext cx="2307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DIMENTAC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105520" y="5638680"/>
            <a:ext cx="23619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57880" y="30481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749680" y="685800"/>
                <a:ext cx="17920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SUSPENSIO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505280" y="63244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QUAL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362320" y="2590920"/>
            <a:ext cx="4952880" cy="16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86240" y="1447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AE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00640" y="18288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82240" y="144792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TOSINT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7080" y="525780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SCOMPOS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26240" y="464832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3886200"/>
            <a:ext cx="495288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35812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02264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30481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01920" y="630360"/>
                <a:ext cx="35272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OXIGENA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791320" y="628560"/>
                <a:ext cx="16970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TOSINTESI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523880" y="1295280"/>
            <a:ext cx="3581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1295280"/>
            <a:ext cx="2133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05120" y="5715000"/>
                <a:ext cx="22669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ESCOMPOSICIO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608880" y="5105520"/>
                <a:ext cx="13921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OND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629400" y="5029200"/>
            <a:ext cx="12952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5638680"/>
            <a:ext cx="26672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1120" y="3048120"/>
            <a:ext cx="6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16:03Z</dcterms:created>
  <dc:creator>Compaq</dc:creator>
  <dc:description/>
  <dc:language>en-US</dc:language>
  <cp:lastModifiedBy>Carlos Espinoza</cp:lastModifiedBy>
  <cp:lastPrinted>2004-09-30T18:04:15Z</cp:lastPrinted>
  <dcterms:modified xsi:type="dcterms:W3CDTF">2004-09-30T18:04:18Z</dcterms:modified>
  <cp:revision>49</cp:revision>
  <dc:subject/>
  <dc:title>Sin título de diapositiva</dc:title>
</cp:coreProperties>
</file>