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2463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A75-379A-4B66-9CEA-67982C60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0E4-399C-4789-B097-3798B389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999-5044-4BB8-BDCC-7C149633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40F-ED95-4033-A340-E516A9C7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519A-ACFD-4234-A95D-38EBAB56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32B5-81B8-41CA-9E86-D3BFFE70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10B-DC2B-4726-B8C2-CF5D4A5D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7959-65CF-48E4-BA43-2F206FE8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D18-54F3-4CF6-8975-1B533BC1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32F-1772-4C75-89B7-C0D4836C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DB71-B82C-4E85-B6CC-BBB25BD9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444E-23AE-4307-BDFB-67DD0A31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2F36-B868-4EE9-8967-6292ECB6F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51D/CI71I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AMINACION DE RECURSOS HI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UAL2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18960" y="91440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QUAL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l combinar ambos efectos simultáneam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BIO NETO EN MATERIA ORGA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BIO NETO EN OXIGENO DISUE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590920" y="2971800"/>
                <a:ext cx="44514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L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7080" y="4952880"/>
                <a:ext cx="5280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28" name="ForAndy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632448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31" name="oxydemandwaste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7315200" cy="4575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30240" y="594360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0000"/>
                </a:solidFill>
                <a:latin typeface="Arial"/>
              </a:rPr>
              <a:t>OD versus D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18960" y="91440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QUAL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de estado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estacionari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de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1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para simular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fluj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calida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del agua en las corrientes y los ríos que se pueden asumir bien mezc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 conveniente para los flujos inestables, o para los dominios que reciben entradas variables de los componentes de calidad del agu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fectos de variaciones diarias en procesos relacionados con la temperatura del agua y fotosíntesis algal pueden ser simu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es una herramienta del planeamiento de la calidad del agua para ayudar a evaluar las cargas totales máximas diarias (TMDL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VARIABLES QUE CONSI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Oxy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Biochemical Oxygen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lgae as Chlorophyl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Nitrogen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mmonia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i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a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lif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3855960" cy="4343400"/>
          </a:xfrm>
          <a:prstGeom prst="rect">
            <a:avLst/>
          </a:prstGeom>
          <a:ln w="0">
            <a:noFill/>
          </a:ln>
        </p:spPr>
      </p:pic>
      <p:pic>
        <p:nvPicPr>
          <p:cNvPr id="61" name="mono01" descr=""/>
          <p:cNvPicPr/>
          <p:nvPr/>
        </p:nvPicPr>
        <p:blipFill>
          <a:blip r:embed="rId3"/>
          <a:stretch/>
        </p:blipFill>
        <p:spPr>
          <a:xfrm>
            <a:off x="4952880" y="1905120"/>
            <a:ext cx="373860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92200" y="380880"/>
            <a:ext cx="6008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9" name="qual2e1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7286760" cy="3591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ALTERNATIVAS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74" name="reaches2" descr=""/>
          <p:cNvPicPr/>
          <p:nvPr/>
        </p:nvPicPr>
        <p:blipFill>
          <a:blip r:embed="rId2"/>
          <a:stretch/>
        </p:blipFill>
        <p:spPr>
          <a:xfrm>
            <a:off x="2286000" y="533520"/>
            <a:ext cx="5124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362320" y="2590920"/>
            <a:ext cx="4952880" cy="16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8288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15760" y="144792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SUSP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37080" y="525780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SCOMPOSI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46920" y="525780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DIMEN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3886200"/>
            <a:ext cx="495288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35812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89720" y="358128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29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371600"/>
            <a:ext cx="2133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838160" y="5715000"/>
                <a:ext cx="24004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COMPOSIC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105520" y="5715000"/>
                <a:ext cx="23079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DIMENTAC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5105520" y="5638680"/>
            <a:ext cx="23619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5638680"/>
            <a:ext cx="26672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57880" y="30481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749680" y="685800"/>
                <a:ext cx="1792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USPENS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362320" y="2590920"/>
            <a:ext cx="4952880" cy="16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18288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86240" y="1447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AER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00640" y="18288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82240" y="144792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OTOSIN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7080" y="525780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SCOMPOSI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26240" y="46483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3886200"/>
            <a:ext cx="495288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35812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89720" y="402264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501920" y="630360"/>
                <a:ext cx="35272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OXIGENACI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791320" y="628560"/>
                <a:ext cx="1697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OTOSINTESI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523880" y="1295280"/>
            <a:ext cx="358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1295280"/>
            <a:ext cx="2133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05120" y="5715000"/>
                <a:ext cx="22669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COMPOSICI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608880" y="5105520"/>
                <a:ext cx="13921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OND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629400" y="5029200"/>
            <a:ext cx="12952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5638680"/>
            <a:ext cx="26672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1120" y="30481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4-09-30T18:04:15Z</cp:lastPrinted>
  <dcterms:modified xsi:type="dcterms:W3CDTF">2004-09-30T18:04:18Z</dcterms:modified>
  <cp:revision>49</cp:revision>
  <dc:subject/>
  <dc:title>Sin título de diapositiva</dc:title>
</cp:coreProperties>
</file>