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2463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669-B2C1-4600-BE0B-F720ED84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75A-D0C6-4143-B6F6-6CCD6646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F1F-B97C-4733-94A7-ABFFD9EE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66D-E877-4E39-B0A0-7EB358F2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67C-41D8-4C30-8457-65556D91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378-6AF4-49DA-AFEA-7C48000D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3EF-A62D-45DD-930B-3F5BC33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C2B-F92B-4C07-BCAF-98F9D261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025-452D-4F04-B68E-DB6D736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BAA-1606-4496-BE3E-E733DB6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ECC-2745-4AA9-9943-8D3E0FC7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419-8B49-4724-B27B-9786E5D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D272-C964-4779-B4F5-A061E1A13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AL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 combinar ambos efectos simultánea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MATERIA ORG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OXIGENO DISUE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2971800"/>
                <a:ext cx="4451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7080" y="4952880"/>
                <a:ext cx="528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28" name="ForAndy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24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31" name="oxydemandwaste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7315200" cy="457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5943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Arial"/>
              </a:rPr>
              <a:t>OD versus D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385596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mono01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7386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92200" y="380880"/>
            <a:ext cx="6008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9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4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5760" y="1447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6920" y="52578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89720" y="35812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37160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8160" y="5715000"/>
                <a:ext cx="2400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05520" y="5715000"/>
                <a:ext cx="2307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DIMENTA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05520" y="5638680"/>
            <a:ext cx="236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048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9680" y="685800"/>
                <a:ext cx="179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USPENS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86240" y="1447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A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0064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82240" y="14479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TOSI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6240" y="4648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02264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01920" y="630360"/>
                <a:ext cx="352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OXIGENA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628560"/>
                <a:ext cx="1697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TOSINTES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23880" y="129528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2952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715000"/>
                <a:ext cx="2266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08880" y="5105520"/>
                <a:ext cx="1392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ND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502920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1120" y="3048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4-09-30T18:04:15Z</cp:lastPrinted>
  <dcterms:modified xsi:type="dcterms:W3CDTF">2004-09-30T18:04:18Z</dcterms:modified>
  <cp:revision>49</cp:revision>
  <dc:subject/>
  <dc:title>Sin título de diapositiva</dc:title>
</cp:coreProperties>
</file>