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004-16A0-4E60-B20C-BD8D2229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2A6-5900-4137-A74B-389194C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BCA-67AA-43A6-8814-E47CDF5C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1F7-7602-4DF1-BDF8-AC81E3D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AC-112D-4E3E-AF4D-6F97C82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9D0-5FAC-4142-9613-107A3DEA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378-9FF9-4A3C-AAD5-73AC3018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ADA-CE79-4D1C-A20E-75F6499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D04-80C9-4AFF-B0FE-916CB367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250-1A71-4683-9CD8-570DA45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DD8-0934-44ED-8DBB-C40B7972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B54-FEBA-4836-827C-D03B395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DED-01EB-46B8-9F78-C0F88D6D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trebal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lTrebal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trebal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farfana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.LaFarfana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farfana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alternativa%20para%20Medio%20Ambiente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arfana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trebal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mode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sitios para futuros muestre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Software QUAL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conocimiento del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de modelo QUAL2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predictivo: situación actual (2003) y futura (20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4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7560" y="2925720"/>
            <a:ext cx="25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Comic Sans MS"/>
              </a:rPr>
              <a:t>QUAL2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2" name="mono01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9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6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1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5" name="ForAndy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3244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mono01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_POBLADOS" descr=""/>
          <p:cNvPicPr/>
          <p:nvPr/>
        </p:nvPicPr>
        <p:blipFill>
          <a:blip r:embed="rId1"/>
          <a:srcRect l="8109" t="0" r="6307" b="0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rioMapocho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09fc8870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0a8f4a40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4-08-12T23:24:54Z</dcterms:modified>
  <cp:revision>12</cp:revision>
  <dc:subject/>
  <dc:title>Sin título de diapositiva</dc:title>
</cp:coreProperties>
</file>