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E47-51C3-4845-97D1-55FD9FA8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768-5598-4D3F-AB35-01B6F84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710-DA41-48E7-B395-0F0F18D7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A91-F17C-476E-999B-AD456DAD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C23-3F59-404A-81E6-8C36BE4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93F-F33C-4A70-9673-0CF6240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016-F1B6-4689-A56B-524816A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1E3-1502-44DF-9D6C-200C1627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A76-EF33-4A0C-A437-C4464497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175-0F9D-4BB7-86F3-523A9AA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79D-1F41-4BAB-97B6-68145BE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F2F-A27E-4D6B-91EB-62504D3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315-13D9-437D-9BEB-B451B77C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RABAJO PRA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GESTION DE LA CALIDAD DEL AGUA EN EL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Jorge Castill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mic Sans MS"/>
              </a:rPr>
              <a:t>Carlos Espino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2360" y="0"/>
            <a:ext cx="81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lbertus Extra Bold"/>
              </a:rPr>
              <a:t>EL AGUA POTABLE EN LA 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0400" y="2590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Arial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71800" y="609480"/>
            <a:ext cx="5791320" cy="5703120"/>
            <a:chOff x="2971800" y="609480"/>
            <a:chExt cx="5791320" cy="5703120"/>
          </a:xfrm>
        </p:grpSpPr>
        <p:sp>
          <p:nvSpPr>
            <p:cNvPr id="104" name=""/>
            <p:cNvSpPr/>
            <p:nvPr/>
          </p:nvSpPr>
          <p:spPr>
            <a:xfrm>
              <a:off x="6400800" y="1371600"/>
              <a:ext cx="2209680" cy="2895480"/>
            </a:xfrm>
            <a:custGeom>
              <a:avLst/>
              <a:gdLst/>
              <a:ahLst/>
              <a:rect l="l" t="t" r="r" b="b"/>
              <a:pathLst>
                <a:path w="1320" h="1832">
                  <a:moveTo>
                    <a:pt x="72" y="200"/>
                  </a:moveTo>
                  <a:cubicBezTo>
                    <a:pt x="144" y="0"/>
                    <a:pt x="544" y="24"/>
                    <a:pt x="648" y="56"/>
                  </a:cubicBezTo>
                  <a:cubicBezTo>
                    <a:pt x="752" y="88"/>
                    <a:pt x="656" y="296"/>
                    <a:pt x="696" y="392"/>
                  </a:cubicBezTo>
                  <a:cubicBezTo>
                    <a:pt x="736" y="488"/>
                    <a:pt x="792" y="536"/>
                    <a:pt x="888" y="632"/>
                  </a:cubicBezTo>
                  <a:cubicBezTo>
                    <a:pt x="984" y="728"/>
                    <a:pt x="1224" y="848"/>
                    <a:pt x="1272" y="968"/>
                  </a:cubicBezTo>
                  <a:cubicBezTo>
                    <a:pt x="1320" y="1088"/>
                    <a:pt x="1200" y="1240"/>
                    <a:pt x="1176" y="1352"/>
                  </a:cubicBezTo>
                  <a:cubicBezTo>
                    <a:pt x="1152" y="1464"/>
                    <a:pt x="1208" y="1560"/>
                    <a:pt x="1128" y="1640"/>
                  </a:cubicBezTo>
                  <a:cubicBezTo>
                    <a:pt x="1048" y="1720"/>
                    <a:pt x="808" y="1832"/>
                    <a:pt x="696" y="1832"/>
                  </a:cubicBezTo>
                  <a:cubicBezTo>
                    <a:pt x="584" y="1832"/>
                    <a:pt x="536" y="1736"/>
                    <a:pt x="456" y="1640"/>
                  </a:cubicBezTo>
                  <a:cubicBezTo>
                    <a:pt x="376" y="1544"/>
                    <a:pt x="280" y="1496"/>
                    <a:pt x="216" y="1256"/>
                  </a:cubicBezTo>
                  <a:cubicBezTo>
                    <a:pt x="152" y="1016"/>
                    <a:pt x="0" y="400"/>
                    <a:pt x="72" y="2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3504960"/>
              <a:ext cx="30492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38680" y="2286000"/>
              <a:ext cx="381240" cy="2286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43600" y="838080"/>
              <a:ext cx="0" cy="14479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733560"/>
              <a:ext cx="0" cy="19814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505320" y="609480"/>
              <a:ext cx="5257800" cy="597600"/>
              <a:chOff x="3505320" y="609480"/>
              <a:chExt cx="5257800" cy="5976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5320" y="60948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1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poch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6,8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17,1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6200" y="698400"/>
                <a:ext cx="58752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971800" y="5715000"/>
              <a:ext cx="5257800" cy="597600"/>
              <a:chOff x="2971800" y="5715000"/>
              <a:chExt cx="5257800" cy="597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971800" y="5715000"/>
                <a:ext cx="5257800" cy="52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72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Q            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Arial"/>
                  </a:rPr>
                  <a:t>Maipo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=   150 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 325 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MX" sz="1400" spc="-1" strike="noStrike">
                    <a:solidFill>
                      <a:srgbClr val="000000"/>
                    </a:solidFill>
                    <a:latin typeface="Arial"/>
                  </a:rPr>
                  <a:t> * s</a:t>
                </a:r>
                <a:r>
                  <a:rPr b="1" lang="es-MX" sz="1400" spc="-1" strike="noStrike" baseline="30000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91120" y="5803920"/>
                <a:ext cx="711000" cy="50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Prome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 baseline="-25000">
                    <a:solidFill>
                      <a:srgbClr val="000000"/>
                    </a:solidFill>
                    <a:latin typeface="Arial"/>
                  </a:rPr>
                  <a:t>Mensu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6736680" y="1806480"/>
            <a:ext cx="21222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Produc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17,2 m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* s</a:t>
            </a:r>
            <a:r>
              <a:rPr b="1" lang="es-MX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2480" y="2057400"/>
            <a:ext cx="4312800" cy="2755800"/>
            <a:chOff x="1392480" y="2057400"/>
            <a:chExt cx="4312800" cy="2755800"/>
          </a:xfrm>
        </p:grpSpPr>
        <p:sp>
          <p:nvSpPr>
            <p:cNvPr id="117" name=""/>
            <p:cNvSpPr/>
            <p:nvPr/>
          </p:nvSpPr>
          <p:spPr>
            <a:xfrm>
              <a:off x="1844640" y="2070000"/>
              <a:ext cx="3860640" cy="2743200"/>
            </a:xfrm>
            <a:custGeom>
              <a:avLst/>
              <a:gdLst/>
              <a:ahLst/>
              <a:rect l="l" t="t" r="r" b="b"/>
              <a:pathLst>
                <a:path w="2432" h="1728">
                  <a:moveTo>
                    <a:pt x="0" y="1336"/>
                  </a:moveTo>
                  <a:cubicBezTo>
                    <a:pt x="140" y="1184"/>
                    <a:pt x="280" y="1032"/>
                    <a:pt x="432" y="952"/>
                  </a:cubicBezTo>
                  <a:cubicBezTo>
                    <a:pt x="584" y="872"/>
                    <a:pt x="792" y="920"/>
                    <a:pt x="912" y="856"/>
                  </a:cubicBezTo>
                  <a:cubicBezTo>
                    <a:pt x="1032" y="792"/>
                    <a:pt x="1064" y="656"/>
                    <a:pt x="1152" y="568"/>
                  </a:cubicBezTo>
                  <a:cubicBezTo>
                    <a:pt x="1240" y="480"/>
                    <a:pt x="1352" y="400"/>
                    <a:pt x="1440" y="328"/>
                  </a:cubicBezTo>
                  <a:cubicBezTo>
                    <a:pt x="1528" y="256"/>
                    <a:pt x="1528" y="176"/>
                    <a:pt x="1680" y="136"/>
                  </a:cubicBezTo>
                  <a:cubicBezTo>
                    <a:pt x="1832" y="96"/>
                    <a:pt x="2272" y="0"/>
                    <a:pt x="2352" y="88"/>
                  </a:cubicBezTo>
                  <a:cubicBezTo>
                    <a:pt x="2432" y="176"/>
                    <a:pt x="2192" y="520"/>
                    <a:pt x="2160" y="664"/>
                  </a:cubicBezTo>
                  <a:cubicBezTo>
                    <a:pt x="2128" y="808"/>
                    <a:pt x="2152" y="840"/>
                    <a:pt x="2160" y="952"/>
                  </a:cubicBezTo>
                  <a:cubicBezTo>
                    <a:pt x="2168" y="1064"/>
                    <a:pt x="2272" y="1216"/>
                    <a:pt x="2208" y="1336"/>
                  </a:cubicBezTo>
                  <a:cubicBezTo>
                    <a:pt x="2144" y="1456"/>
                    <a:pt x="1936" y="1616"/>
                    <a:pt x="1776" y="1672"/>
                  </a:cubicBezTo>
                  <a:cubicBezTo>
                    <a:pt x="1616" y="1728"/>
                    <a:pt x="1424" y="1704"/>
                    <a:pt x="1248" y="1672"/>
                  </a:cubicBezTo>
                  <a:cubicBezTo>
                    <a:pt x="1072" y="1640"/>
                    <a:pt x="920" y="1536"/>
                    <a:pt x="720" y="1480"/>
                  </a:cubicBezTo>
                  <a:cubicBezTo>
                    <a:pt x="520" y="1424"/>
                    <a:pt x="160" y="1360"/>
                    <a:pt x="48" y="1336"/>
                  </a:cubicBezTo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63960" y="2057400"/>
              <a:ext cx="121896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nsu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0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200320" y="2235240"/>
              <a:ext cx="3213000" cy="2489040"/>
              <a:chOff x="2200320" y="2235240"/>
              <a:chExt cx="3213000" cy="2489040"/>
            </a:xfrm>
          </p:grpSpPr>
          <p:sp>
            <p:nvSpPr>
              <p:cNvPr id="120" name=""/>
              <p:cNvSpPr/>
              <p:nvPr/>
            </p:nvSpPr>
            <p:spPr>
              <a:xfrm>
                <a:off x="2200320" y="3174840"/>
                <a:ext cx="3213000" cy="1549440"/>
              </a:xfrm>
              <a:custGeom>
                <a:avLst/>
                <a:gdLst/>
                <a:ahLst/>
                <a:rect l="l" t="t" r="r" b="b"/>
                <a:pathLst>
                  <a:path w="2024" h="976">
                    <a:moveTo>
                      <a:pt x="208" y="592"/>
                    </a:moveTo>
                    <a:cubicBezTo>
                      <a:pt x="24" y="520"/>
                      <a:pt x="0" y="552"/>
                      <a:pt x="16" y="496"/>
                    </a:cubicBezTo>
                    <a:cubicBezTo>
                      <a:pt x="32" y="440"/>
                      <a:pt x="192" y="296"/>
                      <a:pt x="304" y="256"/>
                    </a:cubicBezTo>
                    <a:cubicBezTo>
                      <a:pt x="416" y="216"/>
                      <a:pt x="600" y="280"/>
                      <a:pt x="688" y="256"/>
                    </a:cubicBezTo>
                    <a:cubicBezTo>
                      <a:pt x="776" y="232"/>
                      <a:pt x="736" y="152"/>
                      <a:pt x="832" y="112"/>
                    </a:cubicBezTo>
                    <a:cubicBezTo>
                      <a:pt x="928" y="72"/>
                      <a:pt x="1160" y="0"/>
                      <a:pt x="1264" y="16"/>
                    </a:cubicBezTo>
                    <a:cubicBezTo>
                      <a:pt x="1368" y="32"/>
                      <a:pt x="1392" y="168"/>
                      <a:pt x="1456" y="208"/>
                    </a:cubicBezTo>
                    <a:cubicBezTo>
                      <a:pt x="1520" y="248"/>
                      <a:pt x="1560" y="200"/>
                      <a:pt x="1648" y="256"/>
                    </a:cubicBezTo>
                    <a:cubicBezTo>
                      <a:pt x="1736" y="312"/>
                      <a:pt x="1944" y="480"/>
                      <a:pt x="1984" y="544"/>
                    </a:cubicBezTo>
                    <a:cubicBezTo>
                      <a:pt x="2024" y="608"/>
                      <a:pt x="1944" y="584"/>
                      <a:pt x="1888" y="640"/>
                    </a:cubicBezTo>
                    <a:cubicBezTo>
                      <a:pt x="1832" y="696"/>
                      <a:pt x="1776" y="832"/>
                      <a:pt x="1648" y="880"/>
                    </a:cubicBezTo>
                    <a:cubicBezTo>
                      <a:pt x="1520" y="928"/>
                      <a:pt x="1360" y="976"/>
                      <a:pt x="1120" y="928"/>
                    </a:cubicBezTo>
                    <a:cubicBezTo>
                      <a:pt x="880" y="880"/>
                      <a:pt x="392" y="664"/>
                      <a:pt x="208" y="59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21080" y="2235240"/>
                <a:ext cx="533160" cy="558720"/>
              </a:xfrm>
              <a:custGeom>
                <a:avLst/>
                <a:gdLst/>
                <a:ahLst/>
                <a:rect l="l" t="t" r="r" b="b"/>
                <a:pathLst>
                  <a:path w="336" h="352">
                    <a:moveTo>
                      <a:pt x="216" y="32"/>
                    </a:moveTo>
                    <a:cubicBezTo>
                      <a:pt x="264" y="0"/>
                      <a:pt x="336" y="32"/>
                      <a:pt x="312" y="80"/>
                    </a:cubicBezTo>
                    <a:cubicBezTo>
                      <a:pt x="288" y="128"/>
                      <a:pt x="120" y="288"/>
                      <a:pt x="72" y="320"/>
                    </a:cubicBezTo>
                    <a:cubicBezTo>
                      <a:pt x="24" y="352"/>
                      <a:pt x="0" y="320"/>
                      <a:pt x="24" y="272"/>
                    </a:cubicBezTo>
                    <a:cubicBezTo>
                      <a:pt x="48" y="224"/>
                      <a:pt x="168" y="64"/>
                      <a:pt x="216" y="32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11520" y="2971800"/>
                <a:ext cx="406080" cy="596880"/>
              </a:xfrm>
              <a:custGeom>
                <a:avLst/>
                <a:gdLst/>
                <a:ahLst/>
                <a:rect l="l" t="t" r="r" b="b"/>
                <a:pathLst>
                  <a:path w="256" h="376">
                    <a:moveTo>
                      <a:pt x="0" y="96"/>
                    </a:moveTo>
                    <a:cubicBezTo>
                      <a:pt x="0" y="40"/>
                      <a:pt x="56" y="0"/>
                      <a:pt x="96" y="0"/>
                    </a:cubicBezTo>
                    <a:cubicBezTo>
                      <a:pt x="136" y="0"/>
                      <a:pt x="224" y="40"/>
                      <a:pt x="240" y="96"/>
                    </a:cubicBezTo>
                    <a:cubicBezTo>
                      <a:pt x="256" y="152"/>
                      <a:pt x="216" y="296"/>
                      <a:pt x="192" y="336"/>
                    </a:cubicBezTo>
                    <a:cubicBezTo>
                      <a:pt x="168" y="376"/>
                      <a:pt x="128" y="376"/>
                      <a:pt x="96" y="336"/>
                    </a:cubicBezTo>
                    <a:cubicBezTo>
                      <a:pt x="64" y="296"/>
                      <a:pt x="0" y="152"/>
                      <a:pt x="0" y="96"/>
                    </a:cubicBezTo>
                    <a:close/>
                  </a:path>
                </a:pathLst>
              </a:custGeom>
              <a:solidFill>
                <a:srgbClr val="3366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92480" y="2873160"/>
              <a:ext cx="2248920" cy="5202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Producción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,1 m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 * s</a:t>
              </a:r>
              <a:r>
                <a:rPr b="1" lang="es-MX" sz="14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53280" y="228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LAN DE SANEAMIENTO Y GESTIÓN DE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8480" y="12193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NI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400" y="1638360"/>
            <a:ext cx="852300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itar enfermedades relacionadas con riego con aguas contaminad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tección de la Calidad de las Aguas Subterráne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360" y="26668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NÓ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876920"/>
            <a:ext cx="21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MBIENT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3716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895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02920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4320" y="3048120"/>
            <a:ext cx="750924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icultura de la Región benefi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jor eficiencia del riego (l.s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ha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llo de calidad para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 empleos asociados al desarrollo de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5181480"/>
            <a:ext cx="68389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iminación de los malos olores en los cuerpos de agu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 espacios recreacion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Recuperación del patrimonio natur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8200" y="261612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59320" y="332748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36960" y="360036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82240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81680" y="256536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4133880"/>
            <a:ext cx="285480" cy="21888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9280" y="34815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263844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232416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762120"/>
            <a:ext cx="327636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1.- SubCuenca Sur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La Planta El Tre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cc"/>
                </a:solidFill>
                <a:latin typeface="Arial"/>
              </a:rPr>
              <a:t>Noviembre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657600" y="2362320"/>
            <a:ext cx="2114640" cy="1799640"/>
            <a:chOff x="3657600" y="2362320"/>
            <a:chExt cx="2114640" cy="1799640"/>
          </a:xfrm>
        </p:grpSpPr>
        <p:sp>
          <p:nvSpPr>
            <p:cNvPr id="146" name=""/>
            <p:cNvSpPr/>
            <p:nvPr/>
          </p:nvSpPr>
          <p:spPr>
            <a:xfrm>
              <a:off x="3657600" y="3519360"/>
              <a:ext cx="581040" cy="642600"/>
            </a:xfrm>
            <a:custGeom>
              <a:avLst/>
              <a:gdLst/>
              <a:ahLst/>
              <a:rect l="l" t="t" r="r" b="b"/>
              <a:pathLst>
                <a:path w="366" h="405">
                  <a:moveTo>
                    <a:pt x="0" y="405"/>
                  </a:moveTo>
                  <a:cubicBezTo>
                    <a:pt x="36" y="381"/>
                    <a:pt x="38" y="348"/>
                    <a:pt x="48" y="309"/>
                  </a:cubicBezTo>
                  <a:cubicBezTo>
                    <a:pt x="53" y="289"/>
                    <a:pt x="78" y="255"/>
                    <a:pt x="78" y="255"/>
                  </a:cubicBezTo>
                  <a:cubicBezTo>
                    <a:pt x="84" y="222"/>
                    <a:pt x="82" y="206"/>
                    <a:pt x="114" y="195"/>
                  </a:cubicBezTo>
                  <a:cubicBezTo>
                    <a:pt x="134" y="166"/>
                    <a:pt x="120" y="162"/>
                    <a:pt x="156" y="153"/>
                  </a:cubicBezTo>
                  <a:cubicBezTo>
                    <a:pt x="183" y="135"/>
                    <a:pt x="180" y="107"/>
                    <a:pt x="210" y="87"/>
                  </a:cubicBezTo>
                  <a:cubicBezTo>
                    <a:pt x="227" y="62"/>
                    <a:pt x="248" y="48"/>
                    <a:pt x="276" y="39"/>
                  </a:cubicBezTo>
                  <a:cubicBezTo>
                    <a:pt x="289" y="0"/>
                    <a:pt x="343" y="10"/>
                    <a:pt x="366" y="33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48000" y="2362320"/>
              <a:ext cx="1524240" cy="1523520"/>
            </a:xfrm>
            <a:custGeom>
              <a:avLst/>
              <a:gdLst/>
              <a:ahLst/>
              <a:rect l="l" t="t" r="r" b="b"/>
              <a:pathLst>
                <a:path w="2296" h="2752">
                  <a:moveTo>
                    <a:pt x="1184" y="2656"/>
                  </a:moveTo>
                  <a:cubicBezTo>
                    <a:pt x="1208" y="2672"/>
                    <a:pt x="1272" y="2672"/>
                    <a:pt x="1328" y="2656"/>
                  </a:cubicBezTo>
                  <a:cubicBezTo>
                    <a:pt x="1384" y="2640"/>
                    <a:pt x="1472" y="2592"/>
                    <a:pt x="1520" y="2560"/>
                  </a:cubicBezTo>
                  <a:cubicBezTo>
                    <a:pt x="1568" y="2528"/>
                    <a:pt x="1592" y="2480"/>
                    <a:pt x="1616" y="2464"/>
                  </a:cubicBezTo>
                  <a:cubicBezTo>
                    <a:pt x="1640" y="2448"/>
                    <a:pt x="1648" y="2472"/>
                    <a:pt x="1664" y="2464"/>
                  </a:cubicBezTo>
                  <a:cubicBezTo>
                    <a:pt x="1680" y="2456"/>
                    <a:pt x="1688" y="2424"/>
                    <a:pt x="1712" y="2416"/>
                  </a:cubicBezTo>
                  <a:cubicBezTo>
                    <a:pt x="1736" y="2408"/>
                    <a:pt x="1784" y="2416"/>
                    <a:pt x="1808" y="2416"/>
                  </a:cubicBezTo>
                  <a:cubicBezTo>
                    <a:pt x="1832" y="2416"/>
                    <a:pt x="1840" y="2416"/>
                    <a:pt x="1856" y="2416"/>
                  </a:cubicBezTo>
                  <a:cubicBezTo>
                    <a:pt x="1872" y="2416"/>
                    <a:pt x="1888" y="2416"/>
                    <a:pt x="1904" y="2416"/>
                  </a:cubicBezTo>
                  <a:cubicBezTo>
                    <a:pt x="1920" y="2416"/>
                    <a:pt x="1936" y="2424"/>
                    <a:pt x="1952" y="2416"/>
                  </a:cubicBezTo>
                  <a:cubicBezTo>
                    <a:pt x="1968" y="2408"/>
                    <a:pt x="1992" y="2384"/>
                    <a:pt x="2000" y="2368"/>
                  </a:cubicBezTo>
                  <a:cubicBezTo>
                    <a:pt x="2008" y="2352"/>
                    <a:pt x="1992" y="2328"/>
                    <a:pt x="2000" y="2320"/>
                  </a:cubicBezTo>
                  <a:cubicBezTo>
                    <a:pt x="2008" y="2312"/>
                    <a:pt x="2032" y="2328"/>
                    <a:pt x="2048" y="2320"/>
                  </a:cubicBezTo>
                  <a:cubicBezTo>
                    <a:pt x="2064" y="2312"/>
                    <a:pt x="2088" y="2296"/>
                    <a:pt x="2096" y="2272"/>
                  </a:cubicBezTo>
                  <a:cubicBezTo>
                    <a:pt x="2104" y="2248"/>
                    <a:pt x="2096" y="2200"/>
                    <a:pt x="2096" y="2176"/>
                  </a:cubicBezTo>
                  <a:cubicBezTo>
                    <a:pt x="2096" y="2152"/>
                    <a:pt x="2112" y="2144"/>
                    <a:pt x="2096" y="2128"/>
                  </a:cubicBezTo>
                  <a:cubicBezTo>
                    <a:pt x="2080" y="2112"/>
                    <a:pt x="2024" y="2088"/>
                    <a:pt x="2000" y="2080"/>
                  </a:cubicBezTo>
                  <a:cubicBezTo>
                    <a:pt x="1976" y="2072"/>
                    <a:pt x="1960" y="2096"/>
                    <a:pt x="1952" y="2080"/>
                  </a:cubicBezTo>
                  <a:cubicBezTo>
                    <a:pt x="1944" y="2064"/>
                    <a:pt x="1960" y="1992"/>
                    <a:pt x="1952" y="1984"/>
                  </a:cubicBezTo>
                  <a:cubicBezTo>
                    <a:pt x="1944" y="1976"/>
                    <a:pt x="1920" y="2040"/>
                    <a:pt x="1904" y="2032"/>
                  </a:cubicBezTo>
                  <a:cubicBezTo>
                    <a:pt x="1888" y="2024"/>
                    <a:pt x="1864" y="1960"/>
                    <a:pt x="1856" y="1936"/>
                  </a:cubicBezTo>
                  <a:cubicBezTo>
                    <a:pt x="1848" y="1912"/>
                    <a:pt x="1864" y="1896"/>
                    <a:pt x="1856" y="1888"/>
                  </a:cubicBezTo>
                  <a:cubicBezTo>
                    <a:pt x="1848" y="1880"/>
                    <a:pt x="1816" y="1896"/>
                    <a:pt x="1808" y="1888"/>
                  </a:cubicBezTo>
                  <a:cubicBezTo>
                    <a:pt x="1800" y="1880"/>
                    <a:pt x="1800" y="1856"/>
                    <a:pt x="1808" y="1840"/>
                  </a:cubicBezTo>
                  <a:cubicBezTo>
                    <a:pt x="1816" y="1824"/>
                    <a:pt x="1848" y="1808"/>
                    <a:pt x="1856" y="1792"/>
                  </a:cubicBezTo>
                  <a:cubicBezTo>
                    <a:pt x="1864" y="1776"/>
                    <a:pt x="1848" y="1776"/>
                    <a:pt x="1856" y="1744"/>
                  </a:cubicBezTo>
                  <a:cubicBezTo>
                    <a:pt x="1864" y="1712"/>
                    <a:pt x="1888" y="1632"/>
                    <a:pt x="1904" y="1600"/>
                  </a:cubicBezTo>
                  <a:cubicBezTo>
                    <a:pt x="1920" y="1568"/>
                    <a:pt x="1952" y="1568"/>
                    <a:pt x="1952" y="1552"/>
                  </a:cubicBezTo>
                  <a:cubicBezTo>
                    <a:pt x="1952" y="1536"/>
                    <a:pt x="1904" y="1520"/>
                    <a:pt x="1904" y="1504"/>
                  </a:cubicBezTo>
                  <a:cubicBezTo>
                    <a:pt x="1904" y="1488"/>
                    <a:pt x="1952" y="1472"/>
                    <a:pt x="1952" y="1456"/>
                  </a:cubicBezTo>
                  <a:cubicBezTo>
                    <a:pt x="1952" y="1440"/>
                    <a:pt x="1904" y="1432"/>
                    <a:pt x="1904" y="1408"/>
                  </a:cubicBezTo>
                  <a:cubicBezTo>
                    <a:pt x="1904" y="1384"/>
                    <a:pt x="1944" y="1368"/>
                    <a:pt x="1952" y="1312"/>
                  </a:cubicBezTo>
                  <a:cubicBezTo>
                    <a:pt x="1960" y="1256"/>
                    <a:pt x="1952" y="1128"/>
                    <a:pt x="1952" y="1072"/>
                  </a:cubicBezTo>
                  <a:cubicBezTo>
                    <a:pt x="1952" y="1016"/>
                    <a:pt x="1960" y="1008"/>
                    <a:pt x="1952" y="976"/>
                  </a:cubicBezTo>
                  <a:cubicBezTo>
                    <a:pt x="1944" y="944"/>
                    <a:pt x="1896" y="896"/>
                    <a:pt x="1904" y="880"/>
                  </a:cubicBezTo>
                  <a:cubicBezTo>
                    <a:pt x="1912" y="864"/>
                    <a:pt x="1976" y="888"/>
                    <a:pt x="2000" y="880"/>
                  </a:cubicBezTo>
                  <a:cubicBezTo>
                    <a:pt x="2024" y="872"/>
                    <a:pt x="2040" y="848"/>
                    <a:pt x="2048" y="832"/>
                  </a:cubicBezTo>
                  <a:cubicBezTo>
                    <a:pt x="2056" y="816"/>
                    <a:pt x="2040" y="816"/>
                    <a:pt x="2048" y="784"/>
                  </a:cubicBezTo>
                  <a:cubicBezTo>
                    <a:pt x="2056" y="752"/>
                    <a:pt x="2088" y="680"/>
                    <a:pt x="2096" y="640"/>
                  </a:cubicBezTo>
                  <a:cubicBezTo>
                    <a:pt x="2104" y="600"/>
                    <a:pt x="2096" y="568"/>
                    <a:pt x="2096" y="544"/>
                  </a:cubicBezTo>
                  <a:cubicBezTo>
                    <a:pt x="2096" y="520"/>
                    <a:pt x="2080" y="512"/>
                    <a:pt x="2096" y="496"/>
                  </a:cubicBezTo>
                  <a:cubicBezTo>
                    <a:pt x="2112" y="480"/>
                    <a:pt x="2168" y="456"/>
                    <a:pt x="2192" y="448"/>
                  </a:cubicBezTo>
                  <a:cubicBezTo>
                    <a:pt x="2216" y="440"/>
                    <a:pt x="2232" y="440"/>
                    <a:pt x="2240" y="448"/>
                  </a:cubicBezTo>
                  <a:cubicBezTo>
                    <a:pt x="2248" y="456"/>
                    <a:pt x="2240" y="480"/>
                    <a:pt x="2240" y="496"/>
                  </a:cubicBezTo>
                  <a:cubicBezTo>
                    <a:pt x="2240" y="512"/>
                    <a:pt x="2232" y="544"/>
                    <a:pt x="2240" y="544"/>
                  </a:cubicBezTo>
                  <a:cubicBezTo>
                    <a:pt x="2248" y="544"/>
                    <a:pt x="2280" y="512"/>
                    <a:pt x="2288" y="496"/>
                  </a:cubicBezTo>
                  <a:cubicBezTo>
                    <a:pt x="2296" y="480"/>
                    <a:pt x="2296" y="456"/>
                    <a:pt x="2288" y="448"/>
                  </a:cubicBezTo>
                  <a:cubicBezTo>
                    <a:pt x="2280" y="440"/>
                    <a:pt x="2256" y="456"/>
                    <a:pt x="2240" y="448"/>
                  </a:cubicBezTo>
                  <a:cubicBezTo>
                    <a:pt x="2224" y="440"/>
                    <a:pt x="2200" y="416"/>
                    <a:pt x="2192" y="400"/>
                  </a:cubicBezTo>
                  <a:cubicBezTo>
                    <a:pt x="2184" y="384"/>
                    <a:pt x="2184" y="368"/>
                    <a:pt x="2192" y="352"/>
                  </a:cubicBezTo>
                  <a:cubicBezTo>
                    <a:pt x="2200" y="336"/>
                    <a:pt x="2224" y="328"/>
                    <a:pt x="2240" y="304"/>
                  </a:cubicBezTo>
                  <a:cubicBezTo>
                    <a:pt x="2256" y="280"/>
                    <a:pt x="2296" y="216"/>
                    <a:pt x="2288" y="208"/>
                  </a:cubicBezTo>
                  <a:cubicBezTo>
                    <a:pt x="2280" y="200"/>
                    <a:pt x="2208" y="240"/>
                    <a:pt x="2192" y="256"/>
                  </a:cubicBezTo>
                  <a:cubicBezTo>
                    <a:pt x="2176" y="272"/>
                    <a:pt x="2208" y="280"/>
                    <a:pt x="2192" y="304"/>
                  </a:cubicBezTo>
                  <a:cubicBezTo>
                    <a:pt x="2176" y="328"/>
                    <a:pt x="2104" y="400"/>
                    <a:pt x="2096" y="400"/>
                  </a:cubicBezTo>
                  <a:cubicBezTo>
                    <a:pt x="2088" y="400"/>
                    <a:pt x="2152" y="336"/>
                    <a:pt x="2144" y="304"/>
                  </a:cubicBezTo>
                  <a:cubicBezTo>
                    <a:pt x="2136" y="272"/>
                    <a:pt x="2072" y="232"/>
                    <a:pt x="2048" y="208"/>
                  </a:cubicBezTo>
                  <a:cubicBezTo>
                    <a:pt x="2024" y="184"/>
                    <a:pt x="2016" y="168"/>
                    <a:pt x="2000" y="160"/>
                  </a:cubicBezTo>
                  <a:cubicBezTo>
                    <a:pt x="1984" y="152"/>
                    <a:pt x="1968" y="168"/>
                    <a:pt x="1952" y="160"/>
                  </a:cubicBezTo>
                  <a:cubicBezTo>
                    <a:pt x="1936" y="152"/>
                    <a:pt x="1920" y="120"/>
                    <a:pt x="1904" y="112"/>
                  </a:cubicBezTo>
                  <a:cubicBezTo>
                    <a:pt x="1888" y="104"/>
                    <a:pt x="1872" y="128"/>
                    <a:pt x="1856" y="112"/>
                  </a:cubicBezTo>
                  <a:cubicBezTo>
                    <a:pt x="1840" y="96"/>
                    <a:pt x="1824" y="32"/>
                    <a:pt x="1808" y="16"/>
                  </a:cubicBezTo>
                  <a:cubicBezTo>
                    <a:pt x="1792" y="0"/>
                    <a:pt x="1776" y="16"/>
                    <a:pt x="1760" y="16"/>
                  </a:cubicBezTo>
                  <a:cubicBezTo>
                    <a:pt x="1744" y="16"/>
                    <a:pt x="1728" y="8"/>
                    <a:pt x="1712" y="16"/>
                  </a:cubicBezTo>
                  <a:cubicBezTo>
                    <a:pt x="1696" y="24"/>
                    <a:pt x="1672" y="48"/>
                    <a:pt x="1664" y="64"/>
                  </a:cubicBezTo>
                  <a:cubicBezTo>
                    <a:pt x="1656" y="80"/>
                    <a:pt x="1672" y="112"/>
                    <a:pt x="1664" y="112"/>
                  </a:cubicBezTo>
                  <a:cubicBezTo>
                    <a:pt x="1656" y="112"/>
                    <a:pt x="1632" y="72"/>
                    <a:pt x="1616" y="64"/>
                  </a:cubicBezTo>
                  <a:cubicBezTo>
                    <a:pt x="1600" y="56"/>
                    <a:pt x="1576" y="56"/>
                    <a:pt x="1568" y="64"/>
                  </a:cubicBezTo>
                  <a:cubicBezTo>
                    <a:pt x="1560" y="72"/>
                    <a:pt x="1560" y="96"/>
                    <a:pt x="1568" y="112"/>
                  </a:cubicBezTo>
                  <a:cubicBezTo>
                    <a:pt x="1576" y="128"/>
                    <a:pt x="1600" y="152"/>
                    <a:pt x="1616" y="160"/>
                  </a:cubicBezTo>
                  <a:cubicBezTo>
                    <a:pt x="1632" y="168"/>
                    <a:pt x="1656" y="152"/>
                    <a:pt x="1664" y="160"/>
                  </a:cubicBezTo>
                  <a:cubicBezTo>
                    <a:pt x="1672" y="168"/>
                    <a:pt x="1672" y="192"/>
                    <a:pt x="1664" y="208"/>
                  </a:cubicBezTo>
                  <a:cubicBezTo>
                    <a:pt x="1656" y="224"/>
                    <a:pt x="1624" y="240"/>
                    <a:pt x="1616" y="256"/>
                  </a:cubicBezTo>
                  <a:cubicBezTo>
                    <a:pt x="1608" y="272"/>
                    <a:pt x="1624" y="296"/>
                    <a:pt x="1616" y="304"/>
                  </a:cubicBezTo>
                  <a:cubicBezTo>
                    <a:pt x="1608" y="312"/>
                    <a:pt x="1568" y="304"/>
                    <a:pt x="1568" y="304"/>
                  </a:cubicBezTo>
                  <a:cubicBezTo>
                    <a:pt x="1568" y="304"/>
                    <a:pt x="1600" y="304"/>
                    <a:pt x="1616" y="304"/>
                  </a:cubicBezTo>
                  <a:cubicBezTo>
                    <a:pt x="1632" y="304"/>
                    <a:pt x="1648" y="296"/>
                    <a:pt x="1664" y="304"/>
                  </a:cubicBezTo>
                  <a:cubicBezTo>
                    <a:pt x="1680" y="312"/>
                    <a:pt x="1704" y="336"/>
                    <a:pt x="1712" y="352"/>
                  </a:cubicBezTo>
                  <a:cubicBezTo>
                    <a:pt x="1720" y="368"/>
                    <a:pt x="1720" y="384"/>
                    <a:pt x="1712" y="400"/>
                  </a:cubicBezTo>
                  <a:cubicBezTo>
                    <a:pt x="1704" y="416"/>
                    <a:pt x="1688" y="440"/>
                    <a:pt x="1664" y="448"/>
                  </a:cubicBezTo>
                  <a:cubicBezTo>
                    <a:pt x="1640" y="456"/>
                    <a:pt x="1592" y="448"/>
                    <a:pt x="1568" y="448"/>
                  </a:cubicBezTo>
                  <a:cubicBezTo>
                    <a:pt x="1544" y="448"/>
                    <a:pt x="1544" y="440"/>
                    <a:pt x="1520" y="448"/>
                  </a:cubicBezTo>
                  <a:cubicBezTo>
                    <a:pt x="1496" y="456"/>
                    <a:pt x="1448" y="480"/>
                    <a:pt x="1424" y="496"/>
                  </a:cubicBezTo>
                  <a:cubicBezTo>
                    <a:pt x="1400" y="512"/>
                    <a:pt x="1384" y="528"/>
                    <a:pt x="1376" y="544"/>
                  </a:cubicBezTo>
                  <a:cubicBezTo>
                    <a:pt x="1368" y="560"/>
                    <a:pt x="1376" y="576"/>
                    <a:pt x="1376" y="592"/>
                  </a:cubicBezTo>
                  <a:cubicBezTo>
                    <a:pt x="1376" y="608"/>
                    <a:pt x="1384" y="640"/>
                    <a:pt x="1376" y="640"/>
                  </a:cubicBezTo>
                  <a:cubicBezTo>
                    <a:pt x="1368" y="640"/>
                    <a:pt x="1336" y="608"/>
                    <a:pt x="1328" y="592"/>
                  </a:cubicBezTo>
                  <a:cubicBezTo>
                    <a:pt x="1320" y="576"/>
                    <a:pt x="1336" y="552"/>
                    <a:pt x="1328" y="544"/>
                  </a:cubicBezTo>
                  <a:cubicBezTo>
                    <a:pt x="1320" y="536"/>
                    <a:pt x="1304" y="544"/>
                    <a:pt x="1280" y="544"/>
                  </a:cubicBezTo>
                  <a:cubicBezTo>
                    <a:pt x="1256" y="544"/>
                    <a:pt x="1192" y="560"/>
                    <a:pt x="1184" y="544"/>
                  </a:cubicBezTo>
                  <a:cubicBezTo>
                    <a:pt x="1176" y="528"/>
                    <a:pt x="1240" y="472"/>
                    <a:pt x="1232" y="448"/>
                  </a:cubicBezTo>
                  <a:cubicBezTo>
                    <a:pt x="1224" y="424"/>
                    <a:pt x="1160" y="392"/>
                    <a:pt x="1136" y="400"/>
                  </a:cubicBezTo>
                  <a:cubicBezTo>
                    <a:pt x="1112" y="408"/>
                    <a:pt x="1096" y="472"/>
                    <a:pt x="1088" y="496"/>
                  </a:cubicBezTo>
                  <a:cubicBezTo>
                    <a:pt x="1080" y="520"/>
                    <a:pt x="1096" y="544"/>
                    <a:pt x="1088" y="544"/>
                  </a:cubicBezTo>
                  <a:cubicBezTo>
                    <a:pt x="1080" y="544"/>
                    <a:pt x="1048" y="512"/>
                    <a:pt x="1040" y="496"/>
                  </a:cubicBezTo>
                  <a:cubicBezTo>
                    <a:pt x="1032" y="480"/>
                    <a:pt x="1040" y="464"/>
                    <a:pt x="1040" y="448"/>
                  </a:cubicBezTo>
                  <a:cubicBezTo>
                    <a:pt x="1040" y="432"/>
                    <a:pt x="1048" y="416"/>
                    <a:pt x="1040" y="400"/>
                  </a:cubicBezTo>
                  <a:cubicBezTo>
                    <a:pt x="1032" y="384"/>
                    <a:pt x="1000" y="368"/>
                    <a:pt x="992" y="352"/>
                  </a:cubicBezTo>
                  <a:cubicBezTo>
                    <a:pt x="984" y="336"/>
                    <a:pt x="992" y="320"/>
                    <a:pt x="992" y="304"/>
                  </a:cubicBezTo>
                  <a:cubicBezTo>
                    <a:pt x="992" y="288"/>
                    <a:pt x="1000" y="264"/>
                    <a:pt x="992" y="256"/>
                  </a:cubicBezTo>
                  <a:cubicBezTo>
                    <a:pt x="984" y="248"/>
                    <a:pt x="976" y="240"/>
                    <a:pt x="944" y="256"/>
                  </a:cubicBezTo>
                  <a:cubicBezTo>
                    <a:pt x="912" y="272"/>
                    <a:pt x="824" y="360"/>
                    <a:pt x="800" y="352"/>
                  </a:cubicBezTo>
                  <a:cubicBezTo>
                    <a:pt x="776" y="344"/>
                    <a:pt x="824" y="248"/>
                    <a:pt x="800" y="208"/>
                  </a:cubicBezTo>
                  <a:cubicBezTo>
                    <a:pt x="776" y="168"/>
                    <a:pt x="696" y="120"/>
                    <a:pt x="656" y="112"/>
                  </a:cubicBezTo>
                  <a:cubicBezTo>
                    <a:pt x="616" y="104"/>
                    <a:pt x="592" y="144"/>
                    <a:pt x="560" y="160"/>
                  </a:cubicBezTo>
                  <a:cubicBezTo>
                    <a:pt x="528" y="176"/>
                    <a:pt x="464" y="184"/>
                    <a:pt x="464" y="208"/>
                  </a:cubicBezTo>
                  <a:cubicBezTo>
                    <a:pt x="464" y="232"/>
                    <a:pt x="560" y="288"/>
                    <a:pt x="560" y="304"/>
                  </a:cubicBezTo>
                  <a:cubicBezTo>
                    <a:pt x="560" y="320"/>
                    <a:pt x="536" y="256"/>
                    <a:pt x="464" y="304"/>
                  </a:cubicBezTo>
                  <a:cubicBezTo>
                    <a:pt x="392" y="352"/>
                    <a:pt x="176" y="472"/>
                    <a:pt x="128" y="592"/>
                  </a:cubicBezTo>
                  <a:cubicBezTo>
                    <a:pt x="80" y="712"/>
                    <a:pt x="168" y="944"/>
                    <a:pt x="176" y="1024"/>
                  </a:cubicBezTo>
                  <a:cubicBezTo>
                    <a:pt x="184" y="1104"/>
                    <a:pt x="176" y="1048"/>
                    <a:pt x="176" y="1072"/>
                  </a:cubicBezTo>
                  <a:cubicBezTo>
                    <a:pt x="176" y="1096"/>
                    <a:pt x="176" y="1136"/>
                    <a:pt x="176" y="1168"/>
                  </a:cubicBezTo>
                  <a:cubicBezTo>
                    <a:pt x="176" y="1200"/>
                    <a:pt x="168" y="1232"/>
                    <a:pt x="176" y="1264"/>
                  </a:cubicBezTo>
                  <a:cubicBezTo>
                    <a:pt x="184" y="1296"/>
                    <a:pt x="216" y="1336"/>
                    <a:pt x="224" y="1360"/>
                  </a:cubicBezTo>
                  <a:cubicBezTo>
                    <a:pt x="232" y="1384"/>
                    <a:pt x="216" y="1384"/>
                    <a:pt x="224" y="1408"/>
                  </a:cubicBezTo>
                  <a:cubicBezTo>
                    <a:pt x="232" y="1432"/>
                    <a:pt x="280" y="1488"/>
                    <a:pt x="272" y="1504"/>
                  </a:cubicBezTo>
                  <a:cubicBezTo>
                    <a:pt x="264" y="1520"/>
                    <a:pt x="216" y="1496"/>
                    <a:pt x="176" y="1504"/>
                  </a:cubicBezTo>
                  <a:cubicBezTo>
                    <a:pt x="136" y="1512"/>
                    <a:pt x="48" y="1512"/>
                    <a:pt x="32" y="1552"/>
                  </a:cubicBezTo>
                  <a:cubicBezTo>
                    <a:pt x="16" y="1592"/>
                    <a:pt x="80" y="1696"/>
                    <a:pt x="80" y="1744"/>
                  </a:cubicBezTo>
                  <a:cubicBezTo>
                    <a:pt x="80" y="1792"/>
                    <a:pt x="40" y="1808"/>
                    <a:pt x="32" y="1840"/>
                  </a:cubicBezTo>
                  <a:cubicBezTo>
                    <a:pt x="24" y="1872"/>
                    <a:pt x="0" y="1896"/>
                    <a:pt x="32" y="1936"/>
                  </a:cubicBezTo>
                  <a:cubicBezTo>
                    <a:pt x="64" y="1976"/>
                    <a:pt x="184" y="2056"/>
                    <a:pt x="224" y="2080"/>
                  </a:cubicBezTo>
                  <a:cubicBezTo>
                    <a:pt x="264" y="2104"/>
                    <a:pt x="248" y="2088"/>
                    <a:pt x="272" y="2080"/>
                  </a:cubicBezTo>
                  <a:cubicBezTo>
                    <a:pt x="296" y="2072"/>
                    <a:pt x="344" y="2056"/>
                    <a:pt x="368" y="2032"/>
                  </a:cubicBezTo>
                  <a:cubicBezTo>
                    <a:pt x="392" y="2008"/>
                    <a:pt x="400" y="1952"/>
                    <a:pt x="416" y="1936"/>
                  </a:cubicBezTo>
                  <a:cubicBezTo>
                    <a:pt x="432" y="1920"/>
                    <a:pt x="448" y="1944"/>
                    <a:pt x="464" y="1936"/>
                  </a:cubicBezTo>
                  <a:cubicBezTo>
                    <a:pt x="480" y="1928"/>
                    <a:pt x="504" y="1904"/>
                    <a:pt x="512" y="1888"/>
                  </a:cubicBezTo>
                  <a:cubicBezTo>
                    <a:pt x="520" y="1872"/>
                    <a:pt x="504" y="1840"/>
                    <a:pt x="512" y="1840"/>
                  </a:cubicBezTo>
                  <a:cubicBezTo>
                    <a:pt x="520" y="1840"/>
                    <a:pt x="568" y="1856"/>
                    <a:pt x="560" y="1888"/>
                  </a:cubicBezTo>
                  <a:cubicBezTo>
                    <a:pt x="552" y="1920"/>
                    <a:pt x="464" y="2000"/>
                    <a:pt x="464" y="2032"/>
                  </a:cubicBezTo>
                  <a:cubicBezTo>
                    <a:pt x="464" y="2064"/>
                    <a:pt x="536" y="2048"/>
                    <a:pt x="560" y="2080"/>
                  </a:cubicBezTo>
                  <a:cubicBezTo>
                    <a:pt x="584" y="2112"/>
                    <a:pt x="592" y="2192"/>
                    <a:pt x="608" y="2224"/>
                  </a:cubicBezTo>
                  <a:cubicBezTo>
                    <a:pt x="624" y="2256"/>
                    <a:pt x="648" y="2248"/>
                    <a:pt x="656" y="2272"/>
                  </a:cubicBezTo>
                  <a:cubicBezTo>
                    <a:pt x="664" y="2296"/>
                    <a:pt x="656" y="2320"/>
                    <a:pt x="656" y="2368"/>
                  </a:cubicBezTo>
                  <a:cubicBezTo>
                    <a:pt x="656" y="2416"/>
                    <a:pt x="648" y="2504"/>
                    <a:pt x="656" y="2560"/>
                  </a:cubicBezTo>
                  <a:cubicBezTo>
                    <a:pt x="664" y="2616"/>
                    <a:pt x="696" y="2672"/>
                    <a:pt x="704" y="2704"/>
                  </a:cubicBezTo>
                  <a:cubicBezTo>
                    <a:pt x="712" y="2736"/>
                    <a:pt x="696" y="2752"/>
                    <a:pt x="704" y="2752"/>
                  </a:cubicBezTo>
                  <a:cubicBezTo>
                    <a:pt x="712" y="2752"/>
                    <a:pt x="712" y="2720"/>
                    <a:pt x="752" y="2704"/>
                  </a:cubicBezTo>
                  <a:cubicBezTo>
                    <a:pt x="792" y="2688"/>
                    <a:pt x="904" y="2656"/>
                    <a:pt x="944" y="2656"/>
                  </a:cubicBezTo>
                  <a:cubicBezTo>
                    <a:pt x="984" y="2656"/>
                    <a:pt x="992" y="2712"/>
                    <a:pt x="992" y="2704"/>
                  </a:cubicBezTo>
                  <a:cubicBezTo>
                    <a:pt x="992" y="2696"/>
                    <a:pt x="952" y="2632"/>
                    <a:pt x="944" y="2608"/>
                  </a:cubicBezTo>
                  <a:cubicBezTo>
                    <a:pt x="936" y="2584"/>
                    <a:pt x="952" y="2576"/>
                    <a:pt x="944" y="2560"/>
                  </a:cubicBezTo>
                  <a:cubicBezTo>
                    <a:pt x="936" y="2544"/>
                    <a:pt x="896" y="2536"/>
                    <a:pt x="896" y="2512"/>
                  </a:cubicBezTo>
                  <a:cubicBezTo>
                    <a:pt x="896" y="2488"/>
                    <a:pt x="936" y="2448"/>
                    <a:pt x="944" y="2416"/>
                  </a:cubicBezTo>
                  <a:cubicBezTo>
                    <a:pt x="952" y="2384"/>
                    <a:pt x="896" y="2336"/>
                    <a:pt x="944" y="2320"/>
                  </a:cubicBezTo>
                  <a:cubicBezTo>
                    <a:pt x="992" y="2304"/>
                    <a:pt x="1184" y="2312"/>
                    <a:pt x="1232" y="2320"/>
                  </a:cubicBezTo>
                  <a:cubicBezTo>
                    <a:pt x="1280" y="2328"/>
                    <a:pt x="1248" y="2352"/>
                    <a:pt x="1232" y="2368"/>
                  </a:cubicBezTo>
                  <a:cubicBezTo>
                    <a:pt x="1216" y="2384"/>
                    <a:pt x="1152" y="2400"/>
                    <a:pt x="1136" y="2416"/>
                  </a:cubicBezTo>
                  <a:cubicBezTo>
                    <a:pt x="1120" y="2432"/>
                    <a:pt x="1144" y="2440"/>
                    <a:pt x="1136" y="2464"/>
                  </a:cubicBezTo>
                  <a:cubicBezTo>
                    <a:pt x="1128" y="2488"/>
                    <a:pt x="1080" y="2544"/>
                    <a:pt x="1088" y="2560"/>
                  </a:cubicBezTo>
                  <a:cubicBezTo>
                    <a:pt x="1096" y="2576"/>
                    <a:pt x="1168" y="2544"/>
                    <a:pt x="1184" y="2560"/>
                  </a:cubicBezTo>
                  <a:cubicBezTo>
                    <a:pt x="1200" y="2576"/>
                    <a:pt x="1160" y="2640"/>
                    <a:pt x="1184" y="26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410000" y="2611440"/>
            <a:ext cx="1333440" cy="34920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9560" y="288612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41560" y="20574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3440" y="2610000"/>
            <a:ext cx="885960" cy="9504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8954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5440" y="372276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514600"/>
            <a:ext cx="228600" cy="228600"/>
          </a:xfrm>
          <a:custGeom>
            <a:avLst/>
            <a:gdLst/>
            <a:ahLst/>
            <a:rect l="l" t="t" r="r" b="b"/>
            <a:pathLst>
              <a:path w="94" h="79">
                <a:moveTo>
                  <a:pt x="4" y="47"/>
                </a:moveTo>
                <a:cubicBezTo>
                  <a:pt x="13" y="19"/>
                  <a:pt x="0" y="0"/>
                  <a:pt x="34" y="11"/>
                </a:cubicBezTo>
                <a:cubicBezTo>
                  <a:pt x="42" y="23"/>
                  <a:pt x="46" y="39"/>
                  <a:pt x="58" y="47"/>
                </a:cubicBezTo>
                <a:cubicBezTo>
                  <a:pt x="70" y="55"/>
                  <a:pt x="94" y="71"/>
                  <a:pt x="94" y="71"/>
                </a:cubicBezTo>
                <a:cubicBezTo>
                  <a:pt x="69" y="79"/>
                  <a:pt x="64" y="67"/>
                  <a:pt x="40" y="59"/>
                </a:cubicBezTo>
                <a:cubicBezTo>
                  <a:pt x="29" y="26"/>
                  <a:pt x="33" y="47"/>
                  <a:pt x="4" y="47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819520" y="2362320"/>
            <a:ext cx="3504600" cy="1600200"/>
            <a:chOff x="2819520" y="2362320"/>
            <a:chExt cx="3504600" cy="1600200"/>
          </a:xfrm>
        </p:grpSpPr>
        <p:grpSp>
          <p:nvGrpSpPr>
            <p:cNvPr id="157" name=""/>
            <p:cNvGrpSpPr/>
            <p:nvPr/>
          </p:nvGrpSpPr>
          <p:grpSpPr>
            <a:xfrm>
              <a:off x="2819520" y="2362320"/>
              <a:ext cx="3504600" cy="1600200"/>
              <a:chOff x="2819520" y="2362320"/>
              <a:chExt cx="3504600" cy="160020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2819520" y="2362320"/>
                <a:ext cx="3504600" cy="1600200"/>
                <a:chOff x="2819520" y="2362320"/>
                <a:chExt cx="3504600" cy="160020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2819520" y="2362320"/>
                  <a:ext cx="3504600" cy="1600200"/>
                  <a:chOff x="2819520" y="2362320"/>
                  <a:chExt cx="3504600" cy="160020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2819520" y="2362320"/>
                    <a:ext cx="3504600" cy="1600200"/>
                    <a:chOff x="2819520" y="2362320"/>
                    <a:chExt cx="3504600" cy="1600200"/>
                  </a:xfrm>
                </p:grpSpPr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819520" y="2362320"/>
                      <a:ext cx="3504600" cy="1600200"/>
                      <a:chOff x="2819520" y="2362320"/>
                      <a:chExt cx="3504600" cy="1600200"/>
                    </a:xfrm>
                  </p:grpSpPr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819520" y="2362320"/>
                        <a:ext cx="3504600" cy="1600200"/>
                        <a:chOff x="2819520" y="2362320"/>
                        <a:chExt cx="3504600" cy="1600200"/>
                      </a:xfrm>
                    </p:grpSpPr>
                    <p:pic>
                      <p:nvPicPr>
                        <p:cNvPr id="163" name="trebal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 flipH="1">
                          <a:off x="3809520" y="2362320"/>
                          <a:ext cx="251460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grpSp>
                      <p:nvGrpSpPr>
                        <p:cNvPr id="164" name=""/>
                        <p:cNvGrpSpPr/>
                        <p:nvPr/>
                      </p:nvGrpSpPr>
                      <p:grpSpPr>
                        <a:xfrm>
                          <a:off x="2819520" y="2819520"/>
                          <a:ext cx="1523520" cy="533520"/>
                          <a:chOff x="2819520" y="2819520"/>
                          <a:chExt cx="1523520" cy="533520"/>
                        </a:xfrm>
                      </p:grpSpPr>
                      <p:sp>
                        <p:nvSpPr>
                          <p:cNvPr id="165" name=""/>
                          <p:cNvSpPr/>
                          <p:nvPr/>
                        </p:nvSpPr>
                        <p:spPr>
                          <a:xfrm>
                            <a:off x="2819520" y="2819520"/>
                            <a:ext cx="990360" cy="520200"/>
                          </a:xfrm>
                          <a:prstGeom prst="rect">
                            <a:avLst/>
                          </a:prstGeom>
                          <a:solidFill>
                            <a:srgbClr val="cc6600">
                              <a:alpha val="50000"/>
                            </a:srgbClr>
                          </a:solidFill>
                          <a:ln w="9360">
                            <a:solidFill>
                              <a:srgbClr val="000000">
                                <a:alpha val="50000"/>
                              </a:srgbClr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Planta 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s-ES_tradnl" sz="1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rPr>
                              <a:t>El Trebal</a:t>
                            </a:r>
                            <a:endPara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66" name=""/>
                          <p:cNvGrpSpPr/>
                          <p:nvPr/>
                        </p:nvGrpSpPr>
                        <p:grpSpPr>
                          <a:xfrm>
                            <a:off x="3809520" y="3047760"/>
                            <a:ext cx="533520" cy="305280"/>
                            <a:chOff x="3809520" y="3047760"/>
                            <a:chExt cx="533520" cy="305280"/>
                          </a:xfrm>
                        </p:grpSpPr>
                        <p:sp>
                          <p:nvSpPr>
                            <p:cNvPr id="167" name=""/>
                            <p:cNvSpPr/>
                            <p:nvPr/>
                          </p:nvSpPr>
                          <p:spPr>
                            <a:xfrm flipH="1">
                              <a:off x="4038120" y="3353040"/>
                              <a:ext cx="304920" cy="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68" name=""/>
                            <p:cNvSpPr/>
                            <p:nvPr/>
                          </p:nvSpPr>
                          <p:spPr>
                            <a:xfrm flipH="1" flipV="1">
                              <a:off x="3809520" y="3047760"/>
                              <a:ext cx="228600" cy="304920"/>
                            </a:xfrm>
                            <a:prstGeom prst="line">
                              <a:avLst/>
                            </a:prstGeom>
                            <a:ln w="57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4968720" y="3657600"/>
                        <a:ext cx="13680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136">
                            <a:moveTo>
                              <a:pt x="14" y="22"/>
                            </a:moveTo>
                            <a:cubicBezTo>
                              <a:pt x="15" y="22"/>
                              <a:pt x="69" y="0"/>
                              <a:pt x="62" y="22"/>
                            </a:cubicBezTo>
                            <a:cubicBezTo>
                              <a:pt x="58" y="34"/>
                              <a:pt x="26" y="34"/>
                              <a:pt x="26" y="34"/>
                            </a:cubicBezTo>
                            <a:cubicBezTo>
                              <a:pt x="19" y="69"/>
                              <a:pt x="14" y="79"/>
                              <a:pt x="50" y="88"/>
                            </a:cubicBezTo>
                            <a:cubicBezTo>
                              <a:pt x="38" y="136"/>
                              <a:pt x="50" y="106"/>
                              <a:pt x="38" y="94"/>
                            </a:cubicBezTo>
                            <a:cubicBezTo>
                              <a:pt x="34" y="90"/>
                              <a:pt x="26" y="90"/>
                              <a:pt x="20" y="88"/>
                            </a:cubicBezTo>
                            <a:cubicBezTo>
                              <a:pt x="0" y="28"/>
                              <a:pt x="14" y="73"/>
                              <a:pt x="14" y="22"/>
                            </a:cubicBezTo>
                            <a:close/>
                          </a:path>
                        </a:pathLst>
                      </a:custGeom>
                      <a:solidFill>
                        <a:srgbClr val="c05d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4971960" y="3640320"/>
                      <a:ext cx="10800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22">
                          <a:moveTo>
                            <a:pt x="66" y="29"/>
                          </a:moveTo>
                          <a:cubicBezTo>
                            <a:pt x="56" y="27"/>
                            <a:pt x="46" y="22"/>
                            <a:pt x="36" y="23"/>
                          </a:cubicBezTo>
                          <a:cubicBezTo>
                            <a:pt x="23" y="24"/>
                            <a:pt x="0" y="35"/>
                            <a:pt x="0" y="35"/>
                          </a:cubicBezTo>
                          <a:cubicBezTo>
                            <a:pt x="6" y="84"/>
                            <a:pt x="1" y="87"/>
                            <a:pt x="42" y="101"/>
                          </a:cubicBezTo>
                          <a:cubicBezTo>
                            <a:pt x="44" y="107"/>
                            <a:pt x="42" y="116"/>
                            <a:pt x="48" y="119"/>
                          </a:cubicBezTo>
                          <a:cubicBezTo>
                            <a:pt x="54" y="122"/>
                            <a:pt x="64" y="119"/>
                            <a:pt x="66" y="113"/>
                          </a:cubicBezTo>
                          <a:cubicBezTo>
                            <a:pt x="68" y="103"/>
                            <a:pt x="53" y="0"/>
                            <a:pt x="24" y="29"/>
                          </a:cubicBezTo>
                        </a:path>
                      </a:pathLst>
                    </a:custGeom>
                    <a:solidFill>
                      <a:srgbClr val="c05d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" name=""/>
                  <p:cNvSpPr/>
                  <p:nvPr/>
                </p:nvSpPr>
                <p:spPr>
                  <a:xfrm>
                    <a:off x="4648320" y="3529080"/>
                    <a:ext cx="15228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01">
                        <a:moveTo>
                          <a:pt x="0" y="15"/>
                        </a:moveTo>
                        <a:cubicBezTo>
                          <a:pt x="6" y="33"/>
                          <a:pt x="12" y="51"/>
                          <a:pt x="18" y="69"/>
                        </a:cubicBezTo>
                        <a:cubicBezTo>
                          <a:pt x="20" y="75"/>
                          <a:pt x="24" y="87"/>
                          <a:pt x="24" y="87"/>
                        </a:cubicBezTo>
                        <a:cubicBezTo>
                          <a:pt x="22" y="101"/>
                          <a:pt x="21" y="115"/>
                          <a:pt x="18" y="129"/>
                        </a:cubicBezTo>
                        <a:cubicBezTo>
                          <a:pt x="15" y="141"/>
                          <a:pt x="6" y="165"/>
                          <a:pt x="6" y="165"/>
                        </a:cubicBezTo>
                        <a:cubicBezTo>
                          <a:pt x="14" y="190"/>
                          <a:pt x="27" y="187"/>
                          <a:pt x="48" y="201"/>
                        </a:cubicBezTo>
                        <a:cubicBezTo>
                          <a:pt x="39" y="155"/>
                          <a:pt x="33" y="109"/>
                          <a:pt x="24" y="63"/>
                        </a:cubicBezTo>
                        <a:cubicBezTo>
                          <a:pt x="23" y="56"/>
                          <a:pt x="0" y="0"/>
                          <a:pt x="0" y="15"/>
                        </a:cubicBezTo>
                        <a:close/>
                      </a:path>
                    </a:pathLst>
                  </a:custGeom>
                  <a:solidFill>
                    <a:srgbClr val="c05d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4562640" y="341964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6" y="0"/>
                      </a:moveTo>
                      <a:cubicBezTo>
                        <a:pt x="15" y="14"/>
                        <a:pt x="8" y="24"/>
                        <a:pt x="0" y="48"/>
                      </a:cubicBezTo>
                      <a:cubicBezTo>
                        <a:pt x="28" y="57"/>
                        <a:pt x="35" y="85"/>
                        <a:pt x="60" y="102"/>
                      </a:cubicBezTo>
                      <a:cubicBezTo>
                        <a:pt x="52" y="77"/>
                        <a:pt x="39" y="82"/>
                        <a:pt x="24" y="60"/>
                      </a:cubicBezTo>
                      <a:cubicBezTo>
                        <a:pt x="30" y="56"/>
                        <a:pt x="37" y="53"/>
                        <a:pt x="42" y="48"/>
                      </a:cubicBezTo>
                      <a:cubicBezTo>
                        <a:pt x="51" y="37"/>
                        <a:pt x="66" y="12"/>
                        <a:pt x="66" y="12"/>
                      </a:cubicBezTo>
                      <a:cubicBezTo>
                        <a:pt x="44" y="5"/>
                        <a:pt x="54" y="9"/>
                        <a:pt x="36" y="0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05240" y="317664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91" h="40">
                    <a:moveTo>
                      <a:pt x="0" y="32"/>
                    </a:moveTo>
                    <a:cubicBezTo>
                      <a:pt x="11" y="0"/>
                      <a:pt x="33" y="7"/>
                      <a:pt x="66" y="2"/>
                    </a:cubicBezTo>
                    <a:cubicBezTo>
                      <a:pt x="91" y="40"/>
                      <a:pt x="63" y="33"/>
                      <a:pt x="36" y="26"/>
                    </a:cubicBezTo>
                    <a:cubicBezTo>
                      <a:pt x="24" y="28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>
              <a:hlinkClick r:id="rId5" action="ppaction://hlinksldjump"/>
            </p:cNvPr>
            <p:cNvSpPr/>
            <p:nvPr/>
          </p:nvSpPr>
          <p:spPr>
            <a:xfrm>
              <a:off x="3581280" y="281952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c05d3e">
                <a:alpha val="50000"/>
              </a:srgbClr>
            </a:solidFill>
            <a:ln w="9360">
              <a:solidFill>
                <a:srgbClr val="c05d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ElTrebal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26280" y="304920"/>
            <a:ext cx="421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Verdana"/>
              </a:rPr>
              <a:t>PLANTA DE TRATAMIENTO EL TRE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3440" y="2600280"/>
            <a:ext cx="88596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1160" y="762120"/>
            <a:ext cx="33080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2.- SubCuenca Centro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a Farf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Octu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24320" y="3086280"/>
            <a:ext cx="138240" cy="123480"/>
          </a:xfrm>
          <a:custGeom>
            <a:avLst/>
            <a:gdLst/>
            <a:ahLst/>
            <a:rect l="l" t="t" r="r" b="b"/>
            <a:pathLst>
              <a:path w="87" h="78">
                <a:moveTo>
                  <a:pt x="0" y="66"/>
                </a:moveTo>
                <a:cubicBezTo>
                  <a:pt x="4" y="54"/>
                  <a:pt x="0" y="35"/>
                  <a:pt x="12" y="30"/>
                </a:cubicBezTo>
                <a:cubicBezTo>
                  <a:pt x="87" y="0"/>
                  <a:pt x="54" y="61"/>
                  <a:pt x="48" y="78"/>
                </a:cubicBezTo>
                <a:cubicBezTo>
                  <a:pt x="8" y="65"/>
                  <a:pt x="25" y="66"/>
                  <a:pt x="0" y="66"/>
                </a:cubicBezTo>
                <a:close/>
              </a:path>
            </a:pathLst>
          </a:custGeom>
          <a:solidFill>
            <a:srgbClr val="fff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52600"/>
            <a:ext cx="1524240" cy="1524240"/>
          </a:xfrm>
          <a:custGeom>
            <a:avLst/>
            <a:gdLst/>
            <a:ahLst/>
            <a:rect l="l" t="t" r="r" b="b"/>
            <a:pathLst>
              <a:path w="2296" h="2752">
                <a:moveTo>
                  <a:pt x="1184" y="2656"/>
                </a:moveTo>
                <a:cubicBezTo>
                  <a:pt x="1208" y="2672"/>
                  <a:pt x="1272" y="2672"/>
                  <a:pt x="1328" y="2656"/>
                </a:cubicBezTo>
                <a:cubicBezTo>
                  <a:pt x="1384" y="2640"/>
                  <a:pt x="1472" y="2592"/>
                  <a:pt x="1520" y="2560"/>
                </a:cubicBezTo>
                <a:cubicBezTo>
                  <a:pt x="1568" y="2528"/>
                  <a:pt x="1592" y="2480"/>
                  <a:pt x="1616" y="2464"/>
                </a:cubicBezTo>
                <a:cubicBezTo>
                  <a:pt x="1640" y="2448"/>
                  <a:pt x="1648" y="2472"/>
                  <a:pt x="1664" y="2464"/>
                </a:cubicBezTo>
                <a:cubicBezTo>
                  <a:pt x="1680" y="2456"/>
                  <a:pt x="1688" y="2424"/>
                  <a:pt x="1712" y="2416"/>
                </a:cubicBezTo>
                <a:cubicBezTo>
                  <a:pt x="1736" y="2408"/>
                  <a:pt x="1784" y="2416"/>
                  <a:pt x="1808" y="2416"/>
                </a:cubicBezTo>
                <a:cubicBezTo>
                  <a:pt x="1832" y="2416"/>
                  <a:pt x="1840" y="2416"/>
                  <a:pt x="1856" y="2416"/>
                </a:cubicBezTo>
                <a:cubicBezTo>
                  <a:pt x="1872" y="2416"/>
                  <a:pt x="1888" y="2416"/>
                  <a:pt x="1904" y="2416"/>
                </a:cubicBezTo>
                <a:cubicBezTo>
                  <a:pt x="1920" y="2416"/>
                  <a:pt x="1936" y="2424"/>
                  <a:pt x="1952" y="2416"/>
                </a:cubicBezTo>
                <a:cubicBezTo>
                  <a:pt x="1968" y="2408"/>
                  <a:pt x="1992" y="2384"/>
                  <a:pt x="2000" y="2368"/>
                </a:cubicBezTo>
                <a:cubicBezTo>
                  <a:pt x="2008" y="2352"/>
                  <a:pt x="1992" y="2328"/>
                  <a:pt x="2000" y="2320"/>
                </a:cubicBezTo>
                <a:cubicBezTo>
                  <a:pt x="2008" y="2312"/>
                  <a:pt x="2032" y="2328"/>
                  <a:pt x="2048" y="2320"/>
                </a:cubicBezTo>
                <a:cubicBezTo>
                  <a:pt x="2064" y="2312"/>
                  <a:pt x="2088" y="2296"/>
                  <a:pt x="2096" y="2272"/>
                </a:cubicBezTo>
                <a:cubicBezTo>
                  <a:pt x="2104" y="2248"/>
                  <a:pt x="2096" y="2200"/>
                  <a:pt x="2096" y="2176"/>
                </a:cubicBezTo>
                <a:cubicBezTo>
                  <a:pt x="2096" y="2152"/>
                  <a:pt x="2112" y="2144"/>
                  <a:pt x="2096" y="2128"/>
                </a:cubicBezTo>
                <a:cubicBezTo>
                  <a:pt x="2080" y="2112"/>
                  <a:pt x="2024" y="2088"/>
                  <a:pt x="2000" y="2080"/>
                </a:cubicBezTo>
                <a:cubicBezTo>
                  <a:pt x="1976" y="2072"/>
                  <a:pt x="1960" y="2096"/>
                  <a:pt x="1952" y="2080"/>
                </a:cubicBezTo>
                <a:cubicBezTo>
                  <a:pt x="1944" y="2064"/>
                  <a:pt x="1960" y="1992"/>
                  <a:pt x="1952" y="1984"/>
                </a:cubicBezTo>
                <a:cubicBezTo>
                  <a:pt x="1944" y="1976"/>
                  <a:pt x="1920" y="2040"/>
                  <a:pt x="1904" y="2032"/>
                </a:cubicBezTo>
                <a:cubicBezTo>
                  <a:pt x="1888" y="2024"/>
                  <a:pt x="1864" y="1960"/>
                  <a:pt x="1856" y="1936"/>
                </a:cubicBezTo>
                <a:cubicBezTo>
                  <a:pt x="1848" y="1912"/>
                  <a:pt x="1864" y="1896"/>
                  <a:pt x="1856" y="1888"/>
                </a:cubicBezTo>
                <a:cubicBezTo>
                  <a:pt x="1848" y="1880"/>
                  <a:pt x="1816" y="1896"/>
                  <a:pt x="1808" y="1888"/>
                </a:cubicBezTo>
                <a:cubicBezTo>
                  <a:pt x="1800" y="1880"/>
                  <a:pt x="1800" y="1856"/>
                  <a:pt x="1808" y="1840"/>
                </a:cubicBezTo>
                <a:cubicBezTo>
                  <a:pt x="1816" y="1824"/>
                  <a:pt x="1848" y="1808"/>
                  <a:pt x="1856" y="1792"/>
                </a:cubicBezTo>
                <a:cubicBezTo>
                  <a:pt x="1864" y="1776"/>
                  <a:pt x="1848" y="1776"/>
                  <a:pt x="1856" y="1744"/>
                </a:cubicBezTo>
                <a:cubicBezTo>
                  <a:pt x="1864" y="1712"/>
                  <a:pt x="1888" y="1632"/>
                  <a:pt x="1904" y="1600"/>
                </a:cubicBezTo>
                <a:cubicBezTo>
                  <a:pt x="1920" y="1568"/>
                  <a:pt x="1952" y="1568"/>
                  <a:pt x="1952" y="1552"/>
                </a:cubicBezTo>
                <a:cubicBezTo>
                  <a:pt x="1952" y="1536"/>
                  <a:pt x="1904" y="1520"/>
                  <a:pt x="1904" y="1504"/>
                </a:cubicBezTo>
                <a:cubicBezTo>
                  <a:pt x="1904" y="1488"/>
                  <a:pt x="1952" y="1472"/>
                  <a:pt x="1952" y="1456"/>
                </a:cubicBezTo>
                <a:cubicBezTo>
                  <a:pt x="1952" y="1440"/>
                  <a:pt x="1904" y="1432"/>
                  <a:pt x="1904" y="1408"/>
                </a:cubicBezTo>
                <a:cubicBezTo>
                  <a:pt x="1904" y="1384"/>
                  <a:pt x="1944" y="1368"/>
                  <a:pt x="1952" y="1312"/>
                </a:cubicBezTo>
                <a:cubicBezTo>
                  <a:pt x="1960" y="1256"/>
                  <a:pt x="1952" y="1128"/>
                  <a:pt x="1952" y="1072"/>
                </a:cubicBezTo>
                <a:cubicBezTo>
                  <a:pt x="1952" y="1016"/>
                  <a:pt x="1960" y="1008"/>
                  <a:pt x="1952" y="976"/>
                </a:cubicBezTo>
                <a:cubicBezTo>
                  <a:pt x="1944" y="944"/>
                  <a:pt x="1896" y="896"/>
                  <a:pt x="1904" y="880"/>
                </a:cubicBezTo>
                <a:cubicBezTo>
                  <a:pt x="1912" y="864"/>
                  <a:pt x="1976" y="888"/>
                  <a:pt x="2000" y="880"/>
                </a:cubicBezTo>
                <a:cubicBezTo>
                  <a:pt x="2024" y="872"/>
                  <a:pt x="2040" y="848"/>
                  <a:pt x="2048" y="832"/>
                </a:cubicBezTo>
                <a:cubicBezTo>
                  <a:pt x="2056" y="816"/>
                  <a:pt x="2040" y="816"/>
                  <a:pt x="2048" y="784"/>
                </a:cubicBezTo>
                <a:cubicBezTo>
                  <a:pt x="2056" y="752"/>
                  <a:pt x="2088" y="680"/>
                  <a:pt x="2096" y="640"/>
                </a:cubicBezTo>
                <a:cubicBezTo>
                  <a:pt x="2104" y="600"/>
                  <a:pt x="2096" y="568"/>
                  <a:pt x="2096" y="544"/>
                </a:cubicBezTo>
                <a:cubicBezTo>
                  <a:pt x="2096" y="520"/>
                  <a:pt x="2080" y="512"/>
                  <a:pt x="2096" y="496"/>
                </a:cubicBezTo>
                <a:cubicBezTo>
                  <a:pt x="2112" y="480"/>
                  <a:pt x="2168" y="456"/>
                  <a:pt x="2192" y="448"/>
                </a:cubicBezTo>
                <a:cubicBezTo>
                  <a:pt x="2216" y="440"/>
                  <a:pt x="2232" y="440"/>
                  <a:pt x="2240" y="448"/>
                </a:cubicBezTo>
                <a:cubicBezTo>
                  <a:pt x="2248" y="456"/>
                  <a:pt x="2240" y="480"/>
                  <a:pt x="2240" y="496"/>
                </a:cubicBezTo>
                <a:cubicBezTo>
                  <a:pt x="2240" y="512"/>
                  <a:pt x="2232" y="544"/>
                  <a:pt x="2240" y="544"/>
                </a:cubicBezTo>
                <a:cubicBezTo>
                  <a:pt x="2248" y="544"/>
                  <a:pt x="2280" y="512"/>
                  <a:pt x="2288" y="496"/>
                </a:cubicBezTo>
                <a:cubicBezTo>
                  <a:pt x="2296" y="480"/>
                  <a:pt x="2296" y="456"/>
                  <a:pt x="2288" y="448"/>
                </a:cubicBezTo>
                <a:cubicBezTo>
                  <a:pt x="2280" y="440"/>
                  <a:pt x="2256" y="456"/>
                  <a:pt x="2240" y="448"/>
                </a:cubicBezTo>
                <a:cubicBezTo>
                  <a:pt x="2224" y="440"/>
                  <a:pt x="2200" y="416"/>
                  <a:pt x="2192" y="400"/>
                </a:cubicBezTo>
                <a:cubicBezTo>
                  <a:pt x="2184" y="384"/>
                  <a:pt x="2184" y="368"/>
                  <a:pt x="2192" y="352"/>
                </a:cubicBezTo>
                <a:cubicBezTo>
                  <a:pt x="2200" y="336"/>
                  <a:pt x="2224" y="328"/>
                  <a:pt x="2240" y="304"/>
                </a:cubicBezTo>
                <a:cubicBezTo>
                  <a:pt x="2256" y="280"/>
                  <a:pt x="2296" y="216"/>
                  <a:pt x="2288" y="208"/>
                </a:cubicBezTo>
                <a:cubicBezTo>
                  <a:pt x="2280" y="200"/>
                  <a:pt x="2208" y="240"/>
                  <a:pt x="2192" y="256"/>
                </a:cubicBezTo>
                <a:cubicBezTo>
                  <a:pt x="2176" y="272"/>
                  <a:pt x="2208" y="280"/>
                  <a:pt x="2192" y="304"/>
                </a:cubicBezTo>
                <a:cubicBezTo>
                  <a:pt x="2176" y="328"/>
                  <a:pt x="2104" y="400"/>
                  <a:pt x="2096" y="400"/>
                </a:cubicBezTo>
                <a:cubicBezTo>
                  <a:pt x="2088" y="400"/>
                  <a:pt x="2152" y="336"/>
                  <a:pt x="2144" y="304"/>
                </a:cubicBezTo>
                <a:cubicBezTo>
                  <a:pt x="2136" y="272"/>
                  <a:pt x="2072" y="232"/>
                  <a:pt x="2048" y="208"/>
                </a:cubicBezTo>
                <a:cubicBezTo>
                  <a:pt x="2024" y="184"/>
                  <a:pt x="2016" y="168"/>
                  <a:pt x="2000" y="160"/>
                </a:cubicBezTo>
                <a:cubicBezTo>
                  <a:pt x="1984" y="152"/>
                  <a:pt x="1968" y="168"/>
                  <a:pt x="1952" y="160"/>
                </a:cubicBezTo>
                <a:cubicBezTo>
                  <a:pt x="1936" y="152"/>
                  <a:pt x="1920" y="120"/>
                  <a:pt x="1904" y="112"/>
                </a:cubicBezTo>
                <a:cubicBezTo>
                  <a:pt x="1888" y="104"/>
                  <a:pt x="1872" y="128"/>
                  <a:pt x="1856" y="112"/>
                </a:cubicBezTo>
                <a:cubicBezTo>
                  <a:pt x="1840" y="96"/>
                  <a:pt x="1824" y="32"/>
                  <a:pt x="1808" y="16"/>
                </a:cubicBezTo>
                <a:cubicBezTo>
                  <a:pt x="1792" y="0"/>
                  <a:pt x="1776" y="16"/>
                  <a:pt x="1760" y="16"/>
                </a:cubicBezTo>
                <a:cubicBezTo>
                  <a:pt x="1744" y="16"/>
                  <a:pt x="1728" y="8"/>
                  <a:pt x="1712" y="16"/>
                </a:cubicBezTo>
                <a:cubicBezTo>
                  <a:pt x="1696" y="24"/>
                  <a:pt x="1672" y="48"/>
                  <a:pt x="1664" y="64"/>
                </a:cubicBezTo>
                <a:cubicBezTo>
                  <a:pt x="1656" y="80"/>
                  <a:pt x="1672" y="112"/>
                  <a:pt x="1664" y="112"/>
                </a:cubicBezTo>
                <a:cubicBezTo>
                  <a:pt x="1656" y="112"/>
                  <a:pt x="1632" y="72"/>
                  <a:pt x="1616" y="64"/>
                </a:cubicBezTo>
                <a:cubicBezTo>
                  <a:pt x="1600" y="56"/>
                  <a:pt x="1576" y="56"/>
                  <a:pt x="1568" y="64"/>
                </a:cubicBezTo>
                <a:cubicBezTo>
                  <a:pt x="1560" y="72"/>
                  <a:pt x="1560" y="96"/>
                  <a:pt x="1568" y="112"/>
                </a:cubicBezTo>
                <a:cubicBezTo>
                  <a:pt x="1576" y="128"/>
                  <a:pt x="1600" y="152"/>
                  <a:pt x="1616" y="160"/>
                </a:cubicBezTo>
                <a:cubicBezTo>
                  <a:pt x="1632" y="168"/>
                  <a:pt x="1656" y="152"/>
                  <a:pt x="1664" y="160"/>
                </a:cubicBezTo>
                <a:cubicBezTo>
                  <a:pt x="1672" y="168"/>
                  <a:pt x="1672" y="192"/>
                  <a:pt x="1664" y="208"/>
                </a:cubicBezTo>
                <a:cubicBezTo>
                  <a:pt x="1656" y="224"/>
                  <a:pt x="1624" y="240"/>
                  <a:pt x="1616" y="256"/>
                </a:cubicBezTo>
                <a:cubicBezTo>
                  <a:pt x="1608" y="272"/>
                  <a:pt x="1624" y="296"/>
                  <a:pt x="1616" y="304"/>
                </a:cubicBezTo>
                <a:cubicBezTo>
                  <a:pt x="1608" y="312"/>
                  <a:pt x="1568" y="304"/>
                  <a:pt x="1568" y="304"/>
                </a:cubicBezTo>
                <a:cubicBezTo>
                  <a:pt x="1568" y="304"/>
                  <a:pt x="1600" y="304"/>
                  <a:pt x="1616" y="304"/>
                </a:cubicBezTo>
                <a:cubicBezTo>
                  <a:pt x="1632" y="304"/>
                  <a:pt x="1648" y="296"/>
                  <a:pt x="1664" y="304"/>
                </a:cubicBezTo>
                <a:cubicBezTo>
                  <a:pt x="1680" y="312"/>
                  <a:pt x="1704" y="336"/>
                  <a:pt x="1712" y="352"/>
                </a:cubicBezTo>
                <a:cubicBezTo>
                  <a:pt x="1720" y="368"/>
                  <a:pt x="1720" y="384"/>
                  <a:pt x="1712" y="400"/>
                </a:cubicBezTo>
                <a:cubicBezTo>
                  <a:pt x="1704" y="416"/>
                  <a:pt x="1688" y="440"/>
                  <a:pt x="1664" y="448"/>
                </a:cubicBezTo>
                <a:cubicBezTo>
                  <a:pt x="1640" y="456"/>
                  <a:pt x="1592" y="448"/>
                  <a:pt x="1568" y="448"/>
                </a:cubicBezTo>
                <a:cubicBezTo>
                  <a:pt x="1544" y="448"/>
                  <a:pt x="1544" y="440"/>
                  <a:pt x="1520" y="448"/>
                </a:cubicBezTo>
                <a:cubicBezTo>
                  <a:pt x="1496" y="456"/>
                  <a:pt x="1448" y="480"/>
                  <a:pt x="1424" y="496"/>
                </a:cubicBezTo>
                <a:cubicBezTo>
                  <a:pt x="1400" y="512"/>
                  <a:pt x="1384" y="528"/>
                  <a:pt x="1376" y="544"/>
                </a:cubicBezTo>
                <a:cubicBezTo>
                  <a:pt x="1368" y="560"/>
                  <a:pt x="1376" y="576"/>
                  <a:pt x="1376" y="592"/>
                </a:cubicBezTo>
                <a:cubicBezTo>
                  <a:pt x="1376" y="608"/>
                  <a:pt x="1384" y="640"/>
                  <a:pt x="1376" y="640"/>
                </a:cubicBezTo>
                <a:cubicBezTo>
                  <a:pt x="1368" y="640"/>
                  <a:pt x="1336" y="608"/>
                  <a:pt x="1328" y="592"/>
                </a:cubicBezTo>
                <a:cubicBezTo>
                  <a:pt x="1320" y="576"/>
                  <a:pt x="1336" y="552"/>
                  <a:pt x="1328" y="544"/>
                </a:cubicBezTo>
                <a:cubicBezTo>
                  <a:pt x="1320" y="536"/>
                  <a:pt x="1304" y="544"/>
                  <a:pt x="1280" y="544"/>
                </a:cubicBezTo>
                <a:cubicBezTo>
                  <a:pt x="1256" y="544"/>
                  <a:pt x="1192" y="560"/>
                  <a:pt x="1184" y="544"/>
                </a:cubicBezTo>
                <a:cubicBezTo>
                  <a:pt x="1176" y="528"/>
                  <a:pt x="1240" y="472"/>
                  <a:pt x="1232" y="448"/>
                </a:cubicBezTo>
                <a:cubicBezTo>
                  <a:pt x="1224" y="424"/>
                  <a:pt x="1160" y="392"/>
                  <a:pt x="1136" y="400"/>
                </a:cubicBezTo>
                <a:cubicBezTo>
                  <a:pt x="1112" y="408"/>
                  <a:pt x="1096" y="472"/>
                  <a:pt x="1088" y="496"/>
                </a:cubicBezTo>
                <a:cubicBezTo>
                  <a:pt x="1080" y="520"/>
                  <a:pt x="1096" y="544"/>
                  <a:pt x="1088" y="544"/>
                </a:cubicBezTo>
                <a:cubicBezTo>
                  <a:pt x="1080" y="544"/>
                  <a:pt x="1048" y="512"/>
                  <a:pt x="1040" y="496"/>
                </a:cubicBezTo>
                <a:cubicBezTo>
                  <a:pt x="1032" y="480"/>
                  <a:pt x="1040" y="464"/>
                  <a:pt x="1040" y="448"/>
                </a:cubicBezTo>
                <a:cubicBezTo>
                  <a:pt x="1040" y="432"/>
                  <a:pt x="1048" y="416"/>
                  <a:pt x="1040" y="400"/>
                </a:cubicBezTo>
                <a:cubicBezTo>
                  <a:pt x="1032" y="384"/>
                  <a:pt x="1000" y="368"/>
                  <a:pt x="992" y="352"/>
                </a:cubicBezTo>
                <a:cubicBezTo>
                  <a:pt x="984" y="336"/>
                  <a:pt x="992" y="320"/>
                  <a:pt x="992" y="304"/>
                </a:cubicBezTo>
                <a:cubicBezTo>
                  <a:pt x="992" y="288"/>
                  <a:pt x="1000" y="264"/>
                  <a:pt x="992" y="256"/>
                </a:cubicBezTo>
                <a:cubicBezTo>
                  <a:pt x="984" y="248"/>
                  <a:pt x="976" y="240"/>
                  <a:pt x="944" y="256"/>
                </a:cubicBezTo>
                <a:cubicBezTo>
                  <a:pt x="912" y="272"/>
                  <a:pt x="824" y="360"/>
                  <a:pt x="800" y="352"/>
                </a:cubicBezTo>
                <a:cubicBezTo>
                  <a:pt x="776" y="344"/>
                  <a:pt x="824" y="248"/>
                  <a:pt x="800" y="208"/>
                </a:cubicBezTo>
                <a:cubicBezTo>
                  <a:pt x="776" y="168"/>
                  <a:pt x="696" y="120"/>
                  <a:pt x="656" y="112"/>
                </a:cubicBezTo>
                <a:cubicBezTo>
                  <a:pt x="616" y="104"/>
                  <a:pt x="592" y="144"/>
                  <a:pt x="560" y="160"/>
                </a:cubicBezTo>
                <a:cubicBezTo>
                  <a:pt x="528" y="176"/>
                  <a:pt x="464" y="184"/>
                  <a:pt x="464" y="208"/>
                </a:cubicBezTo>
                <a:cubicBezTo>
                  <a:pt x="464" y="232"/>
                  <a:pt x="560" y="288"/>
                  <a:pt x="560" y="304"/>
                </a:cubicBezTo>
                <a:cubicBezTo>
                  <a:pt x="560" y="320"/>
                  <a:pt x="536" y="256"/>
                  <a:pt x="464" y="304"/>
                </a:cubicBezTo>
                <a:cubicBezTo>
                  <a:pt x="392" y="352"/>
                  <a:pt x="176" y="472"/>
                  <a:pt x="128" y="592"/>
                </a:cubicBezTo>
                <a:cubicBezTo>
                  <a:pt x="80" y="712"/>
                  <a:pt x="168" y="944"/>
                  <a:pt x="176" y="1024"/>
                </a:cubicBezTo>
                <a:cubicBezTo>
                  <a:pt x="184" y="1104"/>
                  <a:pt x="176" y="1048"/>
                  <a:pt x="176" y="1072"/>
                </a:cubicBezTo>
                <a:cubicBezTo>
                  <a:pt x="176" y="1096"/>
                  <a:pt x="176" y="1136"/>
                  <a:pt x="176" y="1168"/>
                </a:cubicBezTo>
                <a:cubicBezTo>
                  <a:pt x="176" y="1200"/>
                  <a:pt x="168" y="1232"/>
                  <a:pt x="176" y="1264"/>
                </a:cubicBezTo>
                <a:cubicBezTo>
                  <a:pt x="184" y="1296"/>
                  <a:pt x="216" y="1336"/>
                  <a:pt x="224" y="1360"/>
                </a:cubicBezTo>
                <a:cubicBezTo>
                  <a:pt x="232" y="1384"/>
                  <a:pt x="216" y="1384"/>
                  <a:pt x="224" y="1408"/>
                </a:cubicBezTo>
                <a:cubicBezTo>
                  <a:pt x="232" y="1432"/>
                  <a:pt x="280" y="1488"/>
                  <a:pt x="272" y="1504"/>
                </a:cubicBezTo>
                <a:cubicBezTo>
                  <a:pt x="264" y="1520"/>
                  <a:pt x="216" y="1496"/>
                  <a:pt x="176" y="1504"/>
                </a:cubicBezTo>
                <a:cubicBezTo>
                  <a:pt x="136" y="1512"/>
                  <a:pt x="48" y="1512"/>
                  <a:pt x="32" y="1552"/>
                </a:cubicBezTo>
                <a:cubicBezTo>
                  <a:pt x="16" y="1592"/>
                  <a:pt x="80" y="1696"/>
                  <a:pt x="80" y="1744"/>
                </a:cubicBezTo>
                <a:cubicBezTo>
                  <a:pt x="80" y="1792"/>
                  <a:pt x="40" y="1808"/>
                  <a:pt x="32" y="1840"/>
                </a:cubicBezTo>
                <a:cubicBezTo>
                  <a:pt x="24" y="1872"/>
                  <a:pt x="0" y="1896"/>
                  <a:pt x="32" y="1936"/>
                </a:cubicBezTo>
                <a:cubicBezTo>
                  <a:pt x="64" y="1976"/>
                  <a:pt x="184" y="2056"/>
                  <a:pt x="224" y="2080"/>
                </a:cubicBezTo>
                <a:cubicBezTo>
                  <a:pt x="264" y="2104"/>
                  <a:pt x="248" y="2088"/>
                  <a:pt x="272" y="2080"/>
                </a:cubicBezTo>
                <a:cubicBezTo>
                  <a:pt x="296" y="2072"/>
                  <a:pt x="344" y="2056"/>
                  <a:pt x="368" y="2032"/>
                </a:cubicBezTo>
                <a:cubicBezTo>
                  <a:pt x="392" y="2008"/>
                  <a:pt x="400" y="1952"/>
                  <a:pt x="416" y="1936"/>
                </a:cubicBezTo>
                <a:cubicBezTo>
                  <a:pt x="432" y="1920"/>
                  <a:pt x="448" y="1944"/>
                  <a:pt x="464" y="1936"/>
                </a:cubicBezTo>
                <a:cubicBezTo>
                  <a:pt x="480" y="1928"/>
                  <a:pt x="504" y="1904"/>
                  <a:pt x="512" y="1888"/>
                </a:cubicBezTo>
                <a:cubicBezTo>
                  <a:pt x="520" y="1872"/>
                  <a:pt x="504" y="1840"/>
                  <a:pt x="512" y="1840"/>
                </a:cubicBezTo>
                <a:cubicBezTo>
                  <a:pt x="520" y="1840"/>
                  <a:pt x="568" y="1856"/>
                  <a:pt x="560" y="1888"/>
                </a:cubicBezTo>
                <a:cubicBezTo>
                  <a:pt x="552" y="1920"/>
                  <a:pt x="464" y="2000"/>
                  <a:pt x="464" y="2032"/>
                </a:cubicBezTo>
                <a:cubicBezTo>
                  <a:pt x="464" y="2064"/>
                  <a:pt x="536" y="2048"/>
                  <a:pt x="560" y="2080"/>
                </a:cubicBezTo>
                <a:cubicBezTo>
                  <a:pt x="584" y="2112"/>
                  <a:pt x="592" y="2192"/>
                  <a:pt x="608" y="2224"/>
                </a:cubicBezTo>
                <a:cubicBezTo>
                  <a:pt x="624" y="2256"/>
                  <a:pt x="648" y="2248"/>
                  <a:pt x="656" y="2272"/>
                </a:cubicBezTo>
                <a:cubicBezTo>
                  <a:pt x="664" y="2296"/>
                  <a:pt x="656" y="2320"/>
                  <a:pt x="656" y="2368"/>
                </a:cubicBezTo>
                <a:cubicBezTo>
                  <a:pt x="656" y="2416"/>
                  <a:pt x="648" y="2504"/>
                  <a:pt x="656" y="2560"/>
                </a:cubicBezTo>
                <a:cubicBezTo>
                  <a:pt x="664" y="2616"/>
                  <a:pt x="696" y="2672"/>
                  <a:pt x="704" y="2704"/>
                </a:cubicBezTo>
                <a:cubicBezTo>
                  <a:pt x="712" y="2736"/>
                  <a:pt x="696" y="2752"/>
                  <a:pt x="704" y="2752"/>
                </a:cubicBezTo>
                <a:cubicBezTo>
                  <a:pt x="712" y="2752"/>
                  <a:pt x="712" y="2720"/>
                  <a:pt x="752" y="2704"/>
                </a:cubicBezTo>
                <a:cubicBezTo>
                  <a:pt x="792" y="2688"/>
                  <a:pt x="904" y="2656"/>
                  <a:pt x="944" y="2656"/>
                </a:cubicBezTo>
                <a:cubicBezTo>
                  <a:pt x="984" y="2656"/>
                  <a:pt x="992" y="2712"/>
                  <a:pt x="992" y="2704"/>
                </a:cubicBezTo>
                <a:cubicBezTo>
                  <a:pt x="992" y="2696"/>
                  <a:pt x="952" y="2632"/>
                  <a:pt x="944" y="2608"/>
                </a:cubicBezTo>
                <a:cubicBezTo>
                  <a:pt x="936" y="2584"/>
                  <a:pt x="952" y="2576"/>
                  <a:pt x="944" y="2560"/>
                </a:cubicBezTo>
                <a:cubicBezTo>
                  <a:pt x="936" y="2544"/>
                  <a:pt x="896" y="2536"/>
                  <a:pt x="896" y="2512"/>
                </a:cubicBezTo>
                <a:cubicBezTo>
                  <a:pt x="896" y="2488"/>
                  <a:pt x="936" y="2448"/>
                  <a:pt x="944" y="2416"/>
                </a:cubicBezTo>
                <a:cubicBezTo>
                  <a:pt x="952" y="2384"/>
                  <a:pt x="896" y="2336"/>
                  <a:pt x="944" y="2320"/>
                </a:cubicBezTo>
                <a:cubicBezTo>
                  <a:pt x="992" y="2304"/>
                  <a:pt x="1184" y="2312"/>
                  <a:pt x="1232" y="2320"/>
                </a:cubicBezTo>
                <a:cubicBezTo>
                  <a:pt x="1280" y="2328"/>
                  <a:pt x="1248" y="2352"/>
                  <a:pt x="1232" y="2368"/>
                </a:cubicBezTo>
                <a:cubicBezTo>
                  <a:pt x="1216" y="2384"/>
                  <a:pt x="1152" y="2400"/>
                  <a:pt x="1136" y="2416"/>
                </a:cubicBezTo>
                <a:cubicBezTo>
                  <a:pt x="1120" y="2432"/>
                  <a:pt x="1144" y="2440"/>
                  <a:pt x="1136" y="2464"/>
                </a:cubicBezTo>
                <a:cubicBezTo>
                  <a:pt x="1128" y="2488"/>
                  <a:pt x="1080" y="2544"/>
                  <a:pt x="1088" y="2560"/>
                </a:cubicBezTo>
                <a:cubicBezTo>
                  <a:pt x="1096" y="2576"/>
                  <a:pt x="1168" y="2544"/>
                  <a:pt x="1184" y="2560"/>
                </a:cubicBezTo>
                <a:cubicBezTo>
                  <a:pt x="1200" y="2576"/>
                  <a:pt x="1160" y="2640"/>
                  <a:pt x="1184" y="26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886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038120" y="34196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885840" y="334332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24080" y="2276640"/>
            <a:ext cx="3200040" cy="1676160"/>
            <a:chOff x="3124080" y="2276640"/>
            <a:chExt cx="3200040" cy="1676160"/>
          </a:xfrm>
        </p:grpSpPr>
        <p:sp>
          <p:nvSpPr>
            <p:cNvPr id="203" name=""/>
            <p:cNvSpPr/>
            <p:nvPr/>
          </p:nvSpPr>
          <p:spPr>
            <a:xfrm>
              <a:off x="3124080" y="3114720"/>
              <a:ext cx="762120" cy="398520"/>
            </a:xfrm>
            <a:prstGeom prst="rect">
              <a:avLst/>
            </a:prstGeom>
            <a:solidFill>
              <a:srgbClr val="cc6600">
                <a:alpha val="50000"/>
              </a:srgbClr>
            </a:solidFill>
            <a:ln w="936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lant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l Treb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809520" y="2276640"/>
              <a:ext cx="2514600" cy="1676160"/>
              <a:chOff x="3809520" y="2276640"/>
              <a:chExt cx="2514600" cy="16761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3809520" y="2276640"/>
                <a:ext cx="2514600" cy="1676160"/>
                <a:chOff x="3809520" y="2276640"/>
                <a:chExt cx="2514600" cy="1676160"/>
              </a:xfrm>
            </p:grpSpPr>
            <p:pic>
              <p:nvPicPr>
                <p:cNvPr id="206" name="trebal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3809520" y="2276640"/>
                  <a:ext cx="2514600" cy="167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4930920" y="3638520"/>
                  <a:ext cx="174600" cy="123480"/>
                </a:xfrm>
                <a:custGeom>
                  <a:avLst/>
                  <a:gdLst/>
                  <a:ahLst/>
                  <a:rect l="l" t="t" r="r" b="b"/>
                  <a:pathLst>
                    <a:path w="110" h="78">
                      <a:moveTo>
                        <a:pt x="50" y="12"/>
                      </a:moveTo>
                      <a:cubicBezTo>
                        <a:pt x="0" y="45"/>
                        <a:pt x="19" y="66"/>
                        <a:pt x="68" y="78"/>
                      </a:cubicBezTo>
                      <a:cubicBezTo>
                        <a:pt x="82" y="36"/>
                        <a:pt x="68" y="46"/>
                        <a:pt x="98" y="36"/>
                      </a:cubicBezTo>
                      <a:cubicBezTo>
                        <a:pt x="110" y="0"/>
                        <a:pt x="80" y="12"/>
                        <a:pt x="50" y="12"/>
                      </a:cubicBezTo>
                      <a:close/>
                    </a:path>
                  </a:pathLst>
                </a:custGeom>
                <a:solidFill>
                  <a:srgbClr val="c05d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324320" y="3389400"/>
                <a:ext cx="209520" cy="124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0" y="43"/>
                    </a:moveTo>
                    <a:cubicBezTo>
                      <a:pt x="33" y="54"/>
                      <a:pt x="64" y="68"/>
                      <a:pt x="96" y="79"/>
                    </a:cubicBezTo>
                    <a:cubicBezTo>
                      <a:pt x="97" y="79"/>
                      <a:pt x="132" y="61"/>
                      <a:pt x="120" y="49"/>
                    </a:cubicBezTo>
                    <a:cubicBezTo>
                      <a:pt x="116" y="45"/>
                      <a:pt x="108" y="53"/>
                      <a:pt x="102" y="55"/>
                    </a:cubicBezTo>
                    <a:cubicBezTo>
                      <a:pt x="80" y="53"/>
                      <a:pt x="57" y="55"/>
                      <a:pt x="36" y="49"/>
                    </a:cubicBezTo>
                    <a:cubicBezTo>
                      <a:pt x="20" y="44"/>
                      <a:pt x="0" y="0"/>
                      <a:pt x="0" y="43"/>
                    </a:cubicBezTo>
                    <a:close/>
                  </a:path>
                </a:pathLst>
              </a:custGeom>
              <a:solidFill>
                <a:srgbClr val="c05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4971960" y="2549520"/>
            <a:ext cx="142920" cy="123840"/>
          </a:xfrm>
          <a:custGeom>
            <a:avLst/>
            <a:gdLst/>
            <a:ahLst/>
            <a:rect l="l" t="t" r="r" b="b"/>
            <a:pathLst>
              <a:path w="90" h="78">
                <a:moveTo>
                  <a:pt x="0" y="68"/>
                </a:moveTo>
                <a:cubicBezTo>
                  <a:pt x="17" y="42"/>
                  <a:pt x="11" y="18"/>
                  <a:pt x="42" y="8"/>
                </a:cubicBezTo>
                <a:cubicBezTo>
                  <a:pt x="84" y="22"/>
                  <a:pt x="35" y="0"/>
                  <a:pt x="66" y="50"/>
                </a:cubicBezTo>
                <a:cubicBezTo>
                  <a:pt x="71" y="58"/>
                  <a:pt x="82" y="58"/>
                  <a:pt x="90" y="62"/>
                </a:cubicBezTo>
                <a:cubicBezTo>
                  <a:pt x="84" y="66"/>
                  <a:pt x="79" y="73"/>
                  <a:pt x="72" y="74"/>
                </a:cubicBezTo>
                <a:cubicBezTo>
                  <a:pt x="49" y="78"/>
                  <a:pt x="23" y="45"/>
                  <a:pt x="0" y="6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66880" y="2133720"/>
            <a:ext cx="3733920" cy="1828800"/>
            <a:chOff x="2666880" y="2133720"/>
            <a:chExt cx="373392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2666880" y="2133720"/>
              <a:ext cx="3733920" cy="1828800"/>
              <a:chOff x="2666880" y="2133720"/>
              <a:chExt cx="3733920" cy="1828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666880" y="2133720"/>
                <a:ext cx="3733920" cy="1828800"/>
                <a:chOff x="2666880" y="2133720"/>
                <a:chExt cx="3733920" cy="182880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2666880" y="2133720"/>
                  <a:ext cx="3733920" cy="1828800"/>
                  <a:chOff x="2666880" y="2133720"/>
                  <a:chExt cx="3733920" cy="182880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2666880" y="2498760"/>
                    <a:ext cx="1752480" cy="513000"/>
                    <a:chOff x="2666880" y="2498760"/>
                    <a:chExt cx="1752480" cy="5130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666880" y="2498760"/>
                      <a:ext cx="1022400" cy="459000"/>
                    </a:xfrm>
                    <a:prstGeom prst="rect">
                      <a:avLst/>
                    </a:prstGeom>
                    <a:solidFill>
                      <a:srgbClr val="ffcc00">
                        <a:alpha val="5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lan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a Farf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3689280" y="2718000"/>
                      <a:ext cx="730080" cy="293760"/>
                      <a:chOff x="3689280" y="2718000"/>
                      <a:chExt cx="730080" cy="29376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 flipH="1">
                        <a:off x="4087440" y="3011760"/>
                        <a:ext cx="3319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3689280" y="2718000"/>
                        <a:ext cx="398160" cy="29376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pic>
                <p:nvPicPr>
                  <p:cNvPr id="220" name="farfana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133720"/>
                    <a:ext cx="2590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1" name=""/>
                  <p:cNvSpPr/>
                  <p:nvPr/>
                </p:nvSpPr>
                <p:spPr>
                  <a:xfrm>
                    <a:off x="4572000" y="3011760"/>
                    <a:ext cx="932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400" spc="-1" strike="noStrike">
                        <a:solidFill>
                          <a:srgbClr val="000000"/>
                        </a:solidFill>
                        <a:latin typeface="Arial"/>
                      </a:rPr>
                      <a:t>Santiag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5562720" y="2686320"/>
                  <a:ext cx="95040" cy="133200"/>
                </a:xfrm>
                <a:custGeom>
                  <a:avLst/>
                  <a:gdLst/>
                  <a:ahLst/>
                  <a:rect l="l" t="t" r="r" b="b"/>
                  <a:pathLst>
                    <a:path w="48" h="78">
                      <a:moveTo>
                        <a:pt x="0" y="18"/>
                      </a:moveTo>
                      <a:cubicBezTo>
                        <a:pt x="10" y="16"/>
                        <a:pt x="20" y="14"/>
                        <a:pt x="30" y="12"/>
                      </a:cubicBezTo>
                      <a:cubicBezTo>
                        <a:pt x="36" y="10"/>
                        <a:pt x="47" y="0"/>
                        <a:pt x="48" y="6"/>
                      </a:cubicBezTo>
                      <a:cubicBezTo>
                        <a:pt x="48" y="6"/>
                        <a:pt x="33" y="51"/>
                        <a:pt x="30" y="60"/>
                      </a:cubicBezTo>
                      <a:cubicBezTo>
                        <a:pt x="28" y="66"/>
                        <a:pt x="24" y="78"/>
                        <a:pt x="24" y="78"/>
                      </a:cubicBezTo>
                      <a:cubicBezTo>
                        <a:pt x="12" y="60"/>
                        <a:pt x="0" y="41"/>
                        <a:pt x="0" y="18"/>
                      </a:cubicBezTo>
                      <a:close/>
                    </a:path>
                  </a:pathLst>
                </a:custGeom>
                <a:solidFill>
                  <a:srgbClr val="ffcf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379760" y="3019680"/>
                  <a:ext cx="20880" cy="56880"/>
                </a:xfrm>
                <a:custGeom>
                  <a:avLst/>
                  <a:gdLst/>
                  <a:ahLst/>
                  <a:rect l="l" t="t" r="r" b="b"/>
                  <a:pathLst>
                    <a:path w="13" h="36">
                      <a:moveTo>
                        <a:pt x="1" y="0"/>
                      </a:moveTo>
                      <a:cubicBezTo>
                        <a:pt x="8" y="33"/>
                        <a:pt x="0" y="23"/>
                        <a:pt x="13" y="36"/>
                      </a:cubicBezTo>
                    </a:path>
                  </a:pathLst>
                </a:custGeom>
                <a:solidFill>
                  <a:srgbClr val="ffcf01"/>
                </a:solidFill>
                <a:ln w="3492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343400" y="2895840"/>
                <a:ext cx="152280" cy="209520"/>
              </a:xfrm>
              <a:custGeom>
                <a:avLst/>
                <a:gdLst/>
                <a:ahLst/>
                <a:rect l="l" t="t" r="r" b="b"/>
                <a:pathLst>
                  <a:path w="34" h="132">
                    <a:moveTo>
                      <a:pt x="10" y="0"/>
                    </a:moveTo>
                    <a:cubicBezTo>
                      <a:pt x="2" y="48"/>
                      <a:pt x="0" y="24"/>
                      <a:pt x="16" y="72"/>
                    </a:cubicBezTo>
                    <a:cubicBezTo>
                      <a:pt x="18" y="78"/>
                      <a:pt x="22" y="90"/>
                      <a:pt x="22" y="90"/>
                    </a:cubicBezTo>
                    <a:cubicBezTo>
                      <a:pt x="16" y="107"/>
                      <a:pt x="8" y="132"/>
                      <a:pt x="34" y="132"/>
                    </a:cubicBezTo>
                  </a:path>
                </a:pathLst>
              </a:custGeom>
              <a:noFill/>
              <a:ln w="442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>
              <a:hlinkClick r:id="rId6" action="ppaction://hlinksldjump"/>
            </p:cNvPr>
            <p:cNvSpPr/>
            <p:nvPr/>
          </p:nvSpPr>
          <p:spPr>
            <a:xfrm>
              <a:off x="3505320" y="2514600"/>
              <a:ext cx="152280" cy="152640"/>
            </a:xfrm>
            <a:custGeom>
              <a:avLst/>
              <a:gdLst>
                <a:gd name="textAreaLeft" fmla="*/ 9720 w 152280"/>
                <a:gd name="textAreaRight" fmla="*/ 142560 w 152280"/>
                <a:gd name="textAreaTop" fmla="*/ 9720 h 152640"/>
                <a:gd name="textAreaBottom" fmla="*/ 142920 h 152640"/>
              </a:gdLst>
              <a:ahLst/>
              <a:rect l="textAreaLeft" t="textAreaTop" r="textAreaRight" b="textAreaBottom"/>
              <a:pathLst>
                <a:path w="21600" h="21651">
                  <a:moveTo>
                    <a:pt x="0" y="0"/>
                  </a:moveTo>
                  <a:lnTo>
                    <a:pt x="21600" y="0"/>
                  </a:lnTo>
                  <a:lnTo>
                    <a:pt x="21600" y="21651"/>
                  </a:lnTo>
                  <a:lnTo>
                    <a:pt x="0" y="21651"/>
                  </a:lnTo>
                  <a:close/>
                </a:path>
                <a:path fill="lightenLess" w="21600" h="2165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51">
                  <a:moveTo>
                    <a:pt x="21600" y="0"/>
                  </a:moveTo>
                  <a:lnTo>
                    <a:pt x="21600" y="21651"/>
                  </a:lnTo>
                  <a:lnTo>
                    <a:pt x="20200" y="20251"/>
                  </a:lnTo>
                  <a:lnTo>
                    <a:pt x="20200" y="1400"/>
                  </a:lnTo>
                  <a:close/>
                </a:path>
                <a:path fill="darkenLess" w="21600" h="21651">
                  <a:moveTo>
                    <a:pt x="21600" y="21651"/>
                  </a:moveTo>
                  <a:lnTo>
                    <a:pt x="0" y="21651"/>
                  </a:lnTo>
                  <a:lnTo>
                    <a:pt x="1400" y="20251"/>
                  </a:lnTo>
                  <a:lnTo>
                    <a:pt x="20200" y="20251"/>
                  </a:lnTo>
                  <a:close/>
                </a:path>
                <a:path fill="lighten" w="21600" h="21651">
                  <a:moveTo>
                    <a:pt x="0" y="2165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51"/>
                  </a:lnTo>
                  <a:close/>
                </a:path>
                <a:path fill="darken" w="21600" h="21651">
                  <a:moveTo>
                    <a:pt x="14299" y="10825"/>
                  </a:moveTo>
                  <a:lnTo>
                    <a:pt x="3794" y="17832"/>
                  </a:lnTo>
                  <a:lnTo>
                    <a:pt x="3794" y="3819"/>
                  </a:lnTo>
                  <a:close/>
                </a:path>
                <a:path fill="darken" w="21600" h="21651">
                  <a:moveTo>
                    <a:pt x="16144" y="3819"/>
                  </a:moveTo>
                  <a:lnTo>
                    <a:pt x="16144" y="17832"/>
                  </a:lnTo>
                  <a:lnTo>
                    <a:pt x="17806" y="17832"/>
                  </a:lnTo>
                  <a:lnTo>
                    <a:pt x="17806" y="381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.LaFarfana" descr=""/>
          <p:cNvPicPr/>
          <p:nvPr/>
        </p:nvPicPr>
        <p:blipFill>
          <a:blip r:embed="rId1"/>
          <a:stretch/>
        </p:blipFill>
        <p:spPr>
          <a:xfrm>
            <a:off x="152280" y="192240"/>
            <a:ext cx="8915400" cy="657036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21280" y="30492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Planta de Tratamiento de 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Servidas La Farf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41560" y="204804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1920" y="762120"/>
            <a:ext cx="268164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3.- SubCuenca Mapocho 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de Talag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Marz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249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252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419720" y="2352600"/>
            <a:ext cx="1371600" cy="609480"/>
            <a:chOff x="4419720" y="2352600"/>
            <a:chExt cx="1371600" cy="609480"/>
          </a:xfrm>
        </p:grpSpPr>
        <p:sp>
          <p:nvSpPr>
            <p:cNvPr id="258" name=""/>
            <p:cNvSpPr/>
            <p:nvPr/>
          </p:nvSpPr>
          <p:spPr>
            <a:xfrm>
              <a:off x="4419720" y="2352600"/>
              <a:ext cx="1371600" cy="60948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0280" y="2492280"/>
              <a:ext cx="165240" cy="24120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0" y="32"/>
                  </a:moveTo>
                  <a:cubicBezTo>
                    <a:pt x="48" y="0"/>
                    <a:pt x="10" y="30"/>
                    <a:pt x="64" y="48"/>
                  </a:cubicBezTo>
                  <a:cubicBezTo>
                    <a:pt x="86" y="115"/>
                    <a:pt x="14" y="46"/>
                    <a:pt x="0" y="32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962600" y="3608280"/>
            <a:ext cx="142920" cy="115920"/>
          </a:xfrm>
          <a:custGeom>
            <a:avLst/>
            <a:gdLst/>
            <a:ahLst/>
            <a:rect l="l" t="t" r="r" b="b"/>
            <a:pathLst>
              <a:path w="72" h="79">
                <a:moveTo>
                  <a:pt x="30" y="19"/>
                </a:moveTo>
                <a:cubicBezTo>
                  <a:pt x="47" y="69"/>
                  <a:pt x="30" y="0"/>
                  <a:pt x="6" y="43"/>
                </a:cubicBezTo>
                <a:cubicBezTo>
                  <a:pt x="0" y="54"/>
                  <a:pt x="10" y="67"/>
                  <a:pt x="12" y="79"/>
                </a:cubicBezTo>
                <a:cubicBezTo>
                  <a:pt x="43" y="74"/>
                  <a:pt x="62" y="79"/>
                  <a:pt x="72" y="49"/>
                </a:cubicBezTo>
                <a:cubicBezTo>
                  <a:pt x="65" y="21"/>
                  <a:pt x="69" y="2"/>
                  <a:pt x="36" y="13"/>
                </a:cubicBezTo>
                <a:cubicBezTo>
                  <a:pt x="29" y="35"/>
                  <a:pt x="30" y="37"/>
                  <a:pt x="30" y="1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2581200"/>
            <a:ext cx="137160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886200" y="2276640"/>
            <a:ext cx="2362320" cy="1652400"/>
            <a:chOff x="3886200" y="2276640"/>
            <a:chExt cx="2362320" cy="1652400"/>
          </a:xfrm>
        </p:grpSpPr>
        <p:pic>
          <p:nvPicPr>
            <p:cNvPr id="263" name="farfana" descr=""/>
            <p:cNvPicPr/>
            <p:nvPr/>
          </p:nvPicPr>
          <p:blipFill>
            <a:blip r:embed="rId4"/>
            <a:stretch/>
          </p:blipFill>
          <p:spPr>
            <a:xfrm>
              <a:off x="3886200" y="2276640"/>
              <a:ext cx="236232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572000" y="2962080"/>
              <a:ext cx="9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nti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75240" y="2776320"/>
              <a:ext cx="8748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25" y="75"/>
                  </a:moveTo>
                  <a:cubicBezTo>
                    <a:pt x="31" y="71"/>
                    <a:pt x="39" y="69"/>
                    <a:pt x="43" y="63"/>
                  </a:cubicBezTo>
                  <a:cubicBezTo>
                    <a:pt x="50" y="52"/>
                    <a:pt x="55" y="27"/>
                    <a:pt x="55" y="27"/>
                  </a:cubicBezTo>
                  <a:cubicBezTo>
                    <a:pt x="43" y="19"/>
                    <a:pt x="23" y="0"/>
                    <a:pt x="7" y="21"/>
                  </a:cubicBezTo>
                  <a:cubicBezTo>
                    <a:pt x="0" y="30"/>
                    <a:pt x="36" y="50"/>
                    <a:pt x="37" y="51"/>
                  </a:cubicBezTo>
                  <a:cubicBezTo>
                    <a:pt x="30" y="72"/>
                    <a:pt x="35" y="65"/>
                    <a:pt x="25" y="7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962600" y="3571920"/>
            <a:ext cx="142920" cy="187200"/>
          </a:xfrm>
          <a:custGeom>
            <a:avLst/>
            <a:gdLst/>
            <a:ahLst/>
            <a:rect l="l" t="t" r="r" b="b"/>
            <a:pathLst>
              <a:path w="77" h="81">
                <a:moveTo>
                  <a:pt x="48" y="11"/>
                </a:moveTo>
                <a:cubicBezTo>
                  <a:pt x="0" y="43"/>
                  <a:pt x="6" y="24"/>
                  <a:pt x="24" y="77"/>
                </a:cubicBezTo>
                <a:cubicBezTo>
                  <a:pt x="36" y="75"/>
                  <a:pt x="53" y="81"/>
                  <a:pt x="60" y="71"/>
                </a:cubicBezTo>
                <a:cubicBezTo>
                  <a:pt x="70" y="58"/>
                  <a:pt x="63" y="39"/>
                  <a:pt x="66" y="23"/>
                </a:cubicBezTo>
                <a:cubicBezTo>
                  <a:pt x="67" y="17"/>
                  <a:pt x="77" y="9"/>
                  <a:pt x="72" y="5"/>
                </a:cubicBezTo>
                <a:cubicBezTo>
                  <a:pt x="65" y="0"/>
                  <a:pt x="56" y="9"/>
                  <a:pt x="48" y="11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1760" y="3719880"/>
            <a:ext cx="842400" cy="437040"/>
            <a:chOff x="3731760" y="3719880"/>
            <a:chExt cx="842400" cy="437040"/>
          </a:xfrm>
        </p:grpSpPr>
        <p:sp>
          <p:nvSpPr>
            <p:cNvPr id="268" name=""/>
            <p:cNvSpPr/>
            <p:nvPr/>
          </p:nvSpPr>
          <p:spPr>
            <a:xfrm rot="21566400">
              <a:off x="3733560" y="3723840"/>
              <a:ext cx="838080" cy="428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Plan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 u="sng">
                  <a:solidFill>
                    <a:srgbClr val="ffffff"/>
                  </a:solidFill>
                  <a:uFillTx/>
                  <a:latin typeface="Arial"/>
                </a:rPr>
                <a:t>Talagan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>
              <a:hlinkClick r:id="rId5" action="ppaction://hlinksldjump"/>
            </p:cNvPr>
            <p:cNvSpPr/>
            <p:nvPr/>
          </p:nvSpPr>
          <p:spPr>
            <a:xfrm>
              <a:off x="4343400" y="3724200"/>
              <a:ext cx="228600" cy="152280"/>
            </a:xfrm>
            <a:custGeom>
              <a:avLst/>
              <a:gdLst>
                <a:gd name="textAreaLeft" fmla="*/ 9720 w 228600"/>
                <a:gd name="textAreaRight" fmla="*/ 218880 w 228600"/>
                <a:gd name="textAreaTop" fmla="*/ 9720 h 152280"/>
                <a:gd name="textAreaBottom" fmla="*/ 142560 h 152280"/>
              </a:gdLst>
              <a:ahLst/>
              <a:rect l="textAreaLeft" t="textAreaTop" r="textAreaRight" b="textAreaBottom"/>
              <a:pathLst>
                <a:path w="32400" h="21600">
                  <a:moveTo>
                    <a:pt x="0" y="0"/>
                  </a:moveTo>
                  <a:lnTo>
                    <a:pt x="32400" y="0"/>
                  </a:lnTo>
                  <a:lnTo>
                    <a:pt x="32400" y="21600"/>
                  </a:lnTo>
                  <a:lnTo>
                    <a:pt x="0" y="21600"/>
                  </a:lnTo>
                  <a:close/>
                </a:path>
                <a:path fill="lightenLess" w="32400" h="21600">
                  <a:moveTo>
                    <a:pt x="0" y="0"/>
                  </a:moveTo>
                  <a:lnTo>
                    <a:pt x="32400" y="0"/>
                  </a:lnTo>
                  <a:lnTo>
                    <a:pt x="31000" y="1400"/>
                  </a:lnTo>
                  <a:lnTo>
                    <a:pt x="1400" y="1400"/>
                  </a:lnTo>
                  <a:close/>
                </a:path>
                <a:path fill="darken" w="32400" h="21600">
                  <a:moveTo>
                    <a:pt x="32400" y="0"/>
                  </a:moveTo>
                  <a:lnTo>
                    <a:pt x="32400" y="21600"/>
                  </a:lnTo>
                  <a:lnTo>
                    <a:pt x="31000" y="20200"/>
                  </a:lnTo>
                  <a:lnTo>
                    <a:pt x="31000" y="1400"/>
                  </a:lnTo>
                  <a:close/>
                </a:path>
                <a:path fill="darkenLess" w="32400" h="21600">
                  <a:moveTo>
                    <a:pt x="324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00" y="20200"/>
                  </a:lnTo>
                  <a:close/>
                </a:path>
                <a:path fill="lighten" w="324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00" h="21600">
                  <a:moveTo>
                    <a:pt x="19699" y="10800"/>
                  </a:moveTo>
                  <a:lnTo>
                    <a:pt x="9194" y="17806"/>
                  </a:lnTo>
                  <a:lnTo>
                    <a:pt x="9194" y="3794"/>
                  </a:lnTo>
                  <a:close/>
                </a:path>
                <a:path fill="darken" w="32400" h="21600">
                  <a:moveTo>
                    <a:pt x="21544" y="3794"/>
                  </a:moveTo>
                  <a:lnTo>
                    <a:pt x="21544" y="17806"/>
                  </a:lnTo>
                  <a:lnTo>
                    <a:pt x="23206" y="17806"/>
                  </a:lnTo>
                  <a:lnTo>
                    <a:pt x="23206" y="37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alternativa%20para%20Medio%20Ambiente" descr=""/>
          <p:cNvPicPr/>
          <p:nvPr/>
        </p:nvPicPr>
        <p:blipFill>
          <a:blip r:embed="rId1"/>
          <a:stretch/>
        </p:blipFill>
        <p:spPr>
          <a:xfrm>
            <a:off x="914400" y="171360"/>
            <a:ext cx="7391520" cy="6615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675080" y="228600"/>
            <a:ext cx="5281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Lay –Out Planta de Tratamie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guas Servidas Talag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657600" y="2057400"/>
            <a:ext cx="83808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20574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Secund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640" y="2868480"/>
            <a:ext cx="604440" cy="1082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14600" y="6019920"/>
            <a:ext cx="1295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971800"/>
            <a:ext cx="152280" cy="990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14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elimin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5120" y="6324480"/>
            <a:ext cx="114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L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8400" y="274320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t. Prim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3920" y="5280120"/>
            <a:ext cx="5190840" cy="1616760"/>
          </a:xfrm>
          <a:prstGeom prst="roundRect">
            <a:avLst>
              <a:gd name="adj" fmla="val 15616"/>
            </a:avLst>
          </a:prstGeom>
          <a:solidFill>
            <a:srgbClr val="fffaef">
              <a:alpha val="50000"/>
            </a:srgbClr>
          </a:solidFill>
          <a:ln w="19080">
            <a:solidFill>
              <a:srgbClr val="008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udal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Promedio  = 408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- Máximo    = 720 l * s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apacidad: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90.000 H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1,4 t DBO</a:t>
            </a:r>
            <a:r>
              <a:rPr b="0" lang="es-MX" sz="14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ducción Lodos ~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12 t * d</a:t>
            </a:r>
            <a:r>
              <a:rPr b="0" lang="es-MX" sz="14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 a 65% sequ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218200" y="2606760"/>
            <a:ext cx="90360" cy="61920"/>
          </a:xfrm>
          <a:custGeom>
            <a:avLst/>
            <a:gdLst/>
            <a:ahLst/>
            <a:rect l="l" t="t" r="r" b="b"/>
            <a:pathLst>
              <a:path w="57" h="39">
                <a:moveTo>
                  <a:pt x="49" y="0"/>
                </a:moveTo>
                <a:cubicBezTo>
                  <a:pt x="41" y="3"/>
                  <a:pt x="32" y="3"/>
                  <a:pt x="25" y="8"/>
                </a:cubicBezTo>
                <a:cubicBezTo>
                  <a:pt x="17" y="14"/>
                  <a:pt x="0" y="28"/>
                  <a:pt x="9" y="32"/>
                </a:cubicBezTo>
                <a:cubicBezTo>
                  <a:pt x="24" y="39"/>
                  <a:pt x="41" y="27"/>
                  <a:pt x="57" y="24"/>
                </a:cubicBezTo>
                <a:cubicBezTo>
                  <a:pt x="54" y="16"/>
                  <a:pt x="49" y="0"/>
                  <a:pt x="49" y="0"/>
                </a:cubicBezTo>
                <a:close/>
              </a:path>
            </a:pathLst>
          </a:custGeom>
          <a:solidFill>
            <a:srgbClr val="aca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59320" y="3317760"/>
            <a:ext cx="88920" cy="131760"/>
          </a:xfrm>
          <a:custGeom>
            <a:avLst/>
            <a:gdLst/>
            <a:ahLst/>
            <a:rect l="l" t="t" r="r" b="b"/>
            <a:pathLst>
              <a:path w="56" h="83">
                <a:moveTo>
                  <a:pt x="8" y="0"/>
                </a:moveTo>
                <a:cubicBezTo>
                  <a:pt x="42" y="11"/>
                  <a:pt x="52" y="21"/>
                  <a:pt x="40" y="56"/>
                </a:cubicBezTo>
                <a:cubicBezTo>
                  <a:pt x="43" y="64"/>
                  <a:pt x="56" y="78"/>
                  <a:pt x="48" y="80"/>
                </a:cubicBezTo>
                <a:cubicBezTo>
                  <a:pt x="31" y="83"/>
                  <a:pt x="0" y="64"/>
                  <a:pt x="0" y="64"/>
                </a:cubicBezTo>
                <a:cubicBezTo>
                  <a:pt x="8" y="5"/>
                  <a:pt x="8" y="27"/>
                  <a:pt x="8" y="0"/>
                </a:cubicBezTo>
                <a:close/>
              </a:path>
            </a:pathLst>
          </a:custGeom>
          <a:solidFill>
            <a:srgbClr val="ffcc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36960" y="3591000"/>
            <a:ext cx="573120" cy="352440"/>
          </a:xfrm>
          <a:custGeom>
            <a:avLst/>
            <a:gdLst/>
            <a:ahLst/>
            <a:rect l="l" t="t" r="r" b="b"/>
            <a:pathLst>
              <a:path w="344" h="222">
                <a:moveTo>
                  <a:pt x="13" y="96"/>
                </a:moveTo>
                <a:cubicBezTo>
                  <a:pt x="20" y="117"/>
                  <a:pt x="46" y="156"/>
                  <a:pt x="67" y="168"/>
                </a:cubicBezTo>
                <a:cubicBezTo>
                  <a:pt x="78" y="174"/>
                  <a:pt x="92" y="173"/>
                  <a:pt x="103" y="180"/>
                </a:cubicBezTo>
                <a:cubicBezTo>
                  <a:pt x="138" y="203"/>
                  <a:pt x="164" y="214"/>
                  <a:pt x="205" y="222"/>
                </a:cubicBezTo>
                <a:cubicBezTo>
                  <a:pt x="248" y="216"/>
                  <a:pt x="266" y="203"/>
                  <a:pt x="301" y="180"/>
                </a:cubicBezTo>
                <a:cubicBezTo>
                  <a:pt x="312" y="173"/>
                  <a:pt x="337" y="168"/>
                  <a:pt x="337" y="168"/>
                </a:cubicBezTo>
                <a:cubicBezTo>
                  <a:pt x="344" y="148"/>
                  <a:pt x="337" y="81"/>
                  <a:pt x="325" y="66"/>
                </a:cubicBezTo>
                <a:cubicBezTo>
                  <a:pt x="321" y="61"/>
                  <a:pt x="313" y="62"/>
                  <a:pt x="307" y="60"/>
                </a:cubicBezTo>
                <a:cubicBezTo>
                  <a:pt x="285" y="75"/>
                  <a:pt x="256" y="76"/>
                  <a:pt x="235" y="90"/>
                </a:cubicBezTo>
                <a:cubicBezTo>
                  <a:pt x="213" y="104"/>
                  <a:pt x="188" y="118"/>
                  <a:pt x="163" y="126"/>
                </a:cubicBezTo>
                <a:cubicBezTo>
                  <a:pt x="79" y="115"/>
                  <a:pt x="142" y="124"/>
                  <a:pt x="91" y="90"/>
                </a:cubicBezTo>
                <a:cubicBezTo>
                  <a:pt x="75" y="67"/>
                  <a:pt x="75" y="57"/>
                  <a:pt x="103" y="48"/>
                </a:cubicBezTo>
                <a:cubicBezTo>
                  <a:pt x="135" y="0"/>
                  <a:pt x="60" y="30"/>
                  <a:pt x="25" y="18"/>
                </a:cubicBezTo>
                <a:cubicBezTo>
                  <a:pt x="11" y="61"/>
                  <a:pt x="20" y="43"/>
                  <a:pt x="1" y="72"/>
                </a:cubicBezTo>
                <a:cubicBezTo>
                  <a:pt x="8" y="105"/>
                  <a:pt x="0" y="109"/>
                  <a:pt x="13" y="96"/>
                </a:cubicBezTo>
                <a:close/>
              </a:path>
            </a:pathLst>
          </a:custGeom>
          <a:solidFill>
            <a:srgbClr val="fff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813040"/>
            <a:ext cx="228600" cy="366840"/>
          </a:xfrm>
          <a:custGeom>
            <a:avLst/>
            <a:gdLst/>
            <a:ahLst/>
            <a:rect l="l" t="t" r="r" b="b"/>
            <a:pathLst>
              <a:path w="65" h="231">
                <a:moveTo>
                  <a:pt x="14" y="214"/>
                </a:moveTo>
                <a:cubicBezTo>
                  <a:pt x="65" y="231"/>
                  <a:pt x="34" y="155"/>
                  <a:pt x="26" y="130"/>
                </a:cubicBezTo>
                <a:cubicBezTo>
                  <a:pt x="20" y="85"/>
                  <a:pt x="16" y="79"/>
                  <a:pt x="38" y="46"/>
                </a:cubicBezTo>
                <a:cubicBezTo>
                  <a:pt x="36" y="42"/>
                  <a:pt x="13" y="0"/>
                  <a:pt x="8" y="34"/>
                </a:cubicBezTo>
                <a:cubicBezTo>
                  <a:pt x="4" y="58"/>
                  <a:pt x="12" y="82"/>
                  <a:pt x="14" y="106"/>
                </a:cubicBezTo>
                <a:cubicBezTo>
                  <a:pt x="11" y="126"/>
                  <a:pt x="2" y="146"/>
                  <a:pt x="2" y="166"/>
                </a:cubicBezTo>
                <a:cubicBezTo>
                  <a:pt x="2" y="228"/>
                  <a:pt x="0" y="194"/>
                  <a:pt x="26" y="220"/>
                </a:cubicBezTo>
                <a:cubicBezTo>
                  <a:pt x="29" y="223"/>
                  <a:pt x="18" y="216"/>
                  <a:pt x="14" y="214"/>
                </a:cubicBezTo>
                <a:close/>
              </a:path>
            </a:pathLst>
          </a:custGeom>
          <a:solidFill>
            <a:srgbClr val="ffce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1680" y="2556000"/>
            <a:ext cx="142920" cy="16164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46"/>
                </a:moveTo>
                <a:cubicBezTo>
                  <a:pt x="8" y="14"/>
                  <a:pt x="10" y="0"/>
                  <a:pt x="42" y="22"/>
                </a:cubicBezTo>
                <a:cubicBezTo>
                  <a:pt x="49" y="33"/>
                  <a:pt x="53" y="47"/>
                  <a:pt x="60" y="58"/>
                </a:cubicBezTo>
                <a:cubicBezTo>
                  <a:pt x="69" y="71"/>
                  <a:pt x="81" y="81"/>
                  <a:pt x="90" y="94"/>
                </a:cubicBezTo>
                <a:cubicBezTo>
                  <a:pt x="84" y="96"/>
                  <a:pt x="78" y="102"/>
                  <a:pt x="72" y="100"/>
                </a:cubicBezTo>
                <a:cubicBezTo>
                  <a:pt x="58" y="95"/>
                  <a:pt x="36" y="76"/>
                  <a:pt x="36" y="76"/>
                </a:cubicBezTo>
                <a:cubicBezTo>
                  <a:pt x="21" y="32"/>
                  <a:pt x="43" y="76"/>
                  <a:pt x="12" y="64"/>
                </a:cubicBezTo>
                <a:cubicBezTo>
                  <a:pt x="5" y="61"/>
                  <a:pt x="4" y="52"/>
                  <a:pt x="0" y="46"/>
                </a:cubicBezTo>
                <a:close/>
              </a:path>
            </a:pathLst>
          </a:custGeom>
          <a:solidFill>
            <a:srgbClr val="ba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124160"/>
            <a:ext cx="285480" cy="219240"/>
          </a:xfrm>
          <a:custGeom>
            <a:avLst/>
            <a:gdLst/>
            <a:ahLst/>
            <a:rect l="l" t="t" r="r" b="b"/>
            <a:pathLst>
              <a:path w="180" h="138">
                <a:moveTo>
                  <a:pt x="0" y="138"/>
                </a:moveTo>
                <a:cubicBezTo>
                  <a:pt x="23" y="103"/>
                  <a:pt x="25" y="100"/>
                  <a:pt x="60" y="84"/>
                </a:cubicBezTo>
                <a:cubicBezTo>
                  <a:pt x="72" y="79"/>
                  <a:pt x="96" y="72"/>
                  <a:pt x="96" y="72"/>
                </a:cubicBezTo>
                <a:cubicBezTo>
                  <a:pt x="116" y="57"/>
                  <a:pt x="132" y="44"/>
                  <a:pt x="156" y="36"/>
                </a:cubicBezTo>
                <a:cubicBezTo>
                  <a:pt x="164" y="24"/>
                  <a:pt x="180" y="0"/>
                  <a:pt x="180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6680" y="3510000"/>
            <a:ext cx="581040" cy="642960"/>
          </a:xfrm>
          <a:custGeom>
            <a:avLst/>
            <a:gdLst/>
            <a:ahLst/>
            <a:rect l="l" t="t" r="r" b="b"/>
            <a:pathLst>
              <a:path w="366" h="405">
                <a:moveTo>
                  <a:pt x="0" y="405"/>
                </a:moveTo>
                <a:cubicBezTo>
                  <a:pt x="36" y="381"/>
                  <a:pt x="38" y="348"/>
                  <a:pt x="48" y="309"/>
                </a:cubicBezTo>
                <a:cubicBezTo>
                  <a:pt x="53" y="289"/>
                  <a:pt x="78" y="255"/>
                  <a:pt x="78" y="255"/>
                </a:cubicBezTo>
                <a:cubicBezTo>
                  <a:pt x="84" y="222"/>
                  <a:pt x="82" y="206"/>
                  <a:pt x="114" y="195"/>
                </a:cubicBezTo>
                <a:cubicBezTo>
                  <a:pt x="134" y="166"/>
                  <a:pt x="120" y="162"/>
                  <a:pt x="156" y="153"/>
                </a:cubicBezTo>
                <a:cubicBezTo>
                  <a:pt x="183" y="135"/>
                  <a:pt x="180" y="107"/>
                  <a:pt x="210" y="87"/>
                </a:cubicBezTo>
                <a:cubicBezTo>
                  <a:pt x="227" y="62"/>
                  <a:pt x="248" y="48"/>
                  <a:pt x="276" y="39"/>
                </a:cubicBezTo>
                <a:cubicBezTo>
                  <a:pt x="289" y="0"/>
                  <a:pt x="343" y="10"/>
                  <a:pt x="366" y="3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9280" y="34718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0" y="45"/>
                </a:moveTo>
                <a:cubicBezTo>
                  <a:pt x="23" y="37"/>
                  <a:pt x="45" y="0"/>
                  <a:pt x="0" y="45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629080"/>
            <a:ext cx="2880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cubicBezTo>
                  <a:pt x="6" y="2"/>
                  <a:pt x="18" y="6"/>
                  <a:pt x="18" y="6"/>
                </a:cubicBezTo>
                <a:cubicBezTo>
                  <a:pt x="18" y="6"/>
                  <a:pt x="6" y="2"/>
                  <a:pt x="0" y="0"/>
                </a:cubicBezTo>
                <a:close/>
              </a:path>
            </a:pathLst>
          </a:custGeom>
          <a:solidFill>
            <a:srgbClr val="00cc99"/>
          </a:solidFill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2314440"/>
            <a:ext cx="68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19560" y="2876400"/>
            <a:ext cx="190440" cy="638280"/>
          </a:xfrm>
          <a:custGeom>
            <a:avLst/>
            <a:gdLst/>
            <a:ahLst/>
            <a:rect l="l" t="t" r="r" b="b"/>
            <a:pathLst>
              <a:path w="120" h="402">
                <a:moveTo>
                  <a:pt x="30" y="402"/>
                </a:moveTo>
                <a:cubicBezTo>
                  <a:pt x="41" y="359"/>
                  <a:pt x="24" y="323"/>
                  <a:pt x="0" y="288"/>
                </a:cubicBezTo>
                <a:cubicBezTo>
                  <a:pt x="9" y="261"/>
                  <a:pt x="32" y="251"/>
                  <a:pt x="42" y="222"/>
                </a:cubicBezTo>
                <a:cubicBezTo>
                  <a:pt x="34" y="136"/>
                  <a:pt x="39" y="161"/>
                  <a:pt x="0" y="102"/>
                </a:cubicBezTo>
                <a:cubicBezTo>
                  <a:pt x="7" y="81"/>
                  <a:pt x="13" y="47"/>
                  <a:pt x="30" y="30"/>
                </a:cubicBezTo>
                <a:cubicBezTo>
                  <a:pt x="44" y="16"/>
                  <a:pt x="67" y="11"/>
                  <a:pt x="84" y="0"/>
                </a:cubicBezTo>
                <a:cubicBezTo>
                  <a:pt x="96" y="8"/>
                  <a:pt x="120" y="24"/>
                  <a:pt x="120" y="2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2581200"/>
            <a:ext cx="885600" cy="95400"/>
          </a:xfrm>
          <a:custGeom>
            <a:avLst/>
            <a:gdLst/>
            <a:ahLst/>
            <a:rect l="l" t="t" r="r" b="b"/>
            <a:pathLst>
              <a:path w="558" h="60">
                <a:moveTo>
                  <a:pt x="0" y="18"/>
                </a:moveTo>
                <a:cubicBezTo>
                  <a:pt x="30" y="12"/>
                  <a:pt x="60" y="5"/>
                  <a:pt x="90" y="0"/>
                </a:cubicBezTo>
                <a:cubicBezTo>
                  <a:pt x="125" y="7"/>
                  <a:pt x="158" y="19"/>
                  <a:pt x="192" y="30"/>
                </a:cubicBezTo>
                <a:cubicBezTo>
                  <a:pt x="212" y="37"/>
                  <a:pt x="226" y="53"/>
                  <a:pt x="246" y="60"/>
                </a:cubicBezTo>
                <a:cubicBezTo>
                  <a:pt x="320" y="56"/>
                  <a:pt x="395" y="45"/>
                  <a:pt x="468" y="54"/>
                </a:cubicBezTo>
                <a:cubicBezTo>
                  <a:pt x="501" y="48"/>
                  <a:pt x="525" y="54"/>
                  <a:pt x="558" y="54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5440" y="37130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00" spc="-1" strike="noStrike">
                <a:solidFill>
                  <a:srgbClr val="000000"/>
                </a:solidFill>
                <a:latin typeface="Arial"/>
              </a:rPr>
              <a:t>La Ob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2840040"/>
            <a:ext cx="117720" cy="19080"/>
          </a:xfrm>
          <a:custGeom>
            <a:avLst/>
            <a:gdLst/>
            <a:ahLst/>
            <a:rect l="l" t="t" r="r" b="b"/>
            <a:pathLst>
              <a:path w="74" h="12">
                <a:moveTo>
                  <a:pt x="0" y="12"/>
                </a:moveTo>
                <a:cubicBezTo>
                  <a:pt x="49" y="0"/>
                  <a:pt x="24" y="3"/>
                  <a:pt x="74" y="3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81560" y="2859120"/>
            <a:ext cx="28440" cy="3024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9"/>
                </a:moveTo>
                <a:cubicBezTo>
                  <a:pt x="6" y="13"/>
                  <a:pt x="18" y="0"/>
                  <a:pt x="18" y="0"/>
                </a:cubicBezTo>
                <a:cubicBezTo>
                  <a:pt x="18" y="0"/>
                  <a:pt x="6" y="13"/>
                  <a:pt x="0" y="19"/>
                </a:cubicBezTo>
                <a:close/>
              </a:path>
            </a:pathLst>
          </a:cu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6960" y="914400"/>
            <a:ext cx="3199680" cy="7333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4.- SubCuenca Norte Gran 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La Planta Los Nog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ner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2352600"/>
            <a:ext cx="990720" cy="4590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La Far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arfana" descr=""/>
          <p:cNvPicPr/>
          <p:nvPr/>
        </p:nvPicPr>
        <p:blipFill>
          <a:blip r:embed="rId2"/>
          <a:stretch/>
        </p:blipFill>
        <p:spPr>
          <a:xfrm>
            <a:off x="3886200" y="2352600"/>
            <a:ext cx="2362320" cy="15764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495680" y="296244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733920" y="2733840"/>
            <a:ext cx="761040" cy="304560"/>
            <a:chOff x="3733920" y="2733840"/>
            <a:chExt cx="761040" cy="304560"/>
          </a:xfrm>
        </p:grpSpPr>
        <p:sp>
          <p:nvSpPr>
            <p:cNvPr id="304" name=""/>
            <p:cNvSpPr/>
            <p:nvPr/>
          </p:nvSpPr>
          <p:spPr>
            <a:xfrm flipH="1">
              <a:off x="4149000" y="3038400"/>
              <a:ext cx="3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33920" y="2733840"/>
              <a:ext cx="415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733920" y="3114360"/>
            <a:ext cx="609120" cy="228960"/>
            <a:chOff x="3733920" y="3114360"/>
            <a:chExt cx="609120" cy="228960"/>
          </a:xfrm>
        </p:grpSpPr>
        <p:sp>
          <p:nvSpPr>
            <p:cNvPr id="307" name=""/>
            <p:cNvSpPr/>
            <p:nvPr/>
          </p:nvSpPr>
          <p:spPr>
            <a:xfrm flipH="1">
              <a:off x="4072320" y="3343320"/>
              <a:ext cx="27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3733920" y="3114360"/>
              <a:ext cx="338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743200" y="2886120"/>
            <a:ext cx="990720" cy="4590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Pla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El Tre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3648240"/>
            <a:ext cx="75960" cy="228600"/>
          </a:xfrm>
          <a:prstGeom prst="rect">
            <a:avLst/>
          </a:prstGeom>
          <a:solidFill>
            <a:srgbClr val="f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20283600">
            <a:off x="3581280" y="3571920"/>
            <a:ext cx="1141560" cy="709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1566400">
            <a:off x="2514240" y="3495240"/>
            <a:ext cx="83808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P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ffffff"/>
                </a:solidFill>
                <a:uFillTx/>
                <a:latin typeface="Arial"/>
              </a:rPr>
              <a:t>Talag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52680" y="3800160"/>
            <a:ext cx="304560" cy="76320"/>
            <a:chOff x="3352680" y="3800160"/>
            <a:chExt cx="304560" cy="76320"/>
          </a:xfrm>
        </p:grpSpPr>
        <p:sp>
          <p:nvSpPr>
            <p:cNvPr id="314" name=""/>
            <p:cNvSpPr/>
            <p:nvPr/>
          </p:nvSpPr>
          <p:spPr>
            <a:xfrm flipH="1">
              <a:off x="3504960" y="387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3352680" y="3800160"/>
              <a:ext cx="152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793840" y="235260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Rí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cc"/>
                </a:solidFill>
                <a:latin typeface="Arial"/>
              </a:rPr>
              <a:t>Mapo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21160" y="2443320"/>
            <a:ext cx="61920" cy="61920"/>
          </a:xfrm>
          <a:custGeom>
            <a:avLst/>
            <a:gdLst/>
            <a:ahLst/>
            <a:rect l="l" t="t" r="r" b="b"/>
            <a:pathLst>
              <a:path w="39" h="39">
                <a:moveTo>
                  <a:pt x="38" y="39"/>
                </a:moveTo>
                <a:cubicBezTo>
                  <a:pt x="35" y="29"/>
                  <a:pt x="29" y="0"/>
                  <a:pt x="14" y="15"/>
                </a:cubicBezTo>
                <a:cubicBezTo>
                  <a:pt x="10" y="19"/>
                  <a:pt x="20" y="39"/>
                  <a:pt x="20" y="33"/>
                </a:cubicBezTo>
                <a:cubicBezTo>
                  <a:pt x="20" y="5"/>
                  <a:pt x="0" y="4"/>
                  <a:pt x="32" y="15"/>
                </a:cubicBezTo>
                <a:cubicBezTo>
                  <a:pt x="39" y="35"/>
                  <a:pt x="38" y="27"/>
                  <a:pt x="38" y="39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19720" y="2428920"/>
            <a:ext cx="1371600" cy="533160"/>
            <a:chOff x="4419720" y="2428920"/>
            <a:chExt cx="1371600" cy="533160"/>
          </a:xfrm>
        </p:grpSpPr>
        <p:sp>
          <p:nvSpPr>
            <p:cNvPr id="319" name=""/>
            <p:cNvSpPr/>
            <p:nvPr/>
          </p:nvSpPr>
          <p:spPr>
            <a:xfrm>
              <a:off x="4419720" y="2428920"/>
              <a:ext cx="1371600" cy="533160"/>
            </a:xfrm>
            <a:custGeom>
              <a:avLst/>
              <a:gdLst/>
              <a:ahLst/>
              <a:rect l="l" t="t" r="r" b="b"/>
              <a:pathLst>
                <a:path w="2208" h="1136">
                  <a:moveTo>
                    <a:pt x="96" y="1120"/>
                  </a:moveTo>
                  <a:cubicBezTo>
                    <a:pt x="80" y="1104"/>
                    <a:pt x="104" y="1064"/>
                    <a:pt x="96" y="1024"/>
                  </a:cubicBezTo>
                  <a:cubicBezTo>
                    <a:pt x="88" y="984"/>
                    <a:pt x="56" y="960"/>
                    <a:pt x="48" y="880"/>
                  </a:cubicBezTo>
                  <a:cubicBezTo>
                    <a:pt x="40" y="800"/>
                    <a:pt x="0" y="640"/>
                    <a:pt x="48" y="544"/>
                  </a:cubicBezTo>
                  <a:cubicBezTo>
                    <a:pt x="96" y="448"/>
                    <a:pt x="280" y="344"/>
                    <a:pt x="336" y="304"/>
                  </a:cubicBezTo>
                  <a:cubicBezTo>
                    <a:pt x="392" y="264"/>
                    <a:pt x="360" y="304"/>
                    <a:pt x="384" y="304"/>
                  </a:cubicBezTo>
                  <a:cubicBezTo>
                    <a:pt x="408" y="304"/>
                    <a:pt x="472" y="320"/>
                    <a:pt x="480" y="304"/>
                  </a:cubicBezTo>
                  <a:cubicBezTo>
                    <a:pt x="488" y="288"/>
                    <a:pt x="424" y="240"/>
                    <a:pt x="432" y="208"/>
                  </a:cubicBezTo>
                  <a:cubicBezTo>
                    <a:pt x="440" y="176"/>
                    <a:pt x="496" y="128"/>
                    <a:pt x="528" y="112"/>
                  </a:cubicBezTo>
                  <a:cubicBezTo>
                    <a:pt x="560" y="96"/>
                    <a:pt x="608" y="104"/>
                    <a:pt x="624" y="112"/>
                  </a:cubicBezTo>
                  <a:cubicBezTo>
                    <a:pt x="640" y="120"/>
                    <a:pt x="608" y="136"/>
                    <a:pt x="624" y="160"/>
                  </a:cubicBezTo>
                  <a:cubicBezTo>
                    <a:pt x="640" y="184"/>
                    <a:pt x="712" y="224"/>
                    <a:pt x="720" y="256"/>
                  </a:cubicBezTo>
                  <a:cubicBezTo>
                    <a:pt x="728" y="288"/>
                    <a:pt x="656" y="344"/>
                    <a:pt x="672" y="352"/>
                  </a:cubicBezTo>
                  <a:cubicBezTo>
                    <a:pt x="688" y="360"/>
                    <a:pt x="784" y="320"/>
                    <a:pt x="816" y="304"/>
                  </a:cubicBezTo>
                  <a:cubicBezTo>
                    <a:pt x="848" y="288"/>
                    <a:pt x="848" y="256"/>
                    <a:pt x="864" y="256"/>
                  </a:cubicBezTo>
                  <a:cubicBezTo>
                    <a:pt x="880" y="256"/>
                    <a:pt x="904" y="280"/>
                    <a:pt x="912" y="304"/>
                  </a:cubicBezTo>
                  <a:cubicBezTo>
                    <a:pt x="920" y="328"/>
                    <a:pt x="904" y="384"/>
                    <a:pt x="912" y="400"/>
                  </a:cubicBezTo>
                  <a:cubicBezTo>
                    <a:pt x="920" y="416"/>
                    <a:pt x="952" y="392"/>
                    <a:pt x="960" y="400"/>
                  </a:cubicBezTo>
                  <a:cubicBezTo>
                    <a:pt x="968" y="408"/>
                    <a:pt x="952" y="432"/>
                    <a:pt x="960" y="448"/>
                  </a:cubicBezTo>
                  <a:cubicBezTo>
                    <a:pt x="968" y="464"/>
                    <a:pt x="984" y="504"/>
                    <a:pt x="1008" y="496"/>
                  </a:cubicBezTo>
                  <a:cubicBezTo>
                    <a:pt x="1032" y="488"/>
                    <a:pt x="1080" y="408"/>
                    <a:pt x="1104" y="400"/>
                  </a:cubicBezTo>
                  <a:cubicBezTo>
                    <a:pt x="1128" y="392"/>
                    <a:pt x="1152" y="424"/>
                    <a:pt x="1152" y="448"/>
                  </a:cubicBezTo>
                  <a:cubicBezTo>
                    <a:pt x="1152" y="472"/>
                    <a:pt x="1088" y="528"/>
                    <a:pt x="1104" y="544"/>
                  </a:cubicBezTo>
                  <a:cubicBezTo>
                    <a:pt x="1120" y="560"/>
                    <a:pt x="1216" y="544"/>
                    <a:pt x="1248" y="544"/>
                  </a:cubicBezTo>
                  <a:cubicBezTo>
                    <a:pt x="1280" y="544"/>
                    <a:pt x="1296" y="536"/>
                    <a:pt x="1296" y="544"/>
                  </a:cubicBezTo>
                  <a:cubicBezTo>
                    <a:pt x="1296" y="552"/>
                    <a:pt x="1248" y="576"/>
                    <a:pt x="1248" y="592"/>
                  </a:cubicBezTo>
                  <a:cubicBezTo>
                    <a:pt x="1248" y="608"/>
                    <a:pt x="1280" y="656"/>
                    <a:pt x="1296" y="640"/>
                  </a:cubicBezTo>
                  <a:cubicBezTo>
                    <a:pt x="1312" y="624"/>
                    <a:pt x="1320" y="528"/>
                    <a:pt x="1344" y="496"/>
                  </a:cubicBezTo>
                  <a:cubicBezTo>
                    <a:pt x="1368" y="464"/>
                    <a:pt x="1400" y="456"/>
                    <a:pt x="1440" y="448"/>
                  </a:cubicBezTo>
                  <a:cubicBezTo>
                    <a:pt x="1480" y="440"/>
                    <a:pt x="1552" y="464"/>
                    <a:pt x="1584" y="448"/>
                  </a:cubicBezTo>
                  <a:cubicBezTo>
                    <a:pt x="1616" y="432"/>
                    <a:pt x="1632" y="376"/>
                    <a:pt x="1632" y="352"/>
                  </a:cubicBezTo>
                  <a:cubicBezTo>
                    <a:pt x="1632" y="328"/>
                    <a:pt x="1600" y="312"/>
                    <a:pt x="1584" y="304"/>
                  </a:cubicBezTo>
                  <a:cubicBezTo>
                    <a:pt x="1568" y="296"/>
                    <a:pt x="1544" y="312"/>
                    <a:pt x="1536" y="304"/>
                  </a:cubicBezTo>
                  <a:cubicBezTo>
                    <a:pt x="1528" y="296"/>
                    <a:pt x="1536" y="272"/>
                    <a:pt x="1536" y="256"/>
                  </a:cubicBezTo>
                  <a:cubicBezTo>
                    <a:pt x="1536" y="240"/>
                    <a:pt x="1528" y="224"/>
                    <a:pt x="1536" y="208"/>
                  </a:cubicBezTo>
                  <a:cubicBezTo>
                    <a:pt x="1544" y="192"/>
                    <a:pt x="1592" y="176"/>
                    <a:pt x="1584" y="160"/>
                  </a:cubicBezTo>
                  <a:cubicBezTo>
                    <a:pt x="1576" y="144"/>
                    <a:pt x="1512" y="128"/>
                    <a:pt x="1488" y="112"/>
                  </a:cubicBezTo>
                  <a:cubicBezTo>
                    <a:pt x="1464" y="96"/>
                    <a:pt x="1432" y="72"/>
                    <a:pt x="1440" y="64"/>
                  </a:cubicBezTo>
                  <a:cubicBezTo>
                    <a:pt x="1448" y="56"/>
                    <a:pt x="1512" y="56"/>
                    <a:pt x="1536" y="64"/>
                  </a:cubicBezTo>
                  <a:cubicBezTo>
                    <a:pt x="1560" y="72"/>
                    <a:pt x="1568" y="120"/>
                    <a:pt x="1584" y="112"/>
                  </a:cubicBezTo>
                  <a:cubicBezTo>
                    <a:pt x="1600" y="104"/>
                    <a:pt x="1616" y="32"/>
                    <a:pt x="1632" y="16"/>
                  </a:cubicBezTo>
                  <a:cubicBezTo>
                    <a:pt x="1648" y="0"/>
                    <a:pt x="1664" y="16"/>
                    <a:pt x="1680" y="16"/>
                  </a:cubicBezTo>
                  <a:cubicBezTo>
                    <a:pt x="1696" y="16"/>
                    <a:pt x="1712" y="0"/>
                    <a:pt x="1728" y="16"/>
                  </a:cubicBezTo>
                  <a:cubicBezTo>
                    <a:pt x="1744" y="32"/>
                    <a:pt x="1760" y="96"/>
                    <a:pt x="1776" y="112"/>
                  </a:cubicBezTo>
                  <a:cubicBezTo>
                    <a:pt x="1792" y="128"/>
                    <a:pt x="1808" y="104"/>
                    <a:pt x="1824" y="112"/>
                  </a:cubicBezTo>
                  <a:cubicBezTo>
                    <a:pt x="1840" y="120"/>
                    <a:pt x="1856" y="152"/>
                    <a:pt x="1872" y="160"/>
                  </a:cubicBezTo>
                  <a:cubicBezTo>
                    <a:pt x="1888" y="168"/>
                    <a:pt x="1912" y="168"/>
                    <a:pt x="1920" y="160"/>
                  </a:cubicBezTo>
                  <a:cubicBezTo>
                    <a:pt x="1928" y="152"/>
                    <a:pt x="1896" y="80"/>
                    <a:pt x="1920" y="112"/>
                  </a:cubicBezTo>
                  <a:cubicBezTo>
                    <a:pt x="1944" y="144"/>
                    <a:pt x="2040" y="304"/>
                    <a:pt x="2064" y="352"/>
                  </a:cubicBezTo>
                  <a:cubicBezTo>
                    <a:pt x="2088" y="400"/>
                    <a:pt x="2056" y="416"/>
                    <a:pt x="2064" y="400"/>
                  </a:cubicBezTo>
                  <a:cubicBezTo>
                    <a:pt x="2072" y="384"/>
                    <a:pt x="2088" y="288"/>
                    <a:pt x="2112" y="256"/>
                  </a:cubicBezTo>
                  <a:cubicBezTo>
                    <a:pt x="2136" y="224"/>
                    <a:pt x="2208" y="184"/>
                    <a:pt x="2208" y="208"/>
                  </a:cubicBezTo>
                  <a:cubicBezTo>
                    <a:pt x="2208" y="232"/>
                    <a:pt x="2120" y="360"/>
                    <a:pt x="2112" y="400"/>
                  </a:cubicBezTo>
                  <a:cubicBezTo>
                    <a:pt x="2104" y="440"/>
                    <a:pt x="2144" y="432"/>
                    <a:pt x="2160" y="448"/>
                  </a:cubicBezTo>
                  <a:cubicBezTo>
                    <a:pt x="2176" y="464"/>
                    <a:pt x="2208" y="488"/>
                    <a:pt x="2208" y="496"/>
                  </a:cubicBezTo>
                  <a:cubicBezTo>
                    <a:pt x="2208" y="504"/>
                    <a:pt x="2168" y="504"/>
                    <a:pt x="2160" y="496"/>
                  </a:cubicBezTo>
                  <a:cubicBezTo>
                    <a:pt x="2152" y="488"/>
                    <a:pt x="2176" y="456"/>
                    <a:pt x="2160" y="448"/>
                  </a:cubicBezTo>
                  <a:cubicBezTo>
                    <a:pt x="2144" y="440"/>
                    <a:pt x="2088" y="432"/>
                    <a:pt x="2064" y="448"/>
                  </a:cubicBezTo>
                  <a:cubicBezTo>
                    <a:pt x="2040" y="464"/>
                    <a:pt x="2024" y="512"/>
                    <a:pt x="2016" y="544"/>
                  </a:cubicBezTo>
                  <a:cubicBezTo>
                    <a:pt x="2008" y="576"/>
                    <a:pt x="2016" y="616"/>
                    <a:pt x="2016" y="640"/>
                  </a:cubicBezTo>
                  <a:cubicBezTo>
                    <a:pt x="2016" y="664"/>
                    <a:pt x="2024" y="672"/>
                    <a:pt x="2016" y="688"/>
                  </a:cubicBezTo>
                  <a:cubicBezTo>
                    <a:pt x="2008" y="704"/>
                    <a:pt x="1984" y="720"/>
                    <a:pt x="1968" y="736"/>
                  </a:cubicBezTo>
                  <a:cubicBezTo>
                    <a:pt x="1952" y="752"/>
                    <a:pt x="1936" y="776"/>
                    <a:pt x="1920" y="784"/>
                  </a:cubicBezTo>
                  <a:cubicBezTo>
                    <a:pt x="1904" y="792"/>
                    <a:pt x="1888" y="784"/>
                    <a:pt x="1872" y="784"/>
                  </a:cubicBezTo>
                  <a:cubicBezTo>
                    <a:pt x="1856" y="784"/>
                    <a:pt x="1840" y="776"/>
                    <a:pt x="1824" y="784"/>
                  </a:cubicBezTo>
                  <a:cubicBezTo>
                    <a:pt x="1808" y="792"/>
                    <a:pt x="1800" y="824"/>
                    <a:pt x="1776" y="832"/>
                  </a:cubicBezTo>
                  <a:cubicBezTo>
                    <a:pt x="1752" y="840"/>
                    <a:pt x="1704" y="832"/>
                    <a:pt x="1680" y="832"/>
                  </a:cubicBezTo>
                  <a:cubicBezTo>
                    <a:pt x="1656" y="832"/>
                    <a:pt x="1648" y="824"/>
                    <a:pt x="1632" y="832"/>
                  </a:cubicBezTo>
                  <a:cubicBezTo>
                    <a:pt x="1616" y="840"/>
                    <a:pt x="1608" y="872"/>
                    <a:pt x="1584" y="880"/>
                  </a:cubicBezTo>
                  <a:cubicBezTo>
                    <a:pt x="1560" y="888"/>
                    <a:pt x="1512" y="880"/>
                    <a:pt x="1488" y="880"/>
                  </a:cubicBezTo>
                  <a:cubicBezTo>
                    <a:pt x="1464" y="880"/>
                    <a:pt x="1456" y="872"/>
                    <a:pt x="1440" y="880"/>
                  </a:cubicBezTo>
                  <a:cubicBezTo>
                    <a:pt x="1424" y="888"/>
                    <a:pt x="1416" y="920"/>
                    <a:pt x="1392" y="928"/>
                  </a:cubicBezTo>
                  <a:cubicBezTo>
                    <a:pt x="1368" y="936"/>
                    <a:pt x="1328" y="928"/>
                    <a:pt x="1296" y="928"/>
                  </a:cubicBezTo>
                  <a:cubicBezTo>
                    <a:pt x="1264" y="928"/>
                    <a:pt x="1224" y="912"/>
                    <a:pt x="1200" y="928"/>
                  </a:cubicBezTo>
                  <a:cubicBezTo>
                    <a:pt x="1176" y="944"/>
                    <a:pt x="1176" y="1000"/>
                    <a:pt x="1152" y="1024"/>
                  </a:cubicBezTo>
                  <a:cubicBezTo>
                    <a:pt x="1128" y="1048"/>
                    <a:pt x="1104" y="1080"/>
                    <a:pt x="1056" y="1072"/>
                  </a:cubicBezTo>
                  <a:cubicBezTo>
                    <a:pt x="1008" y="1064"/>
                    <a:pt x="912" y="984"/>
                    <a:pt x="864" y="976"/>
                  </a:cubicBezTo>
                  <a:cubicBezTo>
                    <a:pt x="816" y="968"/>
                    <a:pt x="784" y="1008"/>
                    <a:pt x="768" y="1024"/>
                  </a:cubicBezTo>
                  <a:cubicBezTo>
                    <a:pt x="752" y="1040"/>
                    <a:pt x="776" y="1064"/>
                    <a:pt x="768" y="1072"/>
                  </a:cubicBezTo>
                  <a:cubicBezTo>
                    <a:pt x="760" y="1080"/>
                    <a:pt x="736" y="1072"/>
                    <a:pt x="720" y="1072"/>
                  </a:cubicBezTo>
                  <a:cubicBezTo>
                    <a:pt x="704" y="1072"/>
                    <a:pt x="688" y="1080"/>
                    <a:pt x="672" y="1072"/>
                  </a:cubicBezTo>
                  <a:cubicBezTo>
                    <a:pt x="656" y="1064"/>
                    <a:pt x="640" y="1024"/>
                    <a:pt x="624" y="1024"/>
                  </a:cubicBezTo>
                  <a:cubicBezTo>
                    <a:pt x="608" y="1024"/>
                    <a:pt x="584" y="1056"/>
                    <a:pt x="576" y="1072"/>
                  </a:cubicBezTo>
                  <a:cubicBezTo>
                    <a:pt x="568" y="1088"/>
                    <a:pt x="592" y="1112"/>
                    <a:pt x="576" y="1120"/>
                  </a:cubicBezTo>
                  <a:cubicBezTo>
                    <a:pt x="560" y="1128"/>
                    <a:pt x="528" y="1120"/>
                    <a:pt x="480" y="1120"/>
                  </a:cubicBezTo>
                  <a:cubicBezTo>
                    <a:pt x="432" y="1120"/>
                    <a:pt x="336" y="1120"/>
                    <a:pt x="288" y="1120"/>
                  </a:cubicBezTo>
                  <a:cubicBezTo>
                    <a:pt x="240" y="1120"/>
                    <a:pt x="224" y="1120"/>
                    <a:pt x="192" y="1120"/>
                  </a:cubicBezTo>
                  <a:cubicBezTo>
                    <a:pt x="160" y="1120"/>
                    <a:pt x="112" y="1136"/>
                    <a:pt x="96" y="112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78440" y="2557440"/>
              <a:ext cx="365040" cy="185760"/>
            </a:xfrm>
            <a:custGeom>
              <a:avLst/>
              <a:gdLst/>
              <a:ahLst/>
              <a:rect l="l" t="t" r="r" b="b"/>
              <a:pathLst>
                <a:path w="230" h="117">
                  <a:moveTo>
                    <a:pt x="2" y="39"/>
                  </a:moveTo>
                  <a:cubicBezTo>
                    <a:pt x="13" y="6"/>
                    <a:pt x="7" y="0"/>
                    <a:pt x="44" y="9"/>
                  </a:cubicBezTo>
                  <a:cubicBezTo>
                    <a:pt x="53" y="22"/>
                    <a:pt x="65" y="32"/>
                    <a:pt x="74" y="45"/>
                  </a:cubicBezTo>
                  <a:cubicBezTo>
                    <a:pt x="78" y="50"/>
                    <a:pt x="75" y="59"/>
                    <a:pt x="80" y="63"/>
                  </a:cubicBezTo>
                  <a:cubicBezTo>
                    <a:pt x="90" y="70"/>
                    <a:pt x="104" y="71"/>
                    <a:pt x="116" y="75"/>
                  </a:cubicBezTo>
                  <a:cubicBezTo>
                    <a:pt x="122" y="77"/>
                    <a:pt x="134" y="81"/>
                    <a:pt x="134" y="81"/>
                  </a:cubicBezTo>
                  <a:cubicBezTo>
                    <a:pt x="173" y="71"/>
                    <a:pt x="151" y="66"/>
                    <a:pt x="182" y="45"/>
                  </a:cubicBezTo>
                  <a:cubicBezTo>
                    <a:pt x="195" y="5"/>
                    <a:pt x="215" y="28"/>
                    <a:pt x="230" y="51"/>
                  </a:cubicBezTo>
                  <a:cubicBezTo>
                    <a:pt x="216" y="56"/>
                    <a:pt x="199" y="53"/>
                    <a:pt x="188" y="63"/>
                  </a:cubicBezTo>
                  <a:cubicBezTo>
                    <a:pt x="177" y="72"/>
                    <a:pt x="172" y="87"/>
                    <a:pt x="164" y="99"/>
                  </a:cubicBezTo>
                  <a:cubicBezTo>
                    <a:pt x="160" y="105"/>
                    <a:pt x="152" y="117"/>
                    <a:pt x="152" y="117"/>
                  </a:cubicBezTo>
                  <a:cubicBezTo>
                    <a:pt x="142" y="115"/>
                    <a:pt x="130" y="117"/>
                    <a:pt x="122" y="111"/>
                  </a:cubicBezTo>
                  <a:cubicBezTo>
                    <a:pt x="117" y="107"/>
                    <a:pt x="120" y="98"/>
                    <a:pt x="116" y="93"/>
                  </a:cubicBezTo>
                  <a:cubicBezTo>
                    <a:pt x="111" y="87"/>
                    <a:pt x="105" y="84"/>
                    <a:pt x="98" y="81"/>
                  </a:cubicBezTo>
                  <a:cubicBezTo>
                    <a:pt x="73" y="70"/>
                    <a:pt x="50" y="63"/>
                    <a:pt x="26" y="51"/>
                  </a:cubicBezTo>
                  <a:cubicBezTo>
                    <a:pt x="0" y="38"/>
                    <a:pt x="17" y="39"/>
                    <a:pt x="2" y="39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46760" y="3560760"/>
            <a:ext cx="136440" cy="182520"/>
          </a:xfrm>
          <a:custGeom>
            <a:avLst/>
            <a:gdLst/>
            <a:ahLst/>
            <a:rect l="l" t="t" r="r" b="b"/>
            <a:pathLst>
              <a:path w="86" h="115">
                <a:moveTo>
                  <a:pt x="40" y="49"/>
                </a:moveTo>
                <a:cubicBezTo>
                  <a:pt x="38" y="57"/>
                  <a:pt x="40" y="68"/>
                  <a:pt x="34" y="73"/>
                </a:cubicBezTo>
                <a:cubicBezTo>
                  <a:pt x="26" y="80"/>
                  <a:pt x="10" y="71"/>
                  <a:pt x="4" y="79"/>
                </a:cubicBezTo>
                <a:cubicBezTo>
                  <a:pt x="0" y="85"/>
                  <a:pt x="13" y="91"/>
                  <a:pt x="16" y="97"/>
                </a:cubicBezTo>
                <a:cubicBezTo>
                  <a:pt x="19" y="103"/>
                  <a:pt x="20" y="109"/>
                  <a:pt x="22" y="115"/>
                </a:cubicBezTo>
                <a:cubicBezTo>
                  <a:pt x="41" y="112"/>
                  <a:pt x="79" y="111"/>
                  <a:pt x="82" y="97"/>
                </a:cubicBezTo>
                <a:cubicBezTo>
                  <a:pt x="85" y="81"/>
                  <a:pt x="86" y="62"/>
                  <a:pt x="76" y="49"/>
                </a:cubicBezTo>
                <a:cubicBezTo>
                  <a:pt x="38" y="0"/>
                  <a:pt x="40" y="38"/>
                  <a:pt x="40" y="49"/>
                </a:cubicBezTo>
                <a:close/>
              </a:path>
            </a:pathLst>
          </a:custGeom>
          <a:solidFill>
            <a:srgbClr val="c05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2600" y="3714840"/>
            <a:ext cx="93600" cy="85680"/>
          </a:xfrm>
          <a:custGeom>
            <a:avLst/>
            <a:gdLst/>
            <a:ahLst/>
            <a:rect l="l" t="t" r="r" b="b"/>
            <a:pathLst>
              <a:path w="59" h="54">
                <a:moveTo>
                  <a:pt x="0" y="0"/>
                </a:moveTo>
                <a:cubicBezTo>
                  <a:pt x="4" y="6"/>
                  <a:pt x="6" y="13"/>
                  <a:pt x="12" y="18"/>
                </a:cubicBezTo>
                <a:cubicBezTo>
                  <a:pt x="23" y="27"/>
                  <a:pt x="45" y="19"/>
                  <a:pt x="54" y="30"/>
                </a:cubicBezTo>
                <a:cubicBezTo>
                  <a:pt x="59" y="36"/>
                  <a:pt x="54" y="46"/>
                  <a:pt x="54" y="54"/>
                </a:cubicBezTo>
              </a:path>
            </a:pathLst>
          </a:custGeom>
          <a:solidFill>
            <a:srgbClr val="c05d3e"/>
          </a:solidFill>
          <a:ln w="38160">
            <a:solidFill>
              <a:srgbClr val="c05d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43400" y="2581200"/>
            <a:ext cx="1447920" cy="304920"/>
          </a:xfrm>
          <a:custGeom>
            <a:avLst/>
            <a:gdLst/>
            <a:ahLst/>
            <a:rect l="l" t="t" r="r" b="b"/>
            <a:pathLst>
              <a:path w="840" h="220">
                <a:moveTo>
                  <a:pt x="0" y="191"/>
                </a:moveTo>
                <a:cubicBezTo>
                  <a:pt x="90" y="180"/>
                  <a:pt x="57" y="181"/>
                  <a:pt x="198" y="191"/>
                </a:cubicBezTo>
                <a:cubicBezTo>
                  <a:pt x="211" y="192"/>
                  <a:pt x="227" y="199"/>
                  <a:pt x="240" y="203"/>
                </a:cubicBezTo>
                <a:cubicBezTo>
                  <a:pt x="256" y="207"/>
                  <a:pt x="288" y="215"/>
                  <a:pt x="288" y="215"/>
                </a:cubicBezTo>
                <a:cubicBezTo>
                  <a:pt x="323" y="213"/>
                  <a:pt x="419" y="220"/>
                  <a:pt x="462" y="191"/>
                </a:cubicBezTo>
                <a:cubicBezTo>
                  <a:pt x="487" y="174"/>
                  <a:pt x="509" y="163"/>
                  <a:pt x="534" y="149"/>
                </a:cubicBezTo>
                <a:cubicBezTo>
                  <a:pt x="547" y="142"/>
                  <a:pt x="570" y="125"/>
                  <a:pt x="570" y="125"/>
                </a:cubicBezTo>
                <a:cubicBezTo>
                  <a:pt x="582" y="90"/>
                  <a:pt x="567" y="122"/>
                  <a:pt x="594" y="95"/>
                </a:cubicBezTo>
                <a:cubicBezTo>
                  <a:pt x="655" y="34"/>
                  <a:pt x="685" y="28"/>
                  <a:pt x="774" y="17"/>
                </a:cubicBezTo>
                <a:cubicBezTo>
                  <a:pt x="799" y="0"/>
                  <a:pt x="787" y="2"/>
                  <a:pt x="822" y="11"/>
                </a:cubicBezTo>
                <a:cubicBezTo>
                  <a:pt x="828" y="13"/>
                  <a:pt x="840" y="17"/>
                  <a:pt x="840" y="17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972520" y="1666800"/>
            <a:ext cx="3351960" cy="2286000"/>
            <a:chOff x="2972520" y="1666800"/>
            <a:chExt cx="3351960" cy="2286000"/>
          </a:xfrm>
        </p:grpSpPr>
        <p:grpSp>
          <p:nvGrpSpPr>
            <p:cNvPr id="325" name=""/>
            <p:cNvGrpSpPr/>
            <p:nvPr/>
          </p:nvGrpSpPr>
          <p:grpSpPr>
            <a:xfrm>
              <a:off x="2972520" y="1666800"/>
              <a:ext cx="1522440" cy="837720"/>
              <a:chOff x="2972520" y="1666800"/>
              <a:chExt cx="1522440" cy="837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885840" y="2123640"/>
                <a:ext cx="609120" cy="380880"/>
                <a:chOff x="3885840" y="2123640"/>
                <a:chExt cx="609120" cy="380880"/>
              </a:xfrm>
            </p:grpSpPr>
            <p:sp>
              <p:nvSpPr>
                <p:cNvPr id="327" name=""/>
                <p:cNvSpPr/>
                <p:nvPr/>
              </p:nvSpPr>
              <p:spPr>
                <a:xfrm flipH="1" flipV="1">
                  <a:off x="4273560" y="2462400"/>
                  <a:ext cx="22140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3885840" y="2123640"/>
                  <a:ext cx="387720" cy="338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2972520" y="1666800"/>
                <a:ext cx="1089000" cy="45900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la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Los Nog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809880" y="2352600"/>
              <a:ext cx="2514600" cy="1600200"/>
              <a:chOff x="3809880" y="2352600"/>
              <a:chExt cx="2514600" cy="16002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3809880" y="2352600"/>
                <a:ext cx="2514600" cy="1600200"/>
                <a:chOff x="3809880" y="2352600"/>
                <a:chExt cx="2514600" cy="1600200"/>
              </a:xfrm>
            </p:grpSpPr>
            <p:grpSp>
              <p:nvGrpSpPr>
                <p:cNvPr id="332" name=""/>
                <p:cNvGrpSpPr/>
                <p:nvPr/>
              </p:nvGrpSpPr>
              <p:grpSpPr>
                <a:xfrm>
                  <a:off x="3809880" y="2352600"/>
                  <a:ext cx="2514600" cy="1600200"/>
                  <a:chOff x="3809880" y="2352600"/>
                  <a:chExt cx="2514600" cy="1600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809880" y="2352600"/>
                    <a:ext cx="2514600" cy="1600200"/>
                    <a:chOff x="3809880" y="2352600"/>
                    <a:chExt cx="2514600" cy="160020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809880" y="2352600"/>
                      <a:ext cx="2514600" cy="1600200"/>
                      <a:chOff x="3809880" y="2352600"/>
                      <a:chExt cx="2514600" cy="1600200"/>
                    </a:xfrm>
                  </p:grpSpPr>
                  <p:grpSp>
                    <p:nvGrpSpPr>
                      <p:cNvPr id="335" name=""/>
                      <p:cNvGrpSpPr/>
                      <p:nvPr/>
                    </p:nvGrpSpPr>
                    <p:grpSpPr>
                      <a:xfrm>
                        <a:off x="3809880" y="2352600"/>
                        <a:ext cx="2514600" cy="1600200"/>
                        <a:chOff x="3809880" y="2352600"/>
                        <a:chExt cx="2514600" cy="1600200"/>
                      </a:xfrm>
                    </p:grpSpPr>
                    <p:grpSp>
                      <p:nvGrpSpPr>
                        <p:cNvPr id="336" name=""/>
                        <p:cNvGrpSpPr/>
                        <p:nvPr/>
                      </p:nvGrpSpPr>
                      <p:grpSpPr>
                        <a:xfrm>
                          <a:off x="3809880" y="2352600"/>
                          <a:ext cx="2514600" cy="1600200"/>
                          <a:chOff x="3809880" y="2352600"/>
                          <a:chExt cx="2514600" cy="1600200"/>
                        </a:xfrm>
                      </p:grpSpPr>
                      <p:grpSp>
                        <p:nvGrpSpPr>
                          <p:cNvPr id="337" name=""/>
                          <p:cNvGrpSpPr/>
                          <p:nvPr/>
                        </p:nvGrpSpPr>
                        <p:grpSpPr>
                          <a:xfrm>
                            <a:off x="3809880" y="2352600"/>
                            <a:ext cx="2514600" cy="1600200"/>
                            <a:chOff x="3809880" y="2352600"/>
                            <a:chExt cx="2514600" cy="1600200"/>
                          </a:xfrm>
                        </p:grpSpPr>
                        <p:pic>
                          <p:nvPicPr>
                            <p:cNvPr id="338" name="trebal" descr=""/>
                            <p:cNvPicPr/>
                            <p:nvPr/>
                          </p:nvPicPr>
                          <p:blipFill>
                            <a:blip r:embed="rId5"/>
                            <a:stretch/>
                          </p:blipFill>
                          <p:spPr>
                            <a:xfrm>
                              <a:off x="3809880" y="2352600"/>
                              <a:ext cx="2514600" cy="16002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4495680" y="3007080"/>
                              <a:ext cx="932040" cy="307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_tradnl" sz="1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rPr>
                                <a:t>Santiago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4800600" y="2504880"/>
                            <a:ext cx="74520" cy="15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48">
                                <a:moveTo>
                                  <a:pt x="5" y="12"/>
                                </a:moveTo>
                                <a:cubicBezTo>
                                  <a:pt x="7" y="20"/>
                                  <a:pt x="11" y="36"/>
                                  <a:pt x="11" y="36"/>
                                </a:cubicBezTo>
                                <a:cubicBezTo>
                                  <a:pt x="9" y="26"/>
                                  <a:pt x="0" y="15"/>
                                  <a:pt x="5" y="6"/>
                                </a:cubicBezTo>
                                <a:cubicBezTo>
                                  <a:pt x="8" y="0"/>
                                  <a:pt x="10" y="24"/>
                                  <a:pt x="17" y="24"/>
                                </a:cubicBezTo>
                                <a:cubicBezTo>
                                  <a:pt x="23" y="24"/>
                                  <a:pt x="5" y="6"/>
                                  <a:pt x="11" y="6"/>
                                </a:cubicBezTo>
                                <a:cubicBezTo>
                                  <a:pt x="18" y="6"/>
                                  <a:pt x="16" y="24"/>
                                  <a:pt x="23" y="24"/>
                                </a:cubicBezTo>
                                <a:cubicBezTo>
                                  <a:pt x="29" y="24"/>
                                  <a:pt x="17" y="0"/>
                                  <a:pt x="17" y="6"/>
                                </a:cubicBezTo>
                                <a:cubicBezTo>
                                  <a:pt x="17" y="18"/>
                                  <a:pt x="21" y="30"/>
                                  <a:pt x="23" y="42"/>
                                </a:cubicBezTo>
                                <a:cubicBezTo>
                                  <a:pt x="25" y="36"/>
                                  <a:pt x="30" y="30"/>
                                  <a:pt x="29" y="24"/>
                                </a:cubicBezTo>
                                <a:cubicBezTo>
                                  <a:pt x="28" y="17"/>
                                  <a:pt x="17" y="6"/>
                                  <a:pt x="17" y="6"/>
                                </a:cubicBezTo>
                                <a:cubicBezTo>
                                  <a:pt x="21" y="12"/>
                                  <a:pt x="28" y="17"/>
                                  <a:pt x="29" y="24"/>
                                </a:cubicBezTo>
                                <a:cubicBezTo>
                                  <a:pt x="30" y="30"/>
                                  <a:pt x="29" y="42"/>
                                  <a:pt x="23" y="42"/>
                                </a:cubicBezTo>
                                <a:cubicBezTo>
                                  <a:pt x="17" y="42"/>
                                  <a:pt x="19" y="30"/>
                                  <a:pt x="17" y="24"/>
                                </a:cubicBezTo>
                                <a:cubicBezTo>
                                  <a:pt x="17" y="24"/>
                                  <a:pt x="12" y="48"/>
                                  <a:pt x="11" y="42"/>
                                </a:cubicBezTo>
                                <a:cubicBezTo>
                                  <a:pt x="9" y="32"/>
                                  <a:pt x="7" y="22"/>
                                  <a:pt x="5" y="12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a3a067"/>
                          </a:solidFill>
                          <a:ln w="19080">
                            <a:solidFill>
                              <a:srgbClr val="b7b3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762440" y="2485800"/>
                          <a:ext cx="74520" cy="76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48">
                              <a:moveTo>
                                <a:pt x="0" y="0"/>
                              </a:moveTo>
                              <a:cubicBezTo>
                                <a:pt x="47" y="9"/>
                                <a:pt x="28" y="6"/>
                                <a:pt x="18" y="48"/>
                              </a:cubicBezTo>
                              <a:cubicBezTo>
                                <a:pt x="13" y="32"/>
                                <a:pt x="12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b7b35f"/>
                        </a:solidFill>
                        <a:ln w="9360">
                          <a:solidFill>
                            <a:srgbClr val="b7b3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520" bIns="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933800" y="2552760"/>
                        <a:ext cx="23832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0" h="106">
                            <a:moveTo>
                              <a:pt x="0" y="12"/>
                            </a:moveTo>
                            <a:cubicBezTo>
                              <a:pt x="30" y="2"/>
                              <a:pt x="25" y="19"/>
                              <a:pt x="54" y="0"/>
                            </a:cubicBezTo>
                            <a:cubicBezTo>
                              <a:pt x="60" y="2"/>
                              <a:pt x="68" y="1"/>
                              <a:pt x="72" y="6"/>
                            </a:cubicBezTo>
                            <a:cubicBezTo>
                              <a:pt x="79" y="16"/>
                              <a:pt x="71" y="40"/>
                              <a:pt x="84" y="42"/>
                            </a:cubicBezTo>
                            <a:cubicBezTo>
                              <a:pt x="100" y="44"/>
                              <a:pt x="116" y="46"/>
                              <a:pt x="132" y="48"/>
                            </a:cubicBezTo>
                            <a:cubicBezTo>
                              <a:pt x="126" y="52"/>
                              <a:pt x="111" y="54"/>
                              <a:pt x="114" y="60"/>
                            </a:cubicBezTo>
                            <a:cubicBezTo>
                              <a:pt x="120" y="73"/>
                              <a:pt x="150" y="84"/>
                              <a:pt x="150" y="84"/>
                            </a:cubicBezTo>
                            <a:cubicBezTo>
                              <a:pt x="148" y="90"/>
                              <a:pt x="150" y="99"/>
                              <a:pt x="144" y="102"/>
                            </a:cubicBezTo>
                            <a:cubicBezTo>
                              <a:pt x="136" y="106"/>
                              <a:pt x="112" y="86"/>
                              <a:pt x="108" y="84"/>
                            </a:cubicBezTo>
                            <a:cubicBezTo>
                              <a:pt x="78" y="71"/>
                              <a:pt x="48" y="70"/>
                              <a:pt x="18" y="60"/>
                            </a:cubicBezTo>
                            <a:cubicBezTo>
                              <a:pt x="5" y="20"/>
                              <a:pt x="12" y="35"/>
                              <a:pt x="0" y="12"/>
                            </a:cubicBezTo>
                            <a:close/>
                          </a:path>
                        </a:pathLst>
                      </a:custGeom>
                      <a:solidFill>
                        <a:srgbClr val="b7b35f"/>
                      </a:solidFill>
                      <a:ln w="9360">
                        <a:solidFill>
                          <a:srgbClr val="b7b35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257800" y="2562120"/>
                      <a:ext cx="572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2">
                          <a:moveTo>
                            <a:pt x="0" y="42"/>
                          </a:moveTo>
                          <a:cubicBezTo>
                            <a:pt x="14" y="21"/>
                            <a:pt x="24" y="0"/>
                            <a:pt x="36" y="36"/>
                          </a:cubicBezTo>
                          <a:cubicBezTo>
                            <a:pt x="13" y="52"/>
                            <a:pt x="25" y="50"/>
                            <a:pt x="0" y="42"/>
                          </a:cubicBezTo>
                          <a:close/>
                        </a:path>
                      </a:pathLst>
                    </a:custGeom>
                    <a:solidFill>
                      <a:srgbClr val="b7b35f"/>
                    </a:solidFill>
                    <a:ln w="9360">
                      <a:solidFill>
                        <a:srgbClr val="b7b35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5307120" y="2438280"/>
                    <a:ext cx="1108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8">
                        <a:moveTo>
                          <a:pt x="29" y="48"/>
                        </a:moveTo>
                        <a:cubicBezTo>
                          <a:pt x="4" y="32"/>
                          <a:pt x="0" y="25"/>
                          <a:pt x="17" y="0"/>
                        </a:cubicBezTo>
                        <a:cubicBezTo>
                          <a:pt x="31" y="9"/>
                          <a:pt x="70" y="48"/>
                          <a:pt x="29" y="48"/>
                        </a:cubicBezTo>
                        <a:close/>
                      </a:path>
                    </a:pathLst>
                  </a:custGeom>
                  <a:solidFill>
                    <a:srgbClr val="b7b35f"/>
                  </a:solidFill>
                  <a:ln w="9360">
                    <a:solidFill>
                      <a:srgbClr val="b7b3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5610240" y="2641680"/>
                  <a:ext cx="82440" cy="145800"/>
                </a:xfrm>
                <a:custGeom>
                  <a:avLst/>
                  <a:gdLst/>
                  <a:ahLst/>
                  <a:rect l="l" t="t" r="r" b="b"/>
                  <a:pathLst>
                    <a:path w="52" h="92">
                      <a:moveTo>
                        <a:pt x="18" y="82"/>
                      </a:moveTo>
                      <a:cubicBezTo>
                        <a:pt x="25" y="60"/>
                        <a:pt x="36" y="44"/>
                        <a:pt x="42" y="22"/>
                      </a:cubicBezTo>
                      <a:cubicBezTo>
                        <a:pt x="44" y="16"/>
                        <a:pt x="52" y="8"/>
                        <a:pt x="48" y="4"/>
                      </a:cubicBezTo>
                      <a:cubicBezTo>
                        <a:pt x="44" y="0"/>
                        <a:pt x="36" y="8"/>
                        <a:pt x="30" y="10"/>
                      </a:cubicBezTo>
                      <a:cubicBezTo>
                        <a:pt x="21" y="46"/>
                        <a:pt x="27" y="26"/>
                        <a:pt x="12" y="70"/>
                      </a:cubicBezTo>
                      <a:cubicBezTo>
                        <a:pt x="5" y="92"/>
                        <a:pt x="0" y="91"/>
                        <a:pt x="18" y="82"/>
                      </a:cubicBezTo>
                      <a:close/>
                    </a:path>
                  </a:pathLst>
                </a:custGeom>
                <a:solidFill>
                  <a:srgbClr val="b7b35f"/>
                </a:solidFill>
                <a:ln w="9360">
                  <a:solidFill>
                    <a:srgbClr val="b7b3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730840" y="250488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8" y="34"/>
                    </a:moveTo>
                    <a:cubicBezTo>
                      <a:pt x="9" y="34"/>
                      <a:pt x="44" y="16"/>
                      <a:pt x="32" y="4"/>
                    </a:cubicBezTo>
                    <a:cubicBezTo>
                      <a:pt x="28" y="0"/>
                      <a:pt x="20" y="8"/>
                      <a:pt x="14" y="10"/>
                    </a:cubicBezTo>
                    <a:cubicBezTo>
                      <a:pt x="10" y="16"/>
                      <a:pt x="0" y="21"/>
                      <a:pt x="2" y="28"/>
                    </a:cubicBezTo>
                    <a:cubicBezTo>
                      <a:pt x="4" y="35"/>
                      <a:pt x="39" y="34"/>
                      <a:pt x="8" y="34"/>
                    </a:cubicBezTo>
                    <a:close/>
                  </a:path>
                </a:pathLst>
              </a:custGeom>
              <a:solidFill>
                <a:srgbClr val="b7b35f"/>
              </a:solidFill>
              <a:ln w="9360">
                <a:solidFill>
                  <a:srgbClr val="b7b3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457200" y="0"/>
            <a:ext cx="7873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PLAN DE SANEAMIENTO DE LAS AGUAS SERVIDAS DE L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3333cc"/>
                </a:solidFill>
                <a:latin typeface="Arial"/>
              </a:rPr>
              <a:t>REGIÓN METROPOLITANA: CUENCA MAPOCH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SPECTOS D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strucción de sistemas de saneamiento (plantas de tratamiento) en período 2000 a 2010. Cumplimiento de D90/2000. $$$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anales de regadío tienen graves problemas de calidad de sus agua debido al vertimiento de basura en sus cursos. Derrames de riego se concentran en estos cauces y se descargan sobre el estero Lampa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ctividad agropecuaria (porcinos) contribuye con descargas no controladas. 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DAD DEL AGUA EN EL MAPOCH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Desarrollo de un modelo de simulación de la calidad del agua para el río Mapo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odelar específicamente el tramo del río Mapocho entre Mapocho en Los Almendros y Mapocho en Desembocad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Uso de este modelo para analizar impacto de las plantas de tratamiento de agua servidas (construidas y proyectadas) sobre la calidad del agua en el rí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oncentrarse en compuestos como: Oxígeno Disuelto (OD), Demanda Bioquímica de Oxígeno (DBO) y Coliformes (NM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ACTIVIDADES 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alida a Terr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ocer sistema mode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sitios para futuros muestreos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dentificar cambios en régimen de escu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Software QUAL2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problema simplificado para conocimiento del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de DBO, OD, y Colif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Desarrollo de Modelo de Simulación 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Síntesis de información básica para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históricos (caudales y calid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Topología río Mapocho (afluentes y extrac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Parámetros de interés (velocidad, altura, constantes ciné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onstrucción de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de modelo QUAL2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Calibración Modelo de Si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Luis Oyarzún (19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estudio AC-DGA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“Actual”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memoria Reinaldo Fuentealba (198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Uso de Modelo en Situación Predictiva (20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Informe Ayala, Cabrera y Asociados 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atos Aguas Andina: Plan de Saneamiento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Norma de Descarga (D90/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structivo Presidencial sobre Calidad del Agua en Cursos Superficiales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formación SI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MODELO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</a:rPr>
              <a:t>Redacción de Informe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Desarrollo de Modelo de Si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alibración/Valid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Uso predictivo: situación actual (2003) y futura (20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nálisis e interpretación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</a:rPr>
              <a:t>DENTRO DE SEMESTRE PRIMAVERA 2004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37560" y="2925720"/>
            <a:ext cx="25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0000"/>
                </a:solidFill>
                <a:latin typeface="Comic Sans MS"/>
              </a:rPr>
              <a:t>QUAL2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2" name="mono01" descr=""/>
          <p:cNvPicPr/>
          <p:nvPr/>
        </p:nvPicPr>
        <p:blipFill>
          <a:blip r:embed="rId2"/>
          <a:stretch/>
        </p:blipFill>
        <p:spPr>
          <a:xfrm>
            <a:off x="2209680" y="533520"/>
            <a:ext cx="494028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86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1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920" y="228600"/>
            <a:ext cx="30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Comic Sans MS"/>
              </a:rPr>
              <a:t>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800000">
            <a:off x="2384280" y="2170080"/>
            <a:ext cx="4840560" cy="1828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2438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24480" y="228600"/>
            <a:ext cx="1371600" cy="990720"/>
          </a:xfrm>
          <a:prstGeom prst="wedgeRoundRectCallout">
            <a:avLst>
              <a:gd name="adj1" fmla="val -57523"/>
              <a:gd name="adj2" fmla="val 17531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mend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09680"/>
            <a:ext cx="1523880" cy="990720"/>
          </a:xfrm>
          <a:prstGeom prst="wedgeRoundRectCallout">
            <a:avLst>
              <a:gd name="adj1" fmla="val 157708"/>
              <a:gd name="adj2" fmla="val 145995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poc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embocad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395" name="ForAndy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63244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2" name="mono01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4716720" cy="6464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218960" y="7621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Río Mapocho,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l Mapocho, el río que atraviesa Santiago ha sido mal tratado y utilizado como basurero y alcantarilla a tajo abierto por decenas de generaciones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os residuos líquidos domiciliarios (RLD) son una problemática más que afecta a nuestra región. Por la capital pasan el río Mapocho y dos canales mayores, Zanjón de la Aguada y Canal San Carlos, y en todos ellos las normas de calidad de las aguas son super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Región Metropolitana es conocida por sus severos problemas de contaminación hídrica, los cuales son responsables parcialmente de las altas tasas de incidencia en enfermedades gastrointesti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_POBLADOS" descr=""/>
          <p:cNvPicPr/>
          <p:nvPr/>
        </p:nvPicPr>
        <p:blipFill>
          <a:blip r:embed="rId1"/>
          <a:srcRect l="8109" t="0" r="6307" b="0"/>
          <a:stretch/>
        </p:blipFill>
        <p:spPr>
          <a:xfrm>
            <a:off x="1371600" y="876240"/>
            <a:ext cx="7238880" cy="598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4120" y="1676520"/>
            <a:ext cx="2209680" cy="380880"/>
          </a:xfrm>
          <a:prstGeom prst="wedgeRectCallout">
            <a:avLst>
              <a:gd name="adj1" fmla="val -30532"/>
              <a:gd name="adj2" fmla="val 267500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p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5257800"/>
            <a:ext cx="1524240" cy="380880"/>
          </a:xfrm>
          <a:prstGeom prst="wedgeRectCallout">
            <a:avLst>
              <a:gd name="adj1" fmla="val -125939"/>
              <a:gd name="adj2" fmla="val -204166"/>
            </a:avLst>
          </a:prstGeom>
          <a:solidFill>
            <a:srgbClr val="66ffff">
              <a:alpha val="50000"/>
            </a:srgbClr>
          </a:solidFill>
          <a:ln w="9360">
            <a:solidFill>
              <a:srgbClr val="2b2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ío Ma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40880" y="4636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b2bad"/>
                </a:solidFill>
                <a:latin typeface="Comic Sans MS"/>
              </a:rPr>
              <a:t>CUENCA MAIPO -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9072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MAIP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523880"/>
            <a:ext cx="6477120" cy="42912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Un Recurso Limi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133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rigen Nivo Pluvial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lluvia 700 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36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0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m añ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9718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5920" y="30481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4197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Una Actividad Antrópica Muy Fuerte   (6 millones de habita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867280"/>
            <a:ext cx="739116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ción De Flujos Importantes de Aguas Serv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75248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648320"/>
            <a:ext cx="380880" cy="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81280"/>
            <a:ext cx="6553080" cy="398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f0e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rsos de Agua de Bajo Cau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105520"/>
            <a:ext cx="7620120" cy="398880"/>
          </a:xfrm>
          <a:prstGeom prst="rect">
            <a:avLst/>
          </a:prstGeom>
          <a:solidFill>
            <a:srgbClr val="3db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EuroRoman" charset="2"/>
              <a:buChar char="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lta Demanda En Agua   (Doméstica, Agrícola e Industr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90" name="rioMapocho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5812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09fc8870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3086280" cy="2082600"/>
          </a:xfrm>
          <a:prstGeom prst="rect">
            <a:avLst/>
          </a:prstGeom>
          <a:ln w="0">
            <a:noFill/>
          </a:ln>
        </p:spPr>
      </p:pic>
      <p:pic>
        <p:nvPicPr>
          <p:cNvPr id="92" name="0a8f4a40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4762440" cy="156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42480" y="632448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RIO MAPO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AGUA EN LA CUENCA RIO MAPO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81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agua superficiales baj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–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manda A.P. Alto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+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descarga A.S.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lbertus Extra Bold"/>
                <a:ea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971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eterioro de los Recursos en Aguas Superficiales y Subterrá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lbertus Extra Bold"/>
              </a:rPr>
              <a:t>Factor limitante al desarrollo de la Región Metropol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3:58:53Z</dcterms:created>
  <dc:creator>Carlos Espinoza</dc:creator>
  <dc:description/>
  <dc:language>en-US</dc:language>
  <cp:lastModifiedBy>Carlos Espinoza</cp:lastModifiedBy>
  <cp:lastPrinted>2004-08-12T22:25:51Z</cp:lastPrinted>
  <dcterms:modified xsi:type="dcterms:W3CDTF">2004-08-12T23:24:54Z</dcterms:modified>
  <cp:revision>12</cp:revision>
  <dc:subject/>
  <dc:title>Sin título de diapositiva</dc:title>
</cp:coreProperties>
</file>