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510-3755-4D17-BFD9-E51E5C8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31E-3C56-4C75-8B8A-C839282A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1AC-4E34-48FE-A035-21D8C00B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988-C4AE-4645-A140-17B3AB55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2A2-CC6C-4CA7-BB09-CDF2E45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3CF-2DFE-483B-BBBE-4EBF0F39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C65-F00F-434C-9D0E-DE24E06D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FDC-91C7-40A1-A8D5-6217A04E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31C-3A2D-4F3C-B821-A6B5023E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1AA-1478-4592-8D81-6526A65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F70-C82E-45CE-8C99-BDD8D7A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73E-2F3A-4BB4-A06B-F4C78C7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519A-EF78-442E-8F89-B87FE17EC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3733920"/>
                <a:ext cx="26668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3 min parada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7T00:22:20Z</dcterms:modified>
  <cp:revision>67</cp:revision>
  <dc:subject/>
  <dc:title>Sin título de diapositiva</dc:title>
</cp:coreProperties>
</file>