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D0B-676F-4CC7-8BC7-C95DC11E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300-7ADE-4962-8A24-3A6CB3BB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CA2-AC4A-4920-9CC8-DA39E752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C12-F92B-45DB-AB42-D61342FE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FE1-740A-411B-AA20-DDD75C31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629-AB8C-4046-9786-45460EBF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7C1-444D-499E-B108-E9771D78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5C4-C093-46A4-A4C0-4D933AC2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F38-EE2B-4716-A939-C98EBC81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673-B867-44F8-9AEA-24C5FEC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66A-F66B-4300-BF2B-7A1707CA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CE4-80AB-4EBC-8D24-7EE2CEA9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8F39-336F-4808-839A-C7455CDDE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7200" y="3733920"/>
                <a:ext cx="26668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3 min parada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17T00:22:20Z</dcterms:modified>
  <cp:revision>67</cp:revision>
  <dc:subject/>
  <dc:title>Sin título de diapositiva</dc:title>
</cp:coreProperties>
</file>