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5ED1-E3F6-4ED4-A018-1ED414895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4FDB-EE2E-403F-9D4C-91C0FF5A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8EBE-7F91-4E2F-A5BA-B908C5922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70FF-B079-407B-9A9E-B0563C2A8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6750-4025-47E5-A9EB-83A2F028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C75E-7EEA-4C43-B1B3-B34DAE44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C1E0-8A3C-4A9C-962F-5C9BC36A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E19F-860D-46EF-95E9-D5BD8AE8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DE38-07AA-49F1-84A5-9266F0B2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D560-819C-44EF-9150-9DDFE362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1EF2-EE85-4C69-BECF-3BEC36C1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49E4-E42A-47BB-B44E-E597ECA0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0D26-0033-4EF7-905B-26888A86A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533600"/>
            <a:ext cx="8001000" cy="50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viaje en el vehículo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amaño de embarque en el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rendimiento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de sitios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: frecuencia (ú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d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isten n puntos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n los que hay demanda de ingreso y/o salida d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645920"/>
            <a:ext cx="8001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uesto: producto ún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demandas de ingreso y egreso en el terminal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743200" y="2743200"/>
                <a:ext cx="2565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609480" y="3825360"/>
            <a:ext cx="8001000" cy="24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gt;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lt;=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procesos de carga/descarga pueden ser simultáneos o secuenciales, según sean las características del vehículo/term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139480" y="3798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414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ga/descarga secu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5181480" y="1143000"/>
                <a:ext cx="25653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304920" y="274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cuación de continuidad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343400" y="2743200"/>
                <a:ext cx="32115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380880" y="4167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ga/descarga simultá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649760" y="3860640"/>
                <a:ext cx="347652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77720" y="5160960"/>
                <a:ext cx="389268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26864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intensidad de flujo desde i hacia j (matriz origen-desti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133720" y="1752480"/>
                <a:ext cx="20415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029200" y="1752480"/>
                <a:ext cx="207792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5181480" y="4308480"/>
            <a:ext cx="34290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¿f?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áx 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 &lt;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838080" y="5181480"/>
                <a:ext cx="15242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228600" y="312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cuación de recurr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685800" y="3581280"/>
                <a:ext cx="33624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57200" y="3733920"/>
                <a:ext cx="266688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304920" y="1162440"/>
            <a:ext cx="8001000" cy="22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Si tenemos un conjunto de valor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cumple con la ecuación de recurrencia, entonc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‘=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C también cu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ustituimos f por f’=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 ==&gt; las ecuaciones serán satisfechas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962520" y="3124080"/>
                <a:ext cx="441936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886200" y="4495680"/>
                <a:ext cx="44197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861480" y="609480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--&gt; método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139480" y="4561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étodo de cálculo de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082880"/>
            <a:ext cx="18288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57440" y="5284080"/>
            <a:ext cx="261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--&gt; demo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1134000"/>
            <a:ext cx="541008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f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 tal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     i=1, ... 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53080" y="1057680"/>
            <a:ext cx="2590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o es como usar una frecuencia unitaria, puede no satisfacer restricciones de carga 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3368880"/>
            <a:ext cx="54100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ín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áx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369648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recuencia:   f=(Q-q)/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amaño de embarque: ki=(qi-q)/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88880" y="456120"/>
            <a:ext cx="13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880920"/>
            <a:ext cx="8305560" cy="54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rvicio de buses expreso tipo metro desde Paradero 14 Vicuña Mackenna hasta plaza Puente Al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manda {pax/min}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-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-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uben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Baja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ube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Baj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Metr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25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ojas Magallan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9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65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abriel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4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45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Hospital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95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uente Alt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58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8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K= 85 pax. sentados + 65 pax. de pie. Tiempo de viaje entre tramos: 8min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+: 900 pax/mi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: 1200 pax/mi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1. 3 min parada en terminales (Metro, P. Alto) para arque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alcular frecuencia para operar a un 85% de la capacidad en el tramo más cargado. Calcular el tamaño de la flo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</cp:lastModifiedBy>
  <dcterms:modified xsi:type="dcterms:W3CDTF">2004-11-17T00:22:20Z</dcterms:modified>
  <cp:revision>67</cp:revision>
  <dc:subject/>
  <dc:title>Sin título de diapositiva</dc:title>
</cp:coreProperties>
</file>