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914-912B-4E3F-8708-5B2C765D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771-99EF-4A7E-B843-2E6F5E70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379-AAAC-4455-A4C8-BBD8C120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9E0-0E04-44F6-97AE-A4D816A0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842-6CBC-4991-B031-C4C0675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AC5-010C-4A66-92A0-FCD76C8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60A-03BA-4368-B39D-3C7CAE55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F0C-6768-46F4-B99C-9F161A6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BCF-D370-48DE-BB27-1FDF0EF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25A-58AC-4E32-9DB1-26F01DA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59E-08E8-4523-BDD0-8F089E9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FB4-95D7-4794-B9F5-CECB4A3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19D-9B7A-4C6F-96A5-348265DAA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3733920"/>
                <a:ext cx="26668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3 min parada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7T00:22:20Z</dcterms:modified>
  <cp:revision>67</cp:revision>
  <dc:subject/>
  <dc:title>Sin título de diapositiva</dc:title>
</cp:coreProperties>
</file>