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4E7-13C7-4FA7-8C44-541C9382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92B-1ACF-4287-96B1-5CB19D5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1AA-1A34-4679-A208-45AE8458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124-78DF-4081-96DC-F90E6CC2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CAF-30B3-490E-9A49-8063707B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660-CDAC-4EAE-B588-B9A926E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BA2-9170-46BF-9034-8F8F63C1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C21-9B81-4306-B342-FFDBEF2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069-5645-4673-8E22-32AE497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6F5-7C22-488A-A86F-DB93E99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E6B-A0C4-4CC6-BD6E-AC7C3A7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038-B5E6-42B6-BD7B-015535A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BD9-5BF4-4FC9-BEBC-EC7F8051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00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1T04:03:02Z</dcterms:modified>
  <cp:revision>54</cp:revision>
  <dc:subject/>
  <dc:title>Sin título de diapositiva</dc:title>
</cp:coreProperties>
</file>