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7368-7FC3-4FB7-80EB-18774C75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B52C-76E8-4251-ABDB-BCF9EC3A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626-229D-4883-9098-B846F8F0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C9EE-8C1A-490B-94EA-22DA3FC4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8B0A-CC5B-49BE-903B-17ACB3FD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9E13-EBD4-4B8A-A27F-7CFBF432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43CB-6ECF-4083-8FFE-84EA4651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CD55-8278-4BF3-9EBF-136858A2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0DD2-6C03-455B-B731-EBB9112A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C973-2170-4C86-ABDA-2EBF88B6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5903-BB9B-462B-9A22-3EEC1C86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E8C7-62C2-48C1-BAF2-2960576F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F52C-3FEC-43C7-9950-FACD4194F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4120" y="53244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100160"/>
            <a:ext cx="8001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ones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962520" y="914400"/>
                <a:ext cx="33526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334120" y="2133720"/>
                <a:ext cx="26524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268920" y="30474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iempo de es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09480" y="358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6386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09480" y="4038120"/>
            <a:ext cx="2286000" cy="1600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8440" y="396144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s a tas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752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5637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960" y="609516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 de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5637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819520" y="4114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609120" y="4869000"/>
            <a:ext cx="114300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644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0912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5960" y="3961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142640" y="4876920"/>
            <a:ext cx="609480" cy="761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16160" y="509652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209680" y="4114800"/>
            <a:ext cx="609840" cy="7621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83200" y="43344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48769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5840" y="524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08360" y="4715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14080" y="47077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·k·1/f - 1/2·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539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840" y="538560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59480" y="6058440"/>
            <a:ext cx="45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31480" y="60714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05800" y="607932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/k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5943600"/>
            <a:ext cx="24382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4340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1664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 el retorno se utiliza para el transporte de un segundo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La frecuencia de servicio debe ser suficiente para absorb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cuencia neces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260960" y="3073320"/>
                <a:ext cx="131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958000" y="3073320"/>
                <a:ext cx="13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533520" y="43909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rmas de op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lena utilización de la capacidad de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9480" y="1512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235160" y="3208320"/>
                <a:ext cx="17190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80880" y="1593720"/>
                <a:ext cx="79549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85920" y="68508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505400" y="3271680"/>
                <a:ext cx="1411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448920" y="464760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 con frecuencia única (flota ú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327480" y="5232240"/>
                <a:ext cx="1617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522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en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143000" y="1981080"/>
                <a:ext cx="13096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743200" y="1371600"/>
                <a:ext cx="144468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4831920" y="1975680"/>
            <a:ext cx="361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n general distintas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bdividir la f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3269160"/>
            <a:ext cx="8686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1: vehículos que transportan producto 1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12: vehículos que transportan producto 1 a la idea y producto 2 en el 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2: vehículos que transportan producto 2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3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s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809880" y="914400"/>
                <a:ext cx="461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762120" y="4563000"/>
            <a:ext cx="8686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 &gt;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+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-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+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447920" y="2133720"/>
                <a:ext cx="6941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505320" y="3505320"/>
                <a:ext cx="485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95976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antidad de vehículos en cada flota depende de la magnitud relativa en las frecuencias.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&gt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4410000"/>
            <a:ext cx="8686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y vice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ar B con ambos tip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590920" y="2063880"/>
                <a:ext cx="2965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666880" y="3130560"/>
                <a:ext cx="2152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4-11-11T04:03:02Z</dcterms:modified>
  <cp:revision>54</cp:revision>
  <dc:subject/>
  <dc:title>Sin título de diapositiva</dc:title>
</cp:coreProperties>
</file>