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5555-0EF9-4B4F-AED1-125358071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E628-88E4-4BBE-8702-E1F7528B0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0644-6210-4E8D-AC3C-64F7AE43E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3F86-F1BC-4E16-A1EC-D81291EFC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6B64-EA9D-477B-B301-070FE78E0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30E4-F072-4018-B563-1CA06083E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D777-3239-4F1B-ABEB-372834E33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0CB7-CDF0-418B-8BA1-293BB40FB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BD4A-CB9A-40C9-933E-6ACD26748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B8CE-A0C0-40E0-90D8-2039D25F3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2661-F7C5-48D4-81A5-7413BA593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DBB6-5F5F-4261-96E7-462A94871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9455A-18C9-4C5F-8754-F6FD8009A5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4120" y="532440"/>
            <a:ext cx="649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Diseño de Oferta de Servicios de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04920" y="1100160"/>
            <a:ext cx="8001000" cy="22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l sistema cíclico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stalaciones de carga y des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2280" y="304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: Clase 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3962520" y="914400"/>
                <a:ext cx="3352680" cy="12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η</m:t>
                        </m:r>
                        <m:r>
                          <m:rPr>
                            <m:lit/>
                            <m:nor/>
                          </m:rPr>
                          <m:t xml:space="preserve">Bk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5334120" y="2133720"/>
                <a:ext cx="2652480" cy="90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≥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f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)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t xml:space="preserve">f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6" name=""/>
          <p:cNvSpPr/>
          <p:nvPr/>
        </p:nvSpPr>
        <p:spPr>
          <a:xfrm>
            <a:off x="268920" y="3047400"/>
            <a:ext cx="317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iempo de esp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609480" y="358092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563868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609480" y="4038120"/>
            <a:ext cx="2286000" cy="16002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818440" y="3961440"/>
            <a:ext cx="193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legadas a tasa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752480" y="48769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47920" y="563796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/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3960" y="6095160"/>
            <a:ext cx="226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legada de vehícul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563796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/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2819520" y="411444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609120" y="4869000"/>
            <a:ext cx="1143000" cy="7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6440" y="46314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09120" y="411480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65960" y="39614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1142640" y="4876920"/>
            <a:ext cx="609480" cy="76176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316160" y="5096520"/>
            <a:ext cx="41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2209680" y="4114800"/>
            <a:ext cx="609840" cy="76212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83200" y="4334400"/>
            <a:ext cx="41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676520" y="4876920"/>
            <a:ext cx="533160" cy="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15840" y="52408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708360" y="471564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114080" y="4707720"/>
            <a:ext cx="235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/2·k·1/f - 1/2·k/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·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35360" y="539352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191840" y="5385600"/>
            <a:ext cx="166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(1/2f - k/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759480" y="6058440"/>
            <a:ext cx="459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731480" y="6071400"/>
            <a:ext cx="136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/2f - k/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105800" y="6079320"/>
            <a:ext cx="77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/k 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657600" y="5943600"/>
            <a:ext cx="2438280" cy="6858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643400" y="379800"/>
            <a:ext cx="534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Sistema cíclico con carga de reto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166400"/>
            <a:ext cx="845820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Supuesto: el retorno se utiliza para el transporte de un segundo produc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-&gt; La frecuencia de servicio debe ser suficiente para absorbe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recuencia necesari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4260960" y="3073320"/>
                <a:ext cx="131112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5958000" y="3073320"/>
                <a:ext cx="134928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>
            <a:off x="533520" y="4390920"/>
            <a:ext cx="84582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ormas de oper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-&gt; Plena utilización de la capacidad de carg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-&gt; Igualación de las frecuencias de ida y retor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959480" y="151200"/>
            <a:ext cx="534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Sistema cíclico con carga de reto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1235160" y="3208320"/>
                <a:ext cx="1719000" cy="121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380880" y="1593720"/>
                <a:ext cx="7954920" cy="122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1</m:t>
                                    </m:r>
                                  </m:e>
                                  <m:sup>
                                    <m:r>
                                      <m:t xml:space="preserve">+</m:t>
                                    </m:r>
                                  </m:sup>
                                </m:sSup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1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</m:sup>
                                </m:sSup>
                              </m:sub>
                            </m:sSub>
                          </m:den>
                        </m:f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2</m:t>
                                    </m:r>
                                  </m:e>
                                  <m:sup>
                                    <m:r>
                                      <m:t xml:space="preserve">+</m:t>
                                    </m:r>
                                  </m:sup>
                                </m:sSup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2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</m:sup>
                                </m:sSup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385920" y="685080"/>
            <a:ext cx="774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gualación de las frecuencias de ida y retor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4505400" y="3271680"/>
                <a:ext cx="1411200" cy="114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4" name=""/>
          <p:cNvSpPr/>
          <p:nvPr/>
        </p:nvSpPr>
        <p:spPr>
          <a:xfrm>
            <a:off x="448920" y="4647600"/>
            <a:ext cx="749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Operación con frecuencia única (flota únic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327480" y="5232240"/>
                <a:ext cx="1617480" cy="110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η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910160" y="379800"/>
            <a:ext cx="534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Sistema cíclico con carga de reto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152280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ena carg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1143000" y="1981080"/>
                <a:ext cx="1309680" cy="121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2743200" y="1371600"/>
                <a:ext cx="1444680" cy="228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  <m:e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0" name=""/>
          <p:cNvSpPr/>
          <p:nvPr/>
        </p:nvSpPr>
        <p:spPr>
          <a:xfrm>
            <a:off x="4831920" y="1975680"/>
            <a:ext cx="3612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n general distintas =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ubdividir la fl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04920" y="3269160"/>
            <a:ext cx="868680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B1: vehículos que transportan producto 1 con retorno vací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B12: vehículos que transportan producto 1 a la idea y producto 2 en el  reto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B2: vehículos que transportan producto 2 con retorno vací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910160" y="379800"/>
            <a:ext cx="534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Sistema cíclico con carga de reto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913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iempos de cic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3809880" y="914400"/>
                <a:ext cx="461664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5" name=""/>
          <p:cNvSpPr/>
          <p:nvPr/>
        </p:nvSpPr>
        <p:spPr>
          <a:xfrm>
            <a:off x="762120" y="4563000"/>
            <a:ext cx="8686800" cy="17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t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(K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) &gt;= t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(0) =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tc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12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&gt;tc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      tc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12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&gt;tc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tc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 + tc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 - tc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12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 = t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2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(0) + t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1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(0) &gt;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1447920" y="2133720"/>
                <a:ext cx="694188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3505320" y="3505320"/>
                <a:ext cx="485136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910160" y="379800"/>
            <a:ext cx="534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Sistema cíclico con carga de reto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8600" y="959760"/>
            <a:ext cx="861048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 cantidad de vehículos en cada flota depende de la magnitud relativa en las frecuencias. 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 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’ &gt; 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’ =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4410000"/>
            <a:ext cx="86868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(y vicever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terminar B con ambos tipos de ope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2590920" y="2063880"/>
                <a:ext cx="2965320" cy="117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η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666880" y="3130560"/>
                <a:ext cx="2152800" cy="18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Sup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η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3T02:00:03Z</dcterms:created>
  <dc:creator>Marcela Munizaga</dc:creator>
  <dc:description/>
  <dc:language>en-US</dc:language>
  <cp:lastModifiedBy>Marcela Munizaga</cp:lastModifiedBy>
  <dcterms:modified xsi:type="dcterms:W3CDTF">2004-11-11T04:03:02Z</dcterms:modified>
  <cp:revision>54</cp:revision>
  <dc:subject/>
  <dc:title>Sin título de diapositiva</dc:title>
</cp:coreProperties>
</file>