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E07-C068-49D6-A161-0CA65A5C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DC0-F49A-453D-8DE8-E2D1CEE8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A89-FB92-4E4D-8A6D-AA9AE786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ACC-B0A9-425B-9064-B0B074A0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29A-3D85-442F-8B35-06EE0A57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76D-5C63-4F26-B789-EE21D789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F51-354D-47C1-BB9B-339CC089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321-E463-48D9-8DC7-2A608374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02A-7011-4A97-97AC-9DBD7D1A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911-FA77-40C7-842C-A6CEFE4D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41E-4778-4175-94C7-74C735FE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A4A-26ED-40CC-BCD1-154B8887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1170-713E-4CA4-9C51-52A2985E3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9T02:40:59Z</dcterms:modified>
  <cp:revision>42</cp:revision>
  <dc:subject/>
  <dc:title>Sin título de diapositiva</dc:title>
</cp:coreProperties>
</file>