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81E5F-5695-4D63-81CF-2DA5FDC1B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E56FA-50A1-4674-8952-097203721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CD496-F070-458F-9082-4B62B3652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ECE3F-490B-4635-A86D-FBA15E8A1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41E59-E0B0-4A92-82FF-74491186D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D5FB3-9363-4567-9FC0-C5C6DDAEE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4DEC7-223D-4480-9821-6732EE104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1AE72-A056-4BAD-B2F1-E5BC90CC6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3CE86-3189-4312-B9CD-5C5D1E094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6CE3D-152A-477D-B3CE-F11894986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25362-4029-4EE3-B345-E647B9D96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E510D-AE31-4D91-8B20-0F084F3D9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18502-19A7-409B-BD3C-547B2B79AF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08520" y="913320"/>
            <a:ext cx="649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Diseño de Oferta de Servicios de Transpor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1443600"/>
            <a:ext cx="8001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El sistema cíclico si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52280" y="30492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CI43A Análisis de Sistemas de Transporte: Clase 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" name=""/>
              <p:cNvSpPr txBox="1"/>
              <p:nvPr/>
            </p:nvSpPr>
            <p:spPr>
              <a:xfrm>
                <a:off x="1981080" y="2057400"/>
                <a:ext cx="4300560" cy="155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λ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η</m:t>
                        </m:r>
                        <m:r>
                          <m:rPr>
                            <m:lit/>
                            <m:nor/>
                          </m:rPr>
                          <m:t xml:space="preserve">Bk</m:t>
                        </m:r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k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k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</m:sup>
                            </m:sSup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5" name=""/>
          <p:cNvSpPr/>
          <p:nvPr/>
        </p:nvSpPr>
        <p:spPr>
          <a:xfrm>
            <a:off x="304920" y="3826800"/>
            <a:ext cx="85341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Función de Transpor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ustitución entre número de vehículos y capacidad de carg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apacidad media de carga/descar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" name=""/>
              <p:cNvSpPr txBox="1"/>
              <p:nvPr/>
            </p:nvSpPr>
            <p:spPr>
              <a:xfrm>
                <a:off x="5791320" y="5029200"/>
                <a:ext cx="2895480" cy="118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μ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</m:sup>
                            </m:sSup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056240" y="379800"/>
            <a:ext cx="649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Diseño de Oferta de Servicios de Transpor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04920" y="396216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Productividad marginal de la capacidad de carga/ descarg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" name=""/>
              <p:cNvSpPr txBox="1"/>
              <p:nvPr/>
            </p:nvSpPr>
            <p:spPr>
              <a:xfrm>
                <a:off x="609480" y="914400"/>
                <a:ext cx="44290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η</m:t>
                    </m:r>
                    <m:r>
                      <m:rPr>
                        <m:lit/>
                        <m:nor/>
                      </m:rPr>
                      <m:t xml:space="preserve">Bk</m:t>
                    </m:r>
                    <m:r>
                      <m:t xml:space="preserve">=</m:t>
                    </m:r>
                    <m:r>
                      <m:t xml:space="preserve">λ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f>
                          <m:num>
                            <m:r>
                              <m:t xml:space="preserve">k</m:t>
                            </m:r>
                          </m:num>
                          <m:den>
                            <m:r>
                              <m:t xml:space="preserve">μ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" name=""/>
              <p:cNvSpPr txBox="1"/>
              <p:nvPr/>
            </p:nvSpPr>
            <p:spPr>
              <a:xfrm>
                <a:off x="831960" y="2333520"/>
                <a:ext cx="4136760" cy="106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λ</m:t>
                        </m:r>
                      </m:num>
                      <m:den>
                        <m:r>
                          <m:t xml:space="preserve">ηk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</m:e>
                    </m:d>
                    <m:r>
                      <m:t xml:space="preserve">+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λ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ημ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1" name=""/>
          <p:cNvSpPr/>
          <p:nvPr/>
        </p:nvSpPr>
        <p:spPr>
          <a:xfrm flipV="1">
            <a:off x="5867280" y="1066320"/>
            <a:ext cx="0" cy="2133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200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5880" y="1143000"/>
            <a:ext cx="2133720" cy="1600200"/>
          </a:xfrm>
          <a:custGeom>
            <a:avLst/>
            <a:gdLst/>
            <a:ahLst/>
            <a:rect l="l" t="t" r="r" b="b"/>
            <a:pathLst>
              <a:path w="1536" h="976">
                <a:moveTo>
                  <a:pt x="0" y="0"/>
                </a:moveTo>
                <a:cubicBezTo>
                  <a:pt x="64" y="328"/>
                  <a:pt x="128" y="656"/>
                  <a:pt x="384" y="816"/>
                </a:cubicBezTo>
                <a:cubicBezTo>
                  <a:pt x="640" y="976"/>
                  <a:pt x="1088" y="968"/>
                  <a:pt x="1536" y="96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88200" y="11419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773840" y="312336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" name=""/>
              <p:cNvSpPr txBox="1"/>
              <p:nvPr/>
            </p:nvSpPr>
            <p:spPr>
              <a:xfrm>
                <a:off x="609480" y="5029200"/>
                <a:ext cx="3395880" cy="155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λ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η</m:t>
                        </m:r>
                        <m:r>
                          <m:rPr>
                            <m:lit/>
                            <m:nor/>
                          </m:rPr>
                          <m:t xml:space="preserve">Bk</m:t>
                        </m:r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k</m:t>
                            </m:r>
                          </m:num>
                          <m:den>
                            <m:r>
                              <m:t xml:space="preserve">μ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" name=""/>
              <p:cNvSpPr txBox="1"/>
              <p:nvPr/>
            </p:nvSpPr>
            <p:spPr>
              <a:xfrm>
                <a:off x="5257800" y="4952880"/>
                <a:ext cx="1095480" cy="106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¿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λ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μ</m:t>
                        </m:r>
                      </m:den>
                    </m:f>
                    <m:r>
                      <m:t xml:space="preserve"> </m:t>
                    </m:r>
                    <m:r>
                      <m:t xml:space="preserve">?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991880" y="151200"/>
            <a:ext cx="524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Cantidad almacenada en el sist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520" y="373284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antidad almacenada por un vehículo durante un cicl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1752480" y="793440"/>
            <a:ext cx="0" cy="2133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219320" y="869040"/>
            <a:ext cx="54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(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752480" y="2927520"/>
            <a:ext cx="571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088040" y="2926440"/>
            <a:ext cx="2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1752480" y="1707840"/>
            <a:ext cx="914400" cy="121932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666880" y="170820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rot="16238400">
            <a:off x="2133360" y="2622240"/>
            <a:ext cx="76320" cy="838440"/>
          </a:xfrm>
          <a:custGeom>
            <a:avLst/>
            <a:gdLst>
              <a:gd name="textAreaLeft" fmla="*/ 48960 w 76320"/>
              <a:gd name="textAreaRight" fmla="*/ 76320 w 76320"/>
              <a:gd name="textAreaTop" fmla="*/ 21600 h 838440"/>
              <a:gd name="textAreaBottom" fmla="*/ 816840 h 838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987200" y="3185280"/>
            <a:ext cx="67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/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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1752480" y="17082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490040" y="14626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666880" y="1708200"/>
            <a:ext cx="297180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638680" y="170820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rot="16238400">
            <a:off x="4113000" y="1566720"/>
            <a:ext cx="76320" cy="2971800"/>
          </a:xfrm>
          <a:custGeom>
            <a:avLst/>
            <a:gdLst>
              <a:gd name="textAreaLeft" fmla="*/ 48960 w 76320"/>
              <a:gd name="textAreaRight" fmla="*/ 76320 w 76320"/>
              <a:gd name="textAreaTop" fmla="*/ 77400 h 2971800"/>
              <a:gd name="textAreaBottom" fmla="*/ 2894400 h 2971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901680" y="32313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1(k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5638680" y="1707840"/>
            <a:ext cx="914400" cy="121932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6238400">
            <a:off x="6095880" y="2622600"/>
            <a:ext cx="76320" cy="838080"/>
          </a:xfrm>
          <a:custGeom>
            <a:avLst/>
            <a:gdLst>
              <a:gd name="textAreaLeft" fmla="*/ 48960 w 76320"/>
              <a:gd name="textAreaRight" fmla="*/ 76320 w 7632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905080" y="3185280"/>
            <a:ext cx="61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/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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609480" y="4191120"/>
                <a:ext cx="2286000" cy="87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k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" name=""/>
              <p:cNvSpPr txBox="1"/>
              <p:nvPr/>
            </p:nvSpPr>
            <p:spPr>
              <a:xfrm>
                <a:off x="2895480" y="4114800"/>
                <a:ext cx="4951440" cy="111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k</m:t>
                        </m:r>
                      </m:num>
                      <m:den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</m:den>
                    </m:f>
                    <m:r>
                      <m:t xml:space="preserve">⋅</m:t>
                    </m:r>
                    <m:r>
                      <m:t xml:space="preserve">k</m:t>
                    </m:r>
                    <m:r>
                      <m:t xml:space="preserve">+</m:t>
                    </m:r>
                    <m:r>
                      <m:t xml:space="preserve">k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k</m:t>
                        </m:r>
                      </m:num>
                      <m:den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−</m:t>
                            </m:r>
                          </m:sup>
                        </m:sSup>
                      </m:den>
                    </m:f>
                    <m:r>
                      <m:t xml:space="preserve">⋅</m:t>
                    </m:r>
                    <m:r>
                      <m:t xml:space="preserve">k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" name=""/>
              <p:cNvSpPr txBox="1"/>
              <p:nvPr/>
            </p:nvSpPr>
            <p:spPr>
              <a:xfrm>
                <a:off x="1547640" y="5207040"/>
                <a:ext cx="4445280" cy="121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k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sSup>
                      <m:e>
                        <m:r>
                          <m:t xml:space="preserve">k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</m:sup>
                            </m:sSup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52280" y="272160"/>
            <a:ext cx="2233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Cantidad almacenada por el sistema por unidad de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666880" y="318600"/>
            <a:ext cx="3200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antidad almacenada por un vehículo durante un cicl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792400" y="8834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172200" y="150840"/>
            <a:ext cx="2895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úmero de ciclos en un perio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172200" y="1112760"/>
            <a:ext cx="2971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324480" y="1203480"/>
            <a:ext cx="259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uración del perio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2514600"/>
            <a:ext cx="685800" cy="2286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1066680" y="2362320"/>
                <a:ext cx="1516320" cy="56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88" name=""/>
          <p:cNvSpPr/>
          <p:nvPr/>
        </p:nvSpPr>
        <p:spPr>
          <a:xfrm>
            <a:off x="2437200" y="100584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2895480" y="2160720"/>
                <a:ext cx="1616040" cy="103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λ</m:t>
                        </m:r>
                      </m:num>
                      <m:den>
                        <m:r>
                          <m:t xml:space="preserve">k</m:t>
                        </m:r>
                      </m:den>
                    </m:f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4572000" y="2133720"/>
                <a:ext cx="4343400" cy="99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⋅</m:t>
                    </m:r>
                    <m:r>
                      <m:t xml:space="preserve">k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r>
                          <m:t xml:space="preserve">f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k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</m:sup>
                            </m:sSup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4267080" y="3124080"/>
                <a:ext cx="4646880" cy="121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r>
                      <m:t xml:space="preserve">λ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r>
                          <m:t xml:space="preserve">λ</m:t>
                        </m:r>
                        <m:r>
                          <m:t xml:space="preserve">⋅</m:t>
                        </m:r>
                        <m:r>
                          <m:t xml:space="preserve">k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</m:sup>
                            </m:sSup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92" name=""/>
          <p:cNvSpPr/>
          <p:nvPr/>
        </p:nvSpPr>
        <p:spPr>
          <a:xfrm>
            <a:off x="380880" y="4510080"/>
            <a:ext cx="861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Tiempo medio de permanencia de lo transportado en el sistem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1200240" y="5334120"/>
                <a:ext cx="4073400" cy="121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k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k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</m:sup>
                            </m:sSup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94" name=""/>
          <p:cNvSpPr/>
          <p:nvPr/>
        </p:nvSpPr>
        <p:spPr>
          <a:xfrm>
            <a:off x="5410080" y="565200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ivel de servici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80880" y="303840"/>
            <a:ext cx="861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Instalaciones de carga y descarg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609480" y="1600200"/>
                <a:ext cx="64296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k</m:t>
                        </m:r>
                      </m:num>
                      <m:den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7" name=""/>
          <p:cNvSpPr/>
          <p:nvPr/>
        </p:nvSpPr>
        <p:spPr>
          <a:xfrm>
            <a:off x="1143000" y="1644840"/>
            <a:ext cx="2624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tiempo de car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4800600" y="1676520"/>
                <a:ext cx="64296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k</m:t>
                        </m:r>
                      </m:num>
                      <m:den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−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334120" y="190404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tiempo de descar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33520" y="3885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¿Qué pasa si k/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+ &gt; 1/f ?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04920" y="1007280"/>
            <a:ext cx="800100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itio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stalación que permite cargar o descargar un vehícul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782640" y="2666880"/>
                <a:ext cx="447840" cy="106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f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1219320" y="2894400"/>
            <a:ext cx="54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intervalo entre vehícul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572000" y="3885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ecesito más de un siti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09480" y="423540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i esto no se cumple, de todas maneras puedo necesitar más de un sitio, debido al tiempo de posicionamient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85800" y="540828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tp: tiempo de posicionamiento: tiempo que transcurre entre la llegada de un vehículo al sitio y que este se encuentre listo para cargar/descargar.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80880" y="303840"/>
            <a:ext cx="861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Instalaciones de carga y descarg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1120320"/>
            <a:ext cx="8001000" cy="45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rige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S+ sitios de carg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Symbol"/>
                <a:ea typeface="Symbol"/>
              </a:rPr>
              <a:t>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+ capacidad de carga (UF/U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-&gt; cada sitio está en operación una proporción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 del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-&gt; número de sitios en servicio en un instante dad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·S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-&gt; capacidad de carga: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·S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·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+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+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Debe cumplirse: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·S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·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+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&gt; </a:t>
            </a:r>
            <a:r>
              <a:rPr b="0" lang="es-ES_tradnl" sz="2400" spc="-1" strike="noStrike">
                <a:solidFill>
                  <a:srgbClr val="3333cc"/>
                </a:solidFill>
                <a:latin typeface="Symbol"/>
                <a:ea typeface="Symbol"/>
              </a:rPr>
              <a:t>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4952880" y="5334120"/>
                <a:ext cx="1811520" cy="109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  <m:r>
                      <m:t xml:space="preserve">≥</m:t>
                    </m:r>
                    <m:f>
                      <m:num>
                        <m:r>
                          <m:t xml:space="preserve">λ</m:t>
                        </m:r>
                      </m:num>
                      <m:den>
                        <m:sSubSup>
                          <m:e>
                            <m:r>
                              <m:t xml:space="preserve">η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  <m:sup>
                            <m:r>
                              <m:t xml:space="preserve">+</m:t>
                            </m:r>
                          </m:sup>
                        </m:sSubSup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80880" y="303840"/>
            <a:ext cx="861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Instalaciones de carga y descarg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80880" y="534600"/>
            <a:ext cx="8001000" cy="57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ef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Symbol"/>
                <a:ea typeface="Symbol"/>
              </a:rPr>
              <a:t>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s-ES_tradnl" sz="2400" spc="-1" strike="noStrike" baseline="30000">
                <a:solidFill>
                  <a:srgbClr val="3333cc"/>
                </a:solidFill>
                <a:latin typeface="Comic Sans MS"/>
              </a:rPr>
              <a:t>+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=</a:t>
            </a:r>
            <a:r>
              <a:rPr b="0" lang="es-ES_tradnl" sz="2400" spc="-1" strike="noStrike" baseline="30000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3333cc"/>
                </a:solidFill>
                <a:latin typeface="Symbol"/>
                <a:ea typeface="Symbol"/>
              </a:rPr>
              <a:t>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+ intensidad relativa del flujo de transporte con respecto a la capacidad de carg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Symbol"/>
                <a:ea typeface="Symbol"/>
              </a:rPr>
              <a:t>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s-ES_tradnl" sz="2400" spc="-1" strike="noStrike" baseline="30000">
                <a:solidFill>
                  <a:srgbClr val="3333cc"/>
                </a:solidFill>
                <a:latin typeface="Comic Sans MS"/>
              </a:rPr>
              <a:t>+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número mínimo de sitios que en promedio deben estar en servi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-&gt;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·S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+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&gt;=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3333cc"/>
                </a:solidFill>
                <a:latin typeface="Symbol"/>
                <a:ea typeface="Symbol"/>
              </a:rPr>
              <a:t>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s-ES_tradnl" sz="2400" spc="-1" strike="noStrike" baseline="30000">
                <a:solidFill>
                  <a:srgbClr val="3333cc"/>
                </a:solidFill>
                <a:latin typeface="Comic Sans MS"/>
              </a:rPr>
              <a:t>+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Para descarga se analiza de igual form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Si k</a:t>
            </a:r>
            <a:r>
              <a:rPr b="0" lang="es-ES_tradnl" sz="2400" spc="-1" strike="noStrike">
                <a:solidFill>
                  <a:srgbClr val="ff3300"/>
                </a:solidFill>
                <a:latin typeface="Symbol"/>
                <a:ea typeface="Symbol"/>
              </a:rPr>
              <a:t></a:t>
            </a:r>
            <a:r>
              <a:rPr b="0" lang="es-ES_tradnl" sz="2400" spc="-1" strike="noStrike" baseline="30000">
                <a:solidFill>
                  <a:srgbClr val="ff3300"/>
                </a:solidFill>
                <a:latin typeface="Comic Sans MS"/>
              </a:rPr>
              <a:t>+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 + t</a:t>
            </a:r>
            <a:r>
              <a:rPr b="0" lang="es-ES_tradnl" sz="2400" spc="-1" strike="noStrike" baseline="-25000">
                <a:solidFill>
                  <a:srgbClr val="ff3300"/>
                </a:solidFill>
                <a:latin typeface="Comic Sans MS"/>
              </a:rPr>
              <a:t>p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 &gt; 1/f ==&gt; se necesita más de un sit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Graficar operación de un terminal de carga con tres siti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Analizar tiempo de esper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3T02:00:03Z</dcterms:created>
  <dc:creator>Marcela Munizaga</dc:creator>
  <dc:description/>
  <dc:language>en-US</dc:language>
  <cp:lastModifiedBy>Marcela Munizaga</cp:lastModifiedBy>
  <dcterms:modified xsi:type="dcterms:W3CDTF">2004-11-09T02:40:59Z</dcterms:modified>
  <cp:revision>42</cp:revision>
  <dc:subject/>
  <dc:title>Sin título de diapositiva</dc:title>
</cp:coreProperties>
</file>