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B08-EE0D-4678-9315-FFF388E2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BA7-DDEB-42D3-84C3-5013A17A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40D-E380-49A7-8C22-ECF5F96A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FA7-D08B-4D66-9B7F-E4CFFD2D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CC3-7B19-49C5-82D6-CCFF9C72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8CC-1619-4368-943F-74B23EFA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F06-1C5F-4EA0-9F5E-1900B2D6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62C-B383-4522-A0B3-6B65C12C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493-F91F-4CB2-A5E6-B2C1B3FA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38A-23AE-4F03-A885-D6E11648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0CB-9A0F-41DA-8B43-D53D4921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165-BFA8-4F29-860A-EC2735B8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FE57-D36B-4A57-857A-938F7E727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09T02:40:59Z</dcterms:modified>
  <cp:revision>42</cp:revision>
  <dc:subject/>
  <dc:title>Sin título de diapositiva</dc:title>
</cp:coreProperties>
</file>