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9D7-2C2F-45CE-A551-153182B8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5AD-8384-465A-959A-50677CAA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DFD-979D-4B47-9C35-A3D84635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393-E211-4C23-9886-E4877D06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B6B-CF0C-4A33-8240-AB72F86F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F53-6032-4054-9387-0B97B9E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550-C2E6-4B47-A694-6FA94DB5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290-266D-4A68-827A-5BA2EDC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8E4-AF47-422D-9E7B-7482D075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75A-D546-4006-88DE-72EA603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73A-A631-4CF6-85DE-6F94131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5B3-5B41-46D3-B1C0-E0A1B33A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F7BD-8788-4E6B-8673-9262BAD16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9T02:40:59Z</dcterms:modified>
  <cp:revision>42</cp:revision>
  <dc:subject/>
  <dc:title>Sin título de diapositiva</dc:title>
</cp:coreProperties>
</file>