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006E-322B-407C-BC9D-9E6EFD4E2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46B0-DBEB-4F79-A76E-18341FE05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00C4-73B4-444A-ADA1-6D7D456E5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13AA-5F69-4814-895B-94958805F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608A-0458-4710-8CCE-FABD93632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1073-37CB-4B27-814A-BA16A031D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423D-0142-4A6A-92EE-EEA55E2C7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DF67-AFB1-4E7D-9894-967BA9BB8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C850-95C7-4775-9BB7-3B77230D5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9C0F-B0D5-4103-B70E-2235D2A59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20A4-96AA-4BF3-8387-994C36990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E925-E8F1-4D4D-9EEE-FAF0AFBFD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DEA11-6BEA-481F-8C03-BAA0C0754C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08520" y="91332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443600"/>
            <a:ext cx="8001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l sistema cíclico si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 Clase 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1981080" y="2057400"/>
                <a:ext cx="4300560" cy="15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" name=""/>
          <p:cNvSpPr/>
          <p:nvPr/>
        </p:nvSpPr>
        <p:spPr>
          <a:xfrm>
            <a:off x="304920" y="3826800"/>
            <a:ext cx="85341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Función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stitución entre número de vehículos y capacidad de carg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pacidad media de carga/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5791320" y="5029200"/>
                <a:ext cx="2895480" cy="11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056240" y="37980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396216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Productividad marginal de la capacidad de carga/ descar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609480" y="914400"/>
                <a:ext cx="44290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  <m:r>
                      <m:rPr>
                        <m:lit/>
                        <m:nor/>
                      </m:rPr>
                      <m:t xml:space="preserve">Bk</m:t>
                    </m:r>
                    <m:r>
                      <m:t xml:space="preserve">=</m:t>
                    </m:r>
                    <m:r>
                      <m:t xml:space="preserve">λ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831960" y="2333520"/>
                <a:ext cx="4136760" cy="10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ηk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λ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η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1" name=""/>
          <p:cNvSpPr/>
          <p:nvPr/>
        </p:nvSpPr>
        <p:spPr>
          <a:xfrm flipV="1">
            <a:off x="5867280" y="106632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200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5880" y="1143000"/>
            <a:ext cx="2133720" cy="1600200"/>
          </a:xfrm>
          <a:custGeom>
            <a:avLst/>
            <a:gdLst/>
            <a:ahLst/>
            <a:rect l="l" t="t" r="r" b="b"/>
            <a:pathLst>
              <a:path w="1536" h="976">
                <a:moveTo>
                  <a:pt x="0" y="0"/>
                </a:moveTo>
                <a:cubicBezTo>
                  <a:pt x="64" y="328"/>
                  <a:pt x="128" y="656"/>
                  <a:pt x="384" y="816"/>
                </a:cubicBezTo>
                <a:cubicBezTo>
                  <a:pt x="640" y="976"/>
                  <a:pt x="1088" y="968"/>
                  <a:pt x="1536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88200" y="1141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773840" y="3123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609480" y="5029200"/>
                <a:ext cx="3395880" cy="15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5257800" y="4952880"/>
                <a:ext cx="109548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¿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λ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μ</m:t>
                        </m:r>
                      </m:den>
                    </m:f>
                    <m:r>
                      <m:t xml:space="preserve"> 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991880" y="151200"/>
            <a:ext cx="524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antidad almacenada en 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373284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tidad almacenada por un vehículo durante un cic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752480" y="79344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19320" y="86904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752480" y="292752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088040" y="292644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752480" y="1707840"/>
            <a:ext cx="914400" cy="1219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666880" y="17082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16238400">
            <a:off x="2133360" y="2622240"/>
            <a:ext cx="76320" cy="83844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87200" y="3185280"/>
            <a:ext cx="67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1752480" y="17082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490040" y="14626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1708200"/>
            <a:ext cx="29718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638680" y="17082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rot="16238400">
            <a:off x="4113000" y="1566720"/>
            <a:ext cx="76320" cy="2971800"/>
          </a:xfrm>
          <a:custGeom>
            <a:avLst/>
            <a:gdLst>
              <a:gd name="textAreaLeft" fmla="*/ 48960 w 76320"/>
              <a:gd name="textAreaRight" fmla="*/ 76320 w 7632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901680" y="32313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(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5638680" y="1707840"/>
            <a:ext cx="914400" cy="1219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6238400">
            <a:off x="6095880" y="2622600"/>
            <a:ext cx="76320" cy="83808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05080" y="3185280"/>
            <a:ext cx="61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609480" y="4191120"/>
                <a:ext cx="228600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895480" y="4114800"/>
                <a:ext cx="495144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1547640" y="5207040"/>
                <a:ext cx="444528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52280" y="272160"/>
            <a:ext cx="223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antidad almacenada por el sistema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666880" y="31860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tidad almacenada por un vehículo durante un cic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92400" y="883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172200" y="15084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úmero de ciclos en un peri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172200" y="111276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324480" y="120348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uración del peri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251460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1066680" y="2362320"/>
                <a:ext cx="151632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>
            <a:off x="2437200" y="10058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2895480" y="2160720"/>
                <a:ext cx="1616040" cy="10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4572000" y="2133720"/>
                <a:ext cx="434340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4267080" y="3124080"/>
                <a:ext cx="464688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λ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λ</m:t>
                        </m:r>
                        <m:r>
                          <m:t xml:space="preserve">⋅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380880" y="4510080"/>
            <a:ext cx="861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iempo medio de permanencia de lo transportado en el siste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200240" y="5334120"/>
                <a:ext cx="407340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5410080" y="56520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ivel de servic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80880" y="30384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Instalaciones de carga y descarg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609480" y="1600200"/>
                <a:ext cx="642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1143000" y="1644840"/>
            <a:ext cx="262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tiempo de 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800600" y="1676520"/>
                <a:ext cx="642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334120" y="19040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tiempo de 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3885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¿Qué pasa si k/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+ &gt; 1/f ?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1007280"/>
            <a:ext cx="800100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ti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stalación que permite cargar o descargar un vehíc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782640" y="2666880"/>
                <a:ext cx="44784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1219320" y="28944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intervalo entre vehícu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0" y="3885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cesito más de un sit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42354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esto no se cumple, de todas maneras puedo necesitar más de un sitio, debido al tiempo de posicionamien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54082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p: tiempo de posicionamiento: tiempo que transcurre entre la llegada de un vehículo al sitio y que este se encuentre listo para cargar/descargar.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80880" y="30384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Instalaciones de carga y descarg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1120320"/>
            <a:ext cx="8001000" cy="45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rig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+ sitios de carg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 capacidad de carga (UF/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cada sitio está en operación una proporción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 del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número de sitios en servicio en un instante da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S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capacidad de carga: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S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Debe cumplirse: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S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&gt;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952880" y="5334120"/>
                <a:ext cx="1811520" cy="109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≥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sSubSup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80880" y="30384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Instalaciones de carga y descarg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534600"/>
            <a:ext cx="8001000" cy="57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f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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 intensidad relativa del flujo de transporte con respecto a la capacidad de carg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número mínimo de sitios que en promedio deben estar en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S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=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Para descarga se analiza de igual form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 k</a:t>
            </a:r>
            <a:r>
              <a:rPr b="0" lang="es-ES_tradnl" sz="2400" spc="-1" strike="noStrike">
                <a:solidFill>
                  <a:srgbClr val="ff3300"/>
                </a:solidFill>
                <a:latin typeface="Symbol"/>
                <a:ea typeface="Symbol"/>
              </a:rPr>
              <a:t></a:t>
            </a:r>
            <a:r>
              <a:rPr b="0" lang="es-ES_tradnl" sz="2400" spc="-1" strike="noStrike" baseline="30000">
                <a:solidFill>
                  <a:srgbClr val="ff33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+ t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&gt; 1/f ==&gt; se necesita más de un si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Graficar operación de un terminal de carga con tres sit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Analizar tiempo de esp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3T02:00:03Z</dcterms:created>
  <dc:creator>Marcela Munizaga</dc:creator>
  <dc:description/>
  <dc:language>en-US</dc:language>
  <cp:lastModifiedBy>Marcela Munizaga</cp:lastModifiedBy>
  <dcterms:modified xsi:type="dcterms:W3CDTF">2004-11-09T02:40:59Z</dcterms:modified>
  <cp:revision>42</cp:revision>
  <dc:subject/>
  <dc:title>Sin título de diapositiva</dc:title>
</cp:coreProperties>
</file>