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E8DF0-89E5-4B6E-B68F-E81C02465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0DD38-674D-44C9-881C-A906C4A4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79D02-7C2E-4E05-8554-8CDB1A0E4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91A55-C5B4-496A-A581-6B4853E89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E8E7A-F59A-44C6-9A69-847569A5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B40E-6F08-4679-B356-4874EB88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E282-CC6B-4DC7-B846-7E03CE11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24C1-C4C2-4FD4-B7C0-9C662F3B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2A88-251D-4529-908E-81B3D55F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B099-328B-48E2-9C7C-1B8105C7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FF22-F569-4E55-9F97-0AA0F8E8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559E-85AA-45B4-9AC7-9F86747EA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703C-FDA5-49EA-94F7-668EBCAC8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ithomson@cepal.cl" TargetMode="External"/><Relationship Id="rId3" Type="http://schemas.openxmlformats.org/officeDocument/2006/relationships/image" Target="../media/image2.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1" name="image552_16" descr=""/>
          <p:cNvPicPr/>
          <p:nvPr/>
        </p:nvPicPr>
        <p:blipFill>
          <a:blip r:embed="rId1"/>
          <a:srcRect l="0" t="0" r="0" b="38998"/>
          <a:stretch/>
        </p:blipFill>
        <p:spPr>
          <a:xfrm>
            <a:off x="0" y="3240"/>
            <a:ext cx="9140760" cy="6854760"/>
          </a:xfrm>
          <a:prstGeom prst="rect">
            <a:avLst/>
          </a:prstGeom>
          <a:ln w="0">
            <a:noFill/>
          </a:ln>
        </p:spPr>
      </p:pic>
      <p:sp>
        <p:nvSpPr>
          <p:cNvPr id="42"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2880" y="730080"/>
            <a:ext cx="8593200" cy="4295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aramond"/>
              </a:rPr>
              <a:t>LA PARADOJA DE THOMSON (TÉRMINO DEL DIARIO “LA TERCERA”), O PORQUÉ TARIFICACIÓN VIAL CONSTITUITRÍA UNA INFLUENCIA NEGATIVA SOBRE LA SUSTENTABILIDAD DE LAS CIUDADES LATINOAMERICANAS</a:t>
            </a:r>
            <a:endParaRPr b="0" lang="en-US" sz="4000" spc="-1" strike="noStrike">
              <a:solidFill>
                <a:srgbClr val="000000"/>
              </a:solidFill>
              <a:latin typeface="Times New Roman"/>
            </a:endParaRPr>
          </a:p>
        </p:txBody>
      </p:sp>
      <p:sp>
        <p:nvSpPr>
          <p:cNvPr id="44" name=""/>
          <p:cNvSpPr/>
          <p:nvPr/>
        </p:nvSpPr>
        <p:spPr>
          <a:xfrm>
            <a:off x="958680" y="4799160"/>
            <a:ext cx="7605720" cy="182880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an Thomson</a:t>
            </a:r>
            <a:endParaRPr b="0" lang="en-US" sz="32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efe, Unidad de Transporte, CEPAL noviembre del 2004</a:t>
            </a:r>
            <a:endParaRPr b="0" lang="en-US" sz="3200" spc="-1" strike="noStrike">
              <a:solidFill>
                <a:srgbClr val="000000"/>
              </a:solidFill>
              <a:latin typeface="Times New Roman"/>
            </a:endParaRPr>
          </a:p>
        </p:txBody>
      </p:sp>
      <p:sp>
        <p:nvSpPr>
          <p:cNvPr id="45"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6" name="image552_16" descr=""/>
          <p:cNvPicPr/>
          <p:nvPr/>
        </p:nvPicPr>
        <p:blipFill>
          <a:blip r:embed="rId1"/>
          <a:srcRect l="0" t="0" r="0" b="38998"/>
          <a:stretch/>
        </p:blipFill>
        <p:spPr>
          <a:xfrm>
            <a:off x="0" y="3240"/>
            <a:ext cx="9140760" cy="6854760"/>
          </a:xfrm>
          <a:prstGeom prst="rect">
            <a:avLst/>
          </a:prstGeom>
          <a:ln w="0">
            <a:noFill/>
          </a:ln>
        </p:spPr>
      </p:pic>
      <p:sp>
        <p:nvSpPr>
          <p:cNvPr id="4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1" name=""/>
          <p:cNvSpPr/>
          <p:nvPr/>
        </p:nvSpPr>
        <p:spPr>
          <a:xfrm>
            <a:off x="227160" y="822240"/>
            <a:ext cx="8675640" cy="59421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NOTA ACLARATORIA</a:t>
            </a:r>
            <a:endParaRPr b="0" lang="en-US" sz="3200" spc="-1" strike="noStrike">
              <a:solidFill>
                <a:srgbClr val="000000"/>
              </a:solidFill>
              <a:latin typeface="Times New Roman"/>
            </a:endParaRPr>
          </a:p>
          <a:p>
            <a:pPr algn="just">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	</a:t>
            </a:r>
            <a:r>
              <a:rPr b="1" lang="es-ES_tradnl" sz="2800" spc="-1" strike="noStrike">
                <a:solidFill>
                  <a:srgbClr val="000000"/>
                </a:solidFill>
                <a:latin typeface="Garamond"/>
              </a:rPr>
              <a:t>El autor de la presente nota ha estado analizando la materia de la tarificación vial, por congestión, desde 1968, participó como economista de transporte en los primeros estudios llevados a cabo de casos reales (Hull y Caracas), y sigue interesado en el tema.</a:t>
            </a: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	</a:t>
            </a:r>
            <a:r>
              <a:rPr b="1" lang="es-ES_tradnl" sz="2800" spc="-1" strike="noStrike">
                <a:solidFill>
                  <a:srgbClr val="000000"/>
                </a:solidFill>
                <a:latin typeface="Garamond"/>
              </a:rPr>
              <a:t>Era un gran hincha de la tarifación, pero, a lo largo de los años, se ha convencido que el impacto de la tarificación sería negativo en situaciones en que: (i) no hay regulaciones rígidas sobre el uso de suelo, especialmente en las zonas periféricas; (ii) los ciudadanos demuestran fuertes preferencias por des-plazarse en auto.  En tales circunstancias, encontradas en muchas ciudades latinoamericanas, como Santiago, la tarificación, perversamente, fomentaría el uso del transporte privado y la insostenibilidad de la ur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2" name="image552_16" descr=""/>
          <p:cNvPicPr/>
          <p:nvPr/>
        </p:nvPicPr>
        <p:blipFill>
          <a:blip r:embed="rId1"/>
          <a:srcRect l="0" t="0" r="0" b="38998"/>
          <a:stretch/>
        </p:blipFill>
        <p:spPr>
          <a:xfrm>
            <a:off x="0" y="3240"/>
            <a:ext cx="9140760" cy="6854760"/>
          </a:xfrm>
          <a:prstGeom prst="rect">
            <a:avLst/>
          </a:prstGeom>
          <a:ln w="0">
            <a:noFill/>
          </a:ln>
        </p:spPr>
      </p:pic>
      <p:sp>
        <p:nvSpPr>
          <p:cNvPr id="5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7" name=""/>
          <p:cNvSpPr/>
          <p:nvPr/>
        </p:nvSpPr>
        <p:spPr>
          <a:xfrm>
            <a:off x="227160" y="822240"/>
            <a:ext cx="8683560" cy="58500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harter Bd BT"/>
              </a:rPr>
              <a:t>EL IMPACTO DE LA TARIFICACIÓN SOBRE EL USO DE SUELO URBANO Y LA SUS-TENTABILIDAD DE UNA CIUDAD, COMO SANTIAGO, DE POCOS CONTROLES SOBRE LA EXPANSIÓN RESIDENCIAL Y DE LUGAR DE TRABAJO EN ZONAS PERIFÉRICAS:</a:t>
            </a:r>
            <a:br>
              <a:rPr sz="3200"/>
            </a:br>
            <a:r>
              <a:rPr b="1" lang="es-ES_tradnl" sz="2800" spc="-1" strike="noStrike">
                <a:solidFill>
                  <a:srgbClr val="000000"/>
                </a:solidFill>
                <a:latin typeface="Charter Bd BT"/>
              </a:rPr>
              <a:t>(i) TENDENCIAS EN LA UBICACIÓN DE LOS LUGARES DE TRABAJO:</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videntemente, para que la tarificación vial funcione, tiene que hacer subir el costo para el automovilista de la ocupación de la vialidad congestionada.</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ube ese costo, se hace menos atractivo llegar en auto a la zona sujeta a tarificación.</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os automovilistas buscarán alternativas, presentándose, en el corto plazo, solamente tres, es decir: (i) seguir llegando en auto, asumiendo el mayor costo; (ii) cambiar al transporte público, y; (iii) viajar antes o después del horario de tarif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8" name="image552_16" descr=""/>
          <p:cNvPicPr/>
          <p:nvPr/>
        </p:nvPicPr>
        <p:blipFill>
          <a:blip r:embed="rId1"/>
          <a:srcRect l="0" t="0" r="0" b="38998"/>
          <a:stretch/>
        </p:blipFill>
        <p:spPr>
          <a:xfrm>
            <a:off x="0" y="3240"/>
            <a:ext cx="9140760" cy="6854760"/>
          </a:xfrm>
          <a:prstGeom prst="rect">
            <a:avLst/>
          </a:prstGeom>
          <a:ln w="0">
            <a:noFill/>
          </a:ln>
        </p:spPr>
      </p:pic>
      <p:sp>
        <p:nvSpPr>
          <p:cNvPr id="5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3"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n embargo, en el más largo plazo tienen otras posibilidades, una de las cuales es cambiarse de lugar de trabaj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on los empleados de mayor imprescindibilidad quienes se desplazan en auto en horas de punta, y las empresas que los contratan tiene que escuchar sus opinion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Necesariamente, una ubicación en la zona tarificada se hace menos atractiva que antes.  En el corto plazo, las empresas podrán simplemente pagar la tarifa vial de sus empleados, lo que hace subir sus gastos de personal; en el más largo, podrán decidir trasladarse a otra zona, no sujeta a la tarificación (como, en el caso de Santiago, la Ciudad Empresarial, o los alrededores del aeropuerto de Pudahu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64" name="image552_16" descr=""/>
          <p:cNvPicPr/>
          <p:nvPr/>
        </p:nvPicPr>
        <p:blipFill>
          <a:blip r:embed="rId1"/>
          <a:srcRect l="0" t="0" r="0" b="38998"/>
          <a:stretch/>
        </p:blipFill>
        <p:spPr>
          <a:xfrm>
            <a:off x="0" y="3240"/>
            <a:ext cx="9140760" cy="6854760"/>
          </a:xfrm>
          <a:prstGeom prst="rect">
            <a:avLst/>
          </a:prstGeom>
          <a:ln w="0">
            <a:noFill/>
          </a:ln>
        </p:spPr>
      </p:pic>
      <p:sp>
        <p:nvSpPr>
          <p:cNvPr id="65"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8"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9"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a:t>
            </a:r>
            <a:r>
              <a:rPr b="1" lang="es-ES_tradnl" sz="2800" spc="-1" strike="noStrike" u="sng">
                <a:solidFill>
                  <a:srgbClr val="000000"/>
                </a:solidFill>
                <a:uFillTx/>
                <a:latin typeface="Garamond"/>
              </a:rPr>
              <a:t>El resultado</a:t>
            </a:r>
            <a:r>
              <a:rPr b="1" lang="es-ES_tradnl" sz="2800" spc="-1" strike="noStrike">
                <a:solidFill>
                  <a:srgbClr val="000000"/>
                </a:solidFill>
                <a:latin typeface="Garamond"/>
              </a:rPr>
              <a:t>?: dado que el transporte público, que no atiende bien a dichas otras zonas, hasta los empleados que antes llegaban en bus o metro, ahora llegarían en auto, rebajando la demanda de transporte público y, por ende, también la oferta del mismo.  La ciudad crecerá horizontalmente, comiendo áreas verdes, a las cuales no se aplican el principio de cobrar precios iguales de los costos sociales marginales (y donde la agricultura suele ser muy productiva).</a:t>
            </a:r>
            <a:endParaRPr b="0" lang="en-US" sz="2800" spc="-1" strike="noStrike">
              <a:solidFill>
                <a:srgbClr val="000000"/>
              </a:solidFill>
              <a:latin typeface="Times New Roman"/>
            </a:endParaRPr>
          </a:p>
          <a:p>
            <a:pPr algn="just">
              <a:lnSpc>
                <a:spcPct val="85000"/>
              </a:lnSpc>
              <a:spcBef>
                <a:spcPts val="700"/>
              </a:spcBef>
              <a:buClr>
                <a:srgbClr val="ff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Garamond"/>
              </a:rPr>
              <a:t>La ciudad se hará medioambientalmente insostenible, en el largo plazo.</a:t>
            </a:r>
            <a:endParaRPr b="0" lang="en-US" sz="2800" spc="-1" strike="noStrike">
              <a:solidFill>
                <a:srgbClr val="000000"/>
              </a:solidFill>
              <a:latin typeface="Times New Roman"/>
            </a:endParaRPr>
          </a:p>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Obsérvese que otra conclusión podría regir en el caso de ciudades con estrictos controles sobre el uso de suelo (como Singapur o Lon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0" name="image552_16" descr=""/>
          <p:cNvPicPr/>
          <p:nvPr/>
        </p:nvPicPr>
        <p:blipFill>
          <a:blip r:embed="rId1"/>
          <a:srcRect l="0" t="0" r="0" b="38998"/>
          <a:stretch/>
        </p:blipFill>
        <p:spPr>
          <a:xfrm>
            <a:off x="0" y="3240"/>
            <a:ext cx="9140760" cy="6854760"/>
          </a:xfrm>
          <a:prstGeom prst="rect">
            <a:avLst/>
          </a:prstGeom>
          <a:ln w="0">
            <a:noFill/>
          </a:ln>
        </p:spPr>
      </p:pic>
      <p:sp>
        <p:nvSpPr>
          <p:cNvPr id="71"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74"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75"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5000"/>
                </a:solidFill>
                <a:latin typeface="Charter Bd BT"/>
              </a:rPr>
              <a:t>(ii) TENDENCIAS EN LA UBICACIÓN DE LAS RESIDENCIA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a tarificación podría excluir a los residentes de la zona tarificada, lo que sería socialmente más justo, o podría incluirl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e aplicara la tarificación también a ellos, evidentemente esto haría menos atractivo vivir en la zona tarificada, especialmente en lo que se refiere a los residentes de mayores niveles de ingresos, que tienden a ocupar sus automóviles durante las horas de mayor movimient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erían estas personas de mayores ingresos que se irían primero, optando en lugar vivir en una zona más apartada, donde pueden usar sus automoviles sin tener que pagar una t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6" name="image552_16" descr=""/>
          <p:cNvPicPr/>
          <p:nvPr/>
        </p:nvPicPr>
        <p:blipFill>
          <a:blip r:embed="rId1"/>
          <a:srcRect l="0" t="0" r="0" b="38998"/>
          <a:stretch/>
        </p:blipFill>
        <p:spPr>
          <a:xfrm>
            <a:off x="0" y="3240"/>
            <a:ext cx="9140760" cy="6854760"/>
          </a:xfrm>
          <a:prstGeom prst="rect">
            <a:avLst/>
          </a:prstGeom>
          <a:ln w="0">
            <a:noFill/>
          </a:ln>
        </p:spPr>
      </p:pic>
      <p:sp>
        <p:nvSpPr>
          <p:cNvPr id="7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1"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66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Bajarían los valores de las casas y los departamentos en la zona tarificada, la que correría el peligro de transformarse en un área deprimida.</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traslado de las familias de mayores ingresos a áreas apartadas significaría que, en el sector a donde se van, tendrían un nivel de accesibilidad por transporte público bastante inferior que en las zonas desde donde vienen, con el resultado que hacen más uso del transporte privado, y menos del públic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resultado también sería un impulso a la expansión horizontal de la ciudad, menos uso del transporte público, y una ciudad menos sustentable en el largo plaz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2" name="image552_16" descr=""/>
          <p:cNvPicPr/>
          <p:nvPr/>
        </p:nvPicPr>
        <p:blipFill>
          <a:blip r:embed="rId1"/>
          <a:srcRect l="0" t="0" r="0" b="38998"/>
          <a:stretch/>
        </p:blipFill>
        <p:spPr>
          <a:xfrm>
            <a:off x="3240" y="0"/>
            <a:ext cx="9140760" cy="6854760"/>
          </a:xfrm>
          <a:prstGeom prst="rect">
            <a:avLst/>
          </a:prstGeom>
          <a:ln w="0">
            <a:noFill/>
          </a:ln>
        </p:spPr>
      </p:pic>
      <p:sp>
        <p:nvSpPr>
          <p:cNvPr id="8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7"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CONCLUSIÓN</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	</a:t>
            </a:r>
            <a:r>
              <a:rPr b="1" lang="es-CL" sz="3600" spc="-1" strike="noStrike">
                <a:solidFill>
                  <a:srgbClr val="cc3300"/>
                </a:solidFill>
                <a:latin typeface="Charter Bd BT"/>
              </a:rPr>
              <a:t>Los resultados de la tarificación vial en el largo plazo serían diametrica-mente opuestos a los en el corto plazo.  En el corto, favorece un mayor uso del transporte público, y en el largo su impacto sería al revés, por los cambios en el uso de suelo que provo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8" name="image552_16" descr=""/>
          <p:cNvPicPr/>
          <p:nvPr/>
        </p:nvPicPr>
        <p:blipFill>
          <a:blip r:embed="rId1"/>
          <a:srcRect l="0" t="0" r="0" b="38998"/>
          <a:stretch/>
        </p:blipFill>
        <p:spPr>
          <a:xfrm>
            <a:off x="0" y="3240"/>
            <a:ext cx="9140760" cy="6854760"/>
          </a:xfrm>
          <a:prstGeom prst="rect">
            <a:avLst/>
          </a:prstGeom>
          <a:ln w="0">
            <a:noFill/>
          </a:ln>
        </p:spPr>
      </p:pic>
      <p:sp>
        <p:nvSpPr>
          <p:cNvPr id="8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9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93" name=""/>
          <p:cNvSpPr/>
          <p:nvPr/>
        </p:nvSpPr>
        <p:spPr>
          <a:xfrm>
            <a:off x="227160" y="1095480"/>
            <a:ext cx="8683560" cy="54846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198960" y="1827360"/>
            <a:ext cx="5484600" cy="457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ay mucho más para cont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pero no hay tiempo para contarl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Muchas grac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Garamond"/>
                <a:hlinkClick r:id="rId2"/>
              </a:rPr>
              <a:t>ithomson@cepal.c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ttp://www.cepal.cl/transporte/</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1187280" y="1736640"/>
            <a:ext cx="1627200" cy="45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6:28:56Z</dcterms:created>
  <dc:creator>Usuario </dc:creator>
  <dc:description/>
  <dc:language>en-US</dc:language>
  <cp:lastModifiedBy>Marcela Munizaga</cp:lastModifiedBy>
  <dcterms:modified xsi:type="dcterms:W3CDTF">2004-11-06T02:33:21Z</dcterms:modified>
  <cp:revision>32</cp:revision>
  <dc:subject/>
  <dc:title>PowerPoint Presentation</dc:title>
</cp:coreProperties>
</file>