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E543-ACF0-4968-8AE8-90D94138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DD6-A3F1-48A7-B3DB-CA1EE917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513-AAC6-4F8B-B029-7D13CBCF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336-87AB-4A22-9219-7EBE8FAF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AE7B-878E-4D60-93D2-3443EC5C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BD4-0CDD-4143-AD43-AEC2C7C0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AF13-0906-4E47-BF3E-43D5F190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65F-A747-4AFD-BB92-8F801720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EAE-A8ED-48D8-B892-7ACADAFA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BC97-EE50-444B-ADA0-076E8DA4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FDD-8DCE-434E-8835-330F0E62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8A46-FB9A-4BE0-9952-C2EB2F3F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E2B0-061C-4E94-8E20-1BF52726D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u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33520" y="509976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tamaño de embar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04920" y="228600"/>
                <a:ext cx="36576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80880" y="310032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: transporte de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= 6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= 12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= 20 + k 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100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0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343400" y="304920"/>
                <a:ext cx="42670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04920" y="1676520"/>
                <a:ext cx="601344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04T04:37:17Z</dcterms:modified>
  <cp:revision>28</cp:revision>
  <dc:subject/>
  <dc:title>Sin título de diapositiva</dc:title>
</cp:coreProperties>
</file>