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087-6E4D-44F8-8B0A-DD7CEFC3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2BA-9197-465B-8195-A3B1497A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A8F-B4DF-42A4-9EBA-0447E836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5DD-73D1-4472-8D72-7CFE0AA6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C1A-9C8F-477A-8F48-84798E8D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E18-D7D5-426B-981F-A072D35B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64D-1A04-4581-949E-B182516B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339-1A14-461E-9BD3-58D6D576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368-BF3B-4ACB-96D3-9223E08D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647-2E02-4ACA-AAED-0093CABB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3C4E-3C0F-4DAF-8794-7EB316CD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C1A-9352-4C16-8342-01553B00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F52F-0BCA-4EAC-98AA-C9705435A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u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9976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tamaño de embar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04920" y="228600"/>
                <a:ext cx="36576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80880" y="310032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: transporte de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= 6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= 12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= 20 + k 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100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343400" y="304920"/>
                <a:ext cx="4267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4920" y="1676520"/>
                <a:ext cx="601344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04T04:37:17Z</dcterms:modified>
  <cp:revision>28</cp:revision>
  <dc:subject/>
  <dc:title>Sin título de diapositiva</dc:title>
</cp:coreProperties>
</file>