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768-0CF4-48E8-A808-DD2EA897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2AD-D7D8-421D-986E-D977C261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DC4-32A7-4DD1-AC46-95B651F9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C56-F933-491E-A045-0446AB3E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DEE-598B-4860-92C6-4D9DE343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B45-DC28-479A-ACDB-5953EC72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3C7-DCE1-468E-9E25-0C8EB3EB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C02-8811-40CA-8414-64F00686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708-F844-4E8A-B5DB-D662754C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885-60AB-46EE-8A22-327DD6F4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F44-A522-4967-885E-FFEA023A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343-1785-49E6-A6DC-9F742AF2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F5E2-79FB-43B5-A20E-4B2275D3B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920" y="1676520"/>
                <a:ext cx="601344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04T04:37:17Z</dcterms:modified>
  <cp:revision>28</cp:revision>
  <dc:subject/>
  <dc:title>Sin título de diapositiva</dc:title>
</cp:coreProperties>
</file>