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E11-A2EB-4AEF-8C4A-2DC08C39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9DE-BD35-4B1E-9AB5-7F13DCD0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366-718C-4F80-90D8-BBDB39AD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15A-E9BD-4214-833C-4EA405A3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0DE-05C7-4EE5-A0DA-770EA955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E25-6DF4-4779-8D40-BCC34543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C79-7BE5-4C42-8D75-BB0758D2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658-AF6D-418F-BCB5-570D03E1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5B9-93CC-4C49-8973-F8D7E232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73D-8471-460F-8850-A2FC54B4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FE7-57A0-4BA1-9956-56811B18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AE3-3300-4E4D-9A39-069E6477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F7FB-D251-4FBE-9236-9AB6E2CDC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920" y="1676520"/>
                <a:ext cx="601344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1-04T04:37:17Z</dcterms:modified>
  <cp:revision>28</cp:revision>
  <dc:subject/>
  <dc:title>Sin título de diapositiva</dc:title>
</cp:coreProperties>
</file>