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6CFA-5BF3-463C-8997-D6D5C651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FD59-829E-4DFF-8408-A92896D6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A3A-C63D-4D44-908E-2E97693B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D16-083E-448D-970A-F1E72ABD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851-5078-4E3F-A2BF-6242FB81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414-DE5F-4531-A71A-F754F905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FAA-8059-40C9-ACE6-45316A1A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F7D-F1C3-4E7E-ABF1-085DCD5D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54B-5C8B-4B4E-A4FC-D4DDAB7E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27C-1341-499A-9FB0-04375EDF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0AD-24E9-4FE6-85A6-5041DD2E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91C-55AA-421B-AF70-E40B4F25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A49E-5117-4B91-91DF-98D00F9BA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4-10-28T02:31:09Z</dcterms:modified>
  <cp:revision>16</cp:revision>
  <dc:subject/>
  <dc:title>Sin título de diapositiva</dc:title>
</cp:coreProperties>
</file>