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07A-F24D-46E0-AB27-AA629B78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861-8426-47F7-B343-F21E8BF8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3D5-FE36-40C8-BDEF-449C25FB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A3D-C873-4BFB-9067-21D47A44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AD7-F180-4E10-888A-18588B30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A68-98B5-499D-96B8-B6193036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F22-175C-4B05-A766-63C19F88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134-7CED-4839-92DE-3B48830C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E8F-7ADB-4A80-A071-EA9807D4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A03-5381-4570-ACF0-54DBB964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BA7-D525-475A-ACAB-FB4BAC8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9E6-5B02-4174-B69C-6FC1D2F7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4ACD-750C-4922-A58D-26FA954A6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0-28T02:31:09Z</dcterms:modified>
  <cp:revision>16</cp:revision>
  <dc:subject/>
  <dc:title>Sin título de diapositiva</dc:title>
</cp:coreProperties>
</file>