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0DF-72CE-440E-83BA-65006507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B3D-16BF-4303-8201-F394F8A9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32B-D17D-47CC-B800-AA49945B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B53-4BF7-4284-A81F-1F6B8E83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420-57AE-43D9-ADF1-8BD6EBDE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4A3-4A43-476B-8739-04E1D078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201-C7C9-4001-BEF4-13B3195D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B97-8B8D-4D0E-B450-0B9F8A67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0A6-461B-495A-8848-3D50C1BA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0D5-372D-4092-8AAB-6F24E46F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DA0-56C2-4524-B621-0800E82B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7E1-73D2-42F0-B907-C01C0FE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C173-5E40-4154-B07E-324C96D2D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0-28T02:31:09Z</dcterms:modified>
  <cp:revision>16</cp:revision>
  <dc:subject/>
  <dc:title>Sin título de diapositiva</dc:title>
</cp:coreProperties>
</file>