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EEA-1A38-4E96-84D3-67AB922F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042-6209-4D7D-A270-68C06E02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41B-BD3F-4438-834A-C8242A81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4C9-CE39-499B-851A-3CFFA178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3DE-3562-42CA-B009-6827C797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B69-F232-43DE-8F74-94E4DE22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196-EBF4-4DD2-B742-F0EC3355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38A-938D-420E-8151-B4A2C2E5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236-62E2-4112-B069-EB2B5503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309-AB56-4CCF-9BF0-7EC9C5E5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B4A-AD82-4E57-9B43-D1D41F0A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CD5-B64B-4141-8C4E-E3575301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CDE4-8957-42E5-BB8A-F22F72C43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0-28T02:31:09Z</dcterms:modified>
  <cp:revision>16</cp:revision>
  <dc:subject/>
  <dc:title>Sin título de diapositiva</dc:title>
</cp:coreProperties>
</file>