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0EB-1295-4519-9A16-E95118C9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CE8-ADD4-4577-A244-7444E5C4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EB3-2F17-45DE-AD0E-8D4F18EF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A39-23C4-495D-8411-708ADBE7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92B-309E-4BD6-AE42-B475029B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A8C-DE83-460A-B68A-D394475D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BFD-9987-48C4-995E-B4507B94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2E2-E6D1-4847-978A-40E994D5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1D6-D93F-43FA-9994-60C68FC5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D6DB-3763-4EF6-972E-8F88B1EC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52D-94F7-40B6-92F9-73EB6352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3A8-042C-454F-86C0-67331E1B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7F44-93F1-40CE-A7DA-855576639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35360" y="601884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7200" y="1447920"/>
                <a:ext cx="1974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3520" y="2057400"/>
                <a:ext cx="12636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666880" y="16747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E que reproduzca el estado de equilibrio en la red y además el equilibr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2120" y="3200400"/>
                <a:ext cx="81612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533520" y="1828800"/>
                <a:ext cx="80769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92200" y="3352680"/>
                <a:ext cx="13669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981080" y="3505320"/>
                <a:ext cx="18417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733920" y="3505320"/>
                <a:ext cx="98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876920" y="3048120"/>
            <a:ext cx="533160" cy="1752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21600" y="3093840"/>
            <a:ext cx="209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 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56080" y="408456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6240" y="495180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i existe flujo en el par ij ento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04920" y="5562720"/>
                <a:ext cx="281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581280" y="5562720"/>
                <a:ext cx="19051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229440" y="5562720"/>
                <a:ext cx="1789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589280" y="62474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Costo del par 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77120" y="6019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0-26T03:01:43Z</dcterms:modified>
  <cp:revision>5</cp:revision>
  <dc:subject/>
  <dc:title>Sin título de diapositiva</dc:title>
</cp:coreProperties>
</file>