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794E-925A-4C22-84CB-BC06C3547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E4B9-8EAC-45F2-B059-7A85C55CC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816C-402F-4E9B-9162-D0F9BBA02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5145-1D19-4222-8C67-2420CEABB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A574-19F5-448F-887B-C62107FC1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EF1D-FBB4-4801-8098-2E9F50796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F276-6AA5-4DDE-9320-748D216B0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B825-242D-465B-A6B7-01033F04D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0DBB-23B8-42E1-BA54-BB8F2C169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5A61-F2BD-4622-ACA0-FCCFEF8A2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824E-631A-4D80-ACAD-22184C36E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1982-EE59-4C9D-9AC2-29A84568F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FF804-8206-44DC-A165-60893072E6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99320" y="837000"/>
            <a:ext cx="790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 de Optimización Equivalente para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685800" y="1600200"/>
                <a:ext cx="288756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3" name=""/>
          <p:cNvSpPr/>
          <p:nvPr/>
        </p:nvSpPr>
        <p:spPr>
          <a:xfrm>
            <a:off x="3828240" y="141912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15000" y="195084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16360" y="198288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21600" y="167688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≥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895000" y="141912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76720" y="1950840"/>
            <a:ext cx="61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883120" y="198288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91760" y="1675440"/>
            <a:ext cx="6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=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609480" y="2743200"/>
                <a:ext cx="3413160" cy="350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419720" y="2735280"/>
            <a:ext cx="4572000" cy="34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solución de este problema coincide con las condiciones de Wardrop. ==&gt; al resolver este P.O.E.  se encuentra el equilib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en todos los arcos existe algún nivel de congestión, entonces el problema tiene solución única en términos de flujos en arc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No se puede demostrar lo mismo para el caso de flujos en ru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 Clase 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666080" y="451800"/>
            <a:ext cx="5811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 de Optimización Equivalen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ara el Optimo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304920" y="1676520"/>
                <a:ext cx="3413160" cy="38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4648320" y="1676520"/>
                <a:ext cx="3813120" cy="387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mg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3809880" y="3276720"/>
            <a:ext cx="762120" cy="380880"/>
          </a:xfrm>
          <a:prstGeom prst="leftRightArrow">
            <a:avLst>
              <a:gd name="adj1" fmla="val 50000"/>
              <a:gd name="adj2" fmla="val 39834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26720" y="5980680"/>
            <a:ext cx="524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mostración análoga a la ant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80880" y="645120"/>
            <a:ext cx="7925040" cy="33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¿Qué pasa si la demanda es elástic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 depende de c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imultáneamente con encontrar el equilibrio en la red, hay que encontrar el equilibrio de merc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Gráfica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 flipV="1">
            <a:off x="2057400" y="15238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57400" y="518148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17120" y="1477080"/>
            <a:ext cx="27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 rot="10721400">
            <a:off x="6629040" y="5331960"/>
            <a:ext cx="30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057400" y="2514600"/>
            <a:ext cx="2209680" cy="2362320"/>
          </a:xfrm>
          <a:custGeom>
            <a:avLst/>
            <a:gdLst/>
            <a:ahLst/>
            <a:rect l="l" t="t" r="r" b="b"/>
            <a:pathLst>
              <a:path w="1392" h="1488">
                <a:moveTo>
                  <a:pt x="0" y="1488"/>
                </a:moveTo>
                <a:cubicBezTo>
                  <a:pt x="340" y="1444"/>
                  <a:pt x="680" y="1400"/>
                  <a:pt x="912" y="1152"/>
                </a:cubicBezTo>
                <a:cubicBezTo>
                  <a:pt x="1144" y="904"/>
                  <a:pt x="1268" y="452"/>
                  <a:pt x="1392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 rot="10800000">
            <a:off x="3733920" y="2056320"/>
            <a:ext cx="106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uta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057400" y="2438280"/>
            <a:ext cx="3200400" cy="2057400"/>
          </a:xfrm>
          <a:custGeom>
            <a:avLst/>
            <a:gdLst/>
            <a:ahLst/>
            <a:rect l="l" t="t" r="r" b="b"/>
            <a:pathLst>
              <a:path w="2016" h="1296">
                <a:moveTo>
                  <a:pt x="0" y="1296"/>
                </a:moveTo>
                <a:cubicBezTo>
                  <a:pt x="528" y="1236"/>
                  <a:pt x="1056" y="1176"/>
                  <a:pt x="1392" y="960"/>
                </a:cubicBezTo>
                <a:cubicBezTo>
                  <a:pt x="1728" y="744"/>
                  <a:pt x="1872" y="372"/>
                  <a:pt x="2016" y="0"/>
                </a:cubicBezTo>
              </a:path>
            </a:pathLst>
          </a:custGeom>
          <a:noFill/>
          <a:ln w="936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 rot="10800000">
            <a:off x="4800240" y="2056320"/>
            <a:ext cx="10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Ruta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rot="21315600">
            <a:off x="2057040" y="4495320"/>
            <a:ext cx="1297080" cy="304920"/>
          </a:xfrm>
          <a:custGeom>
            <a:avLst/>
            <a:gdLst/>
            <a:ahLst/>
            <a:rect l="l" t="t" r="r" b="b"/>
            <a:pathLst>
              <a:path w="1392" h="1488">
                <a:moveTo>
                  <a:pt x="0" y="1488"/>
                </a:moveTo>
                <a:cubicBezTo>
                  <a:pt x="340" y="1444"/>
                  <a:pt x="680" y="1400"/>
                  <a:pt x="912" y="1152"/>
                </a:cubicBezTo>
                <a:cubicBezTo>
                  <a:pt x="1144" y="904"/>
                  <a:pt x="1268" y="452"/>
                  <a:pt x="1392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76720" y="2514600"/>
            <a:ext cx="3962160" cy="1981080"/>
          </a:xfrm>
          <a:custGeom>
            <a:avLst/>
            <a:gdLst/>
            <a:ahLst/>
            <a:rect l="l" t="t" r="r" b="b"/>
            <a:pathLst>
              <a:path w="2016" h="1296">
                <a:moveTo>
                  <a:pt x="0" y="1296"/>
                </a:moveTo>
                <a:cubicBezTo>
                  <a:pt x="528" y="1236"/>
                  <a:pt x="1056" y="1176"/>
                  <a:pt x="1392" y="960"/>
                </a:cubicBezTo>
                <a:cubicBezTo>
                  <a:pt x="1728" y="744"/>
                  <a:pt x="1872" y="372"/>
                  <a:pt x="2016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 rot="10800000">
            <a:off x="6629040" y="2132640"/>
            <a:ext cx="10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4266360" y="1676520"/>
            <a:ext cx="4038840" cy="2895480"/>
          </a:xfrm>
          <a:custGeom>
            <a:avLst/>
            <a:gdLst/>
            <a:ahLst/>
            <a:rect l="l" t="t" r="r" b="b"/>
            <a:pathLst>
              <a:path w="2016" h="1296">
                <a:moveTo>
                  <a:pt x="0" y="1296"/>
                </a:moveTo>
                <a:cubicBezTo>
                  <a:pt x="528" y="1236"/>
                  <a:pt x="1056" y="1176"/>
                  <a:pt x="1392" y="960"/>
                </a:cubicBezTo>
                <a:cubicBezTo>
                  <a:pt x="1728" y="744"/>
                  <a:pt x="1872" y="372"/>
                  <a:pt x="2016" y="0"/>
                </a:cubicBezTo>
              </a:path>
            </a:pathLst>
          </a:custGeom>
          <a:noFill/>
          <a:ln w="572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 rot="10800000">
            <a:off x="7540200" y="4491360"/>
            <a:ext cx="129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Comic Sans MS"/>
              </a:rPr>
              <a:t>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2057040" y="4038480"/>
            <a:ext cx="38098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 rot="10721400">
            <a:off x="3352320" y="3731760"/>
            <a:ext cx="4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 rot="10721400">
            <a:off x="3806280" y="372924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867280" y="40384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 rot="10800000">
            <a:off x="5406840" y="52488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1+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 rot="10800000">
            <a:off x="2362320" y="76104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Curva de 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035360" y="6018840"/>
            <a:ext cx="35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mar horizontal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66080" y="451800"/>
            <a:ext cx="5811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 de Optimización Equivalen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on demanda elá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457200" y="1447920"/>
                <a:ext cx="197496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(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533520" y="2057400"/>
                <a:ext cx="1263600" cy="10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2666880" y="1674720"/>
            <a:ext cx="601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OE que reproduzca el estado de equilibrio en la red y además el equilibrio de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762120" y="3200400"/>
                <a:ext cx="8161200" cy="34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  <m:r>
                                  <m:t xml:space="preserve">−</m:t>
                                </m:r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nary>
                                      <m:naryPr>
                                        <m:chr m:val="∫"/>
                                        <m:subHide m:val="1"/>
                                        <m:supHide m:val="1"/>
                                      </m:naryPr>
                                      <m:sub/>
                                      <m:sup/>
                                      <m:e>
                                        <m:sSubSup>
                                          <m:e>
                                            <m:r>
                                              <m:t xml:space="preserve">D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ij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−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p>
                                        </m:sSub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x</m:t>
                                        </m:r>
                                        <m:r>
                                          <m:t xml:space="preserve">)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</m:nary>
                                  </m:e>
                                </m:nary>
                              </m:e>
                            </m:nary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666080" y="451800"/>
            <a:ext cx="5811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 de Optimización Equivalen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on demanda elá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533520" y="1828800"/>
                <a:ext cx="8076960" cy="11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f</m:t>
                        </m:r>
                      </m:e>
                    </m:d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(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p>
                        </m:sSup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592200" y="3352680"/>
                <a:ext cx="1366920" cy="12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1981080" y="3505320"/>
                <a:ext cx="184176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3733920" y="3505320"/>
                <a:ext cx="984240" cy="81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4876920" y="3048120"/>
            <a:ext cx="533160" cy="1752480"/>
          </a:xfrm>
          <a:custGeom>
            <a:avLst/>
            <a:gdLst>
              <a:gd name="textAreaLeft" fmla="*/ 340560 w 533160"/>
              <a:gd name="textAreaRight" fmla="*/ 533520 w 53316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21600" y="3093840"/>
            <a:ext cx="2098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= 0    si T</a:t>
            </a:r>
            <a:r>
              <a:rPr b="0" i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&gt;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56080" y="4084560"/>
            <a:ext cx="2140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0    si T</a:t>
            </a:r>
            <a:r>
              <a:rPr b="0" i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96240" y="4951800"/>
            <a:ext cx="50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i existe flujo en el par ij ento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304920" y="5562720"/>
                <a:ext cx="281916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3581280" y="5562720"/>
                <a:ext cx="1905120" cy="59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6229440" y="5562720"/>
                <a:ext cx="1789200" cy="59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4589280" y="624744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Costo del par i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6477120" y="6019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3T02:00:03Z</dcterms:created>
  <dc:creator>Marcela Munizaga</dc:creator>
  <dc:description/>
  <dc:language>en-US</dc:language>
  <cp:lastModifiedBy>Marcela Munizaga</cp:lastModifiedBy>
  <dcterms:modified xsi:type="dcterms:W3CDTF">2004-10-26T03:01:43Z</dcterms:modified>
  <cp:revision>5</cp:revision>
  <dc:subject/>
  <dc:title>Sin título de diapositiva</dc:title>
</cp:coreProperties>
</file>