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BA7-BD49-4A53-ABF1-8561561F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930-5465-4C9E-A745-7B5003B1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C4A-56B2-422F-B17E-42B8874F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8C4-9B2D-4872-A59B-2D8BF36A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17-9CA5-47C7-BB57-E8DAB8E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229-D412-4091-8162-D5BEAA5A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48A-5D22-4CF5-A89B-54925C2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829-85D8-4BAA-A1E4-2E1B78B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5E4-340B-44C0-8C6C-0F9E485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A17-A2D0-4144-A5CD-1AFF6C7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CD7-272C-4166-92E7-2981B1D4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C6C-9E7E-4195-BB62-F090A26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785-CDED-47FC-B583-50A9C6412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5360" y="601884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6T03:01:43Z</dcterms:modified>
  <cp:revision>5</cp:revision>
  <dc:subject/>
  <dc:title>Sin título de diapositiva</dc:title>
</cp:coreProperties>
</file>