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B2E-898E-44CB-89A2-214ADC58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9A0-AD00-4192-971B-8A67F898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9A1-2902-4701-9077-9C895ADA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9C0-F329-437A-B61F-4E66FC21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2C9-68AA-48B1-B381-F7CD59B7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035-408C-40BD-B993-58E227E9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AD8-51C9-4923-8CF9-E88667AB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417-935D-4C7E-AF99-8D571FB3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F08-4355-4E13-A746-2B9CA7A6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51D-2C03-4138-9738-45CF77A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0F6-C32C-4785-8B94-6E5EB7CA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9E8-2B7A-4A83-952C-FA4FF744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4935-18CD-4C67-818E-30A8E9240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22T03:03:42Z</dcterms:modified>
  <cp:revision>151</cp:revision>
  <dc:subject/>
  <dc:title>Sin título de diapositiva</dc:title>
</cp:coreProperties>
</file>