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FD4-6178-4FFC-908D-A6A8A4AE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3E3-BBAC-44F7-8672-63C269A6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4DB-9EA7-406A-9F71-DD326E50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937-76D3-4B5F-8168-2BC7B4E3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329C-7464-41C2-A660-DB2147AD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85D-4FD7-4FB9-BD70-6683271D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5E8-B1DE-41C5-8F81-7BAED155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FAE-0B41-4D1B-A46C-33A0272C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CA5-6714-467F-9F15-001E8750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3EE0-2167-4A42-9653-3E2A4CBD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6FE-0D01-49F2-AD63-2BE7DE98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8BA0-BBC0-4007-9379-A73BFCD4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0DBC-A09D-43BB-B764-60009F36A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22T03:03:42Z</dcterms:modified>
  <cp:revision>151</cp:revision>
  <dc:subject/>
  <dc:title>Sin título de diapositiva</dc:title>
</cp:coreProperties>
</file>