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6E155-D29D-4E47-A1DB-7EEAFBB1A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415CD-0E69-4801-9FCF-66E676356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C3ADC-E65E-44FD-931C-A80E43DEC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CA168-94A0-4070-9B25-57C621EE9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42BEC-32A5-4201-9EDA-357A7E300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B3DE4-FF04-4D7E-A607-AA0516A4F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DEEA4-D277-4B8C-9861-B14E99005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D01D8-8F9F-4F36-8B6D-CF5E70C5C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FA3D3-E38C-48D0-B462-757033497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7D113-5DF7-4067-8878-7E34C49CF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80051-F3DB-4403-AE58-17EDBC508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B6A8F-66E0-4541-8811-7327D818C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D8252-5C60-43B2-AD6A-46420A35A0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Tarificación por congest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Volvamos al ejemplo más si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80880" y="211464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295280" y="245124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267080" y="237492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371600" y="2527200"/>
            <a:ext cx="2819520" cy="685800"/>
          </a:xfrm>
          <a:custGeom>
            <a:avLst/>
            <a:gdLst/>
            <a:ahLst/>
            <a:rect l="l" t="t" r="r" b="b"/>
            <a:pathLst>
              <a:path w="1776" h="432">
                <a:moveTo>
                  <a:pt x="0" y="0"/>
                </a:moveTo>
                <a:cubicBezTo>
                  <a:pt x="212" y="216"/>
                  <a:pt x="424" y="432"/>
                  <a:pt x="720" y="432"/>
                </a:cubicBezTo>
                <a:cubicBezTo>
                  <a:pt x="1016" y="432"/>
                  <a:pt x="1396" y="216"/>
                  <a:pt x="177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371600" y="1905120"/>
            <a:ext cx="2743200" cy="469800"/>
          </a:xfrm>
          <a:custGeom>
            <a:avLst/>
            <a:gdLst/>
            <a:ahLst/>
            <a:rect l="l" t="t" r="r" b="b"/>
            <a:pathLst>
              <a:path w="1728" h="296">
                <a:moveTo>
                  <a:pt x="1728" y="248"/>
                </a:moveTo>
                <a:cubicBezTo>
                  <a:pt x="1416" y="124"/>
                  <a:pt x="1104" y="0"/>
                  <a:pt x="816" y="8"/>
                </a:cubicBezTo>
                <a:cubicBezTo>
                  <a:pt x="528" y="16"/>
                  <a:pt x="264" y="156"/>
                  <a:pt x="0" y="29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392200" y="1566000"/>
            <a:ext cx="77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1=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900440" y="3288240"/>
            <a:ext cx="113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2=5+2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220860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625440" y="1899000"/>
            <a:ext cx="146088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me1=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me2=5+2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mg1=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mg2=5+4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333800" y="4229640"/>
            <a:ext cx="22867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quilibrio: t1=t2=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1=7,5   f2=2,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36720" y="4305960"/>
            <a:ext cx="38854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timo del sistema: tmg1=tmg2=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1=8,75   f2=1,2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43200" y="5253480"/>
            <a:ext cx="75628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¿Cuánto se debe cobrar para lograr el óptimo del sistema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TARIFA=</a:t>
            </a:r>
            <a:r>
              <a:rPr b="1" lang="es-ES_tradnl" sz="2000" spc="-1" strike="noStrike">
                <a:solidFill>
                  <a:srgbClr val="ff3300"/>
                </a:solidFill>
                <a:latin typeface="Comic Sans MS"/>
              </a:rPr>
              <a:t>VST(tmg*-tme*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52280" y="30492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CI43A Análisis de Sistemas de Transporte: Clase 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77280" y="379800"/>
            <a:ext cx="212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Gráficam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1981080" y="137160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81080" y="5562720"/>
            <a:ext cx="4800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506240" y="2894760"/>
            <a:ext cx="41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03400" y="5744160"/>
            <a:ext cx="41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057400" y="57150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6781680" y="1676160"/>
            <a:ext cx="0" cy="3886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840000" y="2894760"/>
            <a:ext cx="41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324480" y="57150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315120" y="5713920"/>
            <a:ext cx="41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981080" y="2743200"/>
            <a:ext cx="3581640" cy="22986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981080" y="1752480"/>
            <a:ext cx="3353040" cy="327672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4419000" y="2286000"/>
            <a:ext cx="2361960" cy="214632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5181480" y="1905120"/>
            <a:ext cx="1524240" cy="25146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5257800" y="2286000"/>
            <a:ext cx="1752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901920" y="2040480"/>
            <a:ext cx="159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mg1=tmg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981080" y="228600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83240" y="2040480"/>
            <a:ext cx="95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mg1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181480" y="228600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1981080" y="3733920"/>
            <a:ext cx="3200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422720" y="3504240"/>
            <a:ext cx="55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1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066680" y="2286000"/>
            <a:ext cx="152640" cy="1447920"/>
          </a:xfrm>
          <a:custGeom>
            <a:avLst/>
            <a:gdLst>
              <a:gd name="textAreaLeft" fmla="*/ 97560 w 152640"/>
              <a:gd name="textAreaRight" fmla="*/ 153000 w 15264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3240" y="2589840"/>
            <a:ext cx="96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tarifa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28600" y="29718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8720" y="2925000"/>
            <a:ext cx="61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V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1814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181480" y="411480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854760" y="3961440"/>
            <a:ext cx="55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2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086600" y="2286000"/>
            <a:ext cx="380880" cy="1828800"/>
          </a:xfrm>
          <a:custGeom>
            <a:avLst/>
            <a:gdLst>
              <a:gd name="textAreaLeft" fmla="*/ 0 w 380880"/>
              <a:gd name="textAreaRight" fmla="*/ 137520 w 38088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708320" y="2788200"/>
            <a:ext cx="96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tarifa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843680" y="317016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813800" y="3123360"/>
            <a:ext cx="61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V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556920" y="1269360"/>
            <a:ext cx="8122320" cy="39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as condiciones de equilibrio pueden expresarse com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ar 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* 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 en P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/ 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&gt;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* 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 en P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/ 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*: costo observado de equilib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conjunto de todas las rutas que conectan el par i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nálogamen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H)-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*)=0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par ij, ruta p en P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764360" y="456120"/>
            <a:ext cx="587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Problemas de Optimización Equival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634320" y="1294200"/>
            <a:ext cx="405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ransformada de Beck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764360" y="456120"/>
            <a:ext cx="587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Problemas de Optimización Equival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2438280"/>
            <a:ext cx="8534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5000"/>
          </a:bodyPr>
          <a:p>
            <a:pPr marL="257040" indent="-257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costo percibido por el usuario del arco a --&gt; depende sólo del flujo en ese ar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-257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008720" y="3400200"/>
            <a:ext cx="749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095480" y="3932280"/>
            <a:ext cx="607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996840" y="3963960"/>
            <a:ext cx="762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702440" y="365796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≥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075840" y="3400200"/>
            <a:ext cx="749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157200" y="3932280"/>
            <a:ext cx="618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063960" y="3963960"/>
            <a:ext cx="761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887640" y="3656520"/>
            <a:ext cx="420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= 0 para todo b distinto de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4952880" y="1219320"/>
                <a:ext cx="3565800" cy="12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</m:sub>
                      <m:sup/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764360" y="456120"/>
            <a:ext cx="587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Problemas de Optimización Equival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209120" y="1114200"/>
            <a:ext cx="749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295880" y="1646280"/>
            <a:ext cx="607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197240" y="1677960"/>
            <a:ext cx="762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902840" y="137196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≥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895000" y="1114200"/>
            <a:ext cx="749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976720" y="1646280"/>
            <a:ext cx="618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883120" y="1677960"/>
            <a:ext cx="762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791760" y="1370520"/>
            <a:ext cx="68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= 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762120" y="2286000"/>
                <a:ext cx="3782880" cy="388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  <m:r>
                          <m:t xml:space="preserve"> </m:t>
                        </m:r>
                        <m:r>
                          <m:t xml:space="preserve">Z</m:t>
                        </m:r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p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p>
                            </m:sSup>
                          </m:sub>
                          <m:sup/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p>
                            </m:sSup>
                            <m:r>
                              <m:t xml:space="preserve"> </m:t>
                            </m:r>
                            <m:r>
                              <m:t xml:space="preserve">∀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par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e>
                        </m:nary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p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δ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p</m:t>
                                </m:r>
                              </m:sub>
                            </m:sSub>
                          </m:e>
                        </m:nary>
                        <m:r>
                          <m:t xml:space="preserve"> </m:t>
                        </m:r>
                        <m:r>
                          <m:t xml:space="preserve">∀</m:t>
                        </m:r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e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≥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2" name=""/>
          <p:cNvSpPr/>
          <p:nvPr/>
        </p:nvSpPr>
        <p:spPr>
          <a:xfrm>
            <a:off x="5334120" y="2187720"/>
            <a:ext cx="3276360" cy="40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Si logro demostrar que la solución de este problema cumple las condiciones de Wardrop, habré encontrado una forma de encontrar el equilibri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Gráficamente ..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Analíticamente 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228600" y="1066680"/>
                <a:ext cx="3565440" cy="122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</m:sub>
                      <m:sup/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4T01:13:12Z</dcterms:created>
  <dc:creator>Marcela Munizaga</dc:creator>
  <dc:description/>
  <dc:language>en-US</dc:language>
  <cp:lastModifiedBy>Marcela Munizaga</cp:lastModifiedBy>
  <dcterms:modified xsi:type="dcterms:W3CDTF">2004-10-22T03:03:42Z</dcterms:modified>
  <cp:revision>151</cp:revision>
  <dc:subject/>
  <dc:title>Sin título de diapositiva</dc:title>
</cp:coreProperties>
</file>