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D885-5BBD-4072-A733-78D97031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91F-2169-4698-8FB5-B0E8BCB2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ABA-BE2E-40A4-8354-6C3B7BB2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EB91-83CE-40FA-8C6F-4199CBA1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5CA1-EE09-462C-BAEF-A1913827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A16-96F5-4197-8244-22951E18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9C3-1E27-4719-BAC4-C4AEC757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F4D-8C04-4A22-89B2-0803ECC7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6CB-1F7E-48A8-B8FA-4B87A78E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406-83DA-483B-A7F3-EBB88048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17DC-AA02-46EA-9D17-FB4F24EA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37B-C88B-4E32-8CF0-6E0D9A7B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DA60-9984-4EB8-9008-8F84A39DC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22T03:03:42Z</dcterms:modified>
  <cp:revision>151</cp:revision>
  <dc:subject/>
  <dc:title>Sin título de diapositiva</dc:title>
</cp:coreProperties>
</file>