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E14D-73BA-4545-A757-01D652E2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E64F-F20A-4644-8010-32E1703C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77E6-5932-4A99-AB21-03F146A0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42A-9EE8-4BC8-84D3-29A3CDED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6FBA-3BB3-440C-853B-55FFEA89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D114-30D2-4C76-BD45-93D930E4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7667-9654-4F1F-BD5F-714C3B0D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0EB-E307-4AB6-8EAB-E31ADE54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EBCE-9955-4221-847C-E543E2E4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E598-2F2C-433A-B10E-3F044542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D99A-F5BE-470C-8C05-64E8323E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272-D508-4307-BCDC-D003DDFD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4953-3E75-4A82-A166-1FD8B451E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10-22T03:03:42Z</dcterms:modified>
  <cp:revision>151</cp:revision>
  <dc:subject/>
  <dc:title>Sin título de diapositiva</dc:title>
</cp:coreProperties>
</file>