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86B-0ACC-4705-A751-2B7ED93C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73A-2461-4067-BAF2-9B21116F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32D-A863-4641-B27E-6AFBA4EF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A93-3061-431E-8DF5-A8DD8CD5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F16-6C6B-48FB-A16E-914F2E70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6CA-B9D8-4105-AE60-A0D0F0B9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903-4758-4BCD-AF98-5B1D6599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2D0-99CF-4488-8915-55B58BE7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74C-E4E8-4010-9677-BF8DEAFE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989-BE48-4807-AFFB-131E6696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C3E-DBCB-4DBA-9504-B9E98613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704-48CA-47A2-A57A-0CD6680D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168C-88B6-4CE0-9085-5D3569610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22T03:03:42Z</dcterms:modified>
  <cp:revision>151</cp:revision>
  <dc:subject/>
  <dc:title>Sin título de diapositiva</dc:title>
</cp:coreProperties>
</file>