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BAB9-DF9B-4631-858D-347C2299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370-3455-40AD-AB12-C8A7D39A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C924-FB02-4B70-B280-01328C9C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899-C535-4481-9497-274326AD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AF65-D229-4E71-8507-561D8B7B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DC04-F347-475C-BA05-A5DB89BC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E123-7908-41CE-AF5B-2F907E1E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1EAB-3C90-4FFE-BE81-09AC19B8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A73-ED2F-48F0-9CD8-EE1DF425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D98B-BE4C-46D3-B79B-464C00DF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4FB-894F-4640-AD2F-0DEC92D7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82D6-84F1-4748-9114-1DFF054A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5C63-40AD-4037-86F1-038C5356C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22T03:03:42Z</dcterms:modified>
  <cp:revision>151</cp:revision>
  <dc:subject/>
  <dc:title>Sin título de diapositiva</dc:title>
</cp:coreProperties>
</file>