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27B5-9FA2-47AC-A0A5-5CF72959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8DED-F001-4A56-AC54-D9EBDCD2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E40E-B9B9-4164-849E-B102B949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1FD9-A825-41CE-A579-0C3C90A0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EAAB-FA3F-4E57-8F75-37D8B8BB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8B04-2720-4EF5-9137-4DF9ACA4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316B-7E96-4841-8522-3F44332A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F70B-F065-4504-9E9A-40BA3C20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B7A1-304A-4679-81C6-AEE422DC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CE1B-5645-4F83-98C0-7E483C2F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9117-4679-4500-AD4E-AC725683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24AC-F7C8-49D3-BA1A-BB9EB325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ED17-A78A-4303-952F-B8053D34D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930240"/>
            <a:ext cx="74674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76212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76212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0200" y="3352680"/>
            <a:ext cx="2057400" cy="13845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2666880"/>
            <a:ext cx="1676520" cy="20574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10-19T02:17:40Z</dcterms:modified>
  <cp:revision>146</cp:revision>
  <dc:subject/>
  <dc:title>Sin título de diapositiva</dc:title>
</cp:coreProperties>
</file>