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A36-7FE5-4B16-A81A-B7E1D90D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49C-BA14-4F05-985B-0B3E2712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D73-9192-46D8-B3C3-9D8289BC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580-56B4-4A2F-A612-2870423B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CF3-F5AB-43BF-B97F-73CD6CDA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120-F86B-4D0A-9D3C-7831F7FB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6B2-0DAC-4937-BE55-9F068756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7EB-F2E6-4315-AED9-A8D0047F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49E-5EFF-4CDE-A9AC-1D13F22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80A-11FD-4E5F-A7B2-C2DAE38B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E70-EAD7-4A3F-A42A-6C7E9EFA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980-6460-40C7-BA08-DC516953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975B-7B3F-422A-BDF9-396DCAEDC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19T02:17:40Z</dcterms:modified>
  <cp:revision>146</cp:revision>
  <dc:subject/>
  <dc:title>Sin título de diapositiva</dc:title>
</cp:coreProperties>
</file>