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36F-8ED9-4551-91A0-56D829C5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66C-B590-483D-A5A4-D323B59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16B-ED0D-4166-9449-1BC436C8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6C7-6ACA-420A-A52D-48800AF4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369-7843-4568-8FDF-C6C9EA89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73D-A2C5-4977-89A4-F7F2627E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F6B-EE36-4BB1-903D-98B9F6E0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9F5-A7F4-4D20-AC1F-92B3C409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B83-BD50-4135-8C1A-8E72DBE6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FFF-FFA5-4F17-B577-E24245E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440-8E95-460C-8BB5-235F3A8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F22-D50C-4802-A3ED-B7EC93A9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A14B-4DB2-47BD-A15E-573257408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19T02:17:40Z</dcterms:modified>
  <cp:revision>146</cp:revision>
  <dc:subject/>
  <dc:title>Sin título de diapositiva</dc:title>
</cp:coreProperties>
</file>