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A20D-3DD1-43C0-9EDB-344C707A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1BC-D5E7-4399-B99E-5449B884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143B-1D07-4D05-87BC-9D45EA15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2DF-EB91-4FD6-82D3-2B8B626A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E75-66C9-4F61-9C1B-71F54233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A8D-075C-479F-BFC4-AFA94340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0C53-D0B6-4984-9C51-1EA5729B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111F-D605-4B08-9B95-BD833474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AE2-1A65-4A27-A5F2-1DF09464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8A13-0F3F-47BB-B463-D647E8E8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6B3-D5CC-4CE1-B1A5-32D59493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4F0-55F2-4DFE-B71B-B1CA977F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C3CB-B01D-467E-BF9B-11724273F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19T02:17:40Z</dcterms:modified>
  <cp:revision>146</cp:revision>
  <dc:subject/>
  <dc:title>Sin título de diapositiva</dc:title>
</cp:coreProperties>
</file>