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140-0DFE-4B98-9AF2-0FC61E5B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862-F5F5-40AF-8F99-CAB216AD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B3A-DFA8-4E08-B5A8-4A63A9E6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F19-37CF-4D3F-B9E6-ABC908F5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AE5-AF80-47F8-B90B-2BDCF729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5EA-D7C2-4D04-860B-5DA27EFA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594-BDB4-4403-8950-51C40031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332-EC83-4955-975C-4F404FB0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8D0-6D8C-4581-81B9-816AC5D5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46B-42A4-44BB-97D9-9B5705E5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6F6-59FE-41AD-9188-735F9CC3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EBA-231D-439B-A61B-A7C8D458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4FB1-A69C-4C11-BBEE-55641673C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58000"/>
            <a:ext cx="78487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07T04:01:33Z</dcterms:modified>
  <cp:revision>139</cp:revision>
  <dc:subject/>
  <dc:title>Sin título de diapositiva</dc:title>
</cp:coreProperties>
</file>