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2E1-10BF-496C-819D-3971CE19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E99-8481-4170-AA00-E6864B35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F1C-5C3C-4E03-BBE9-EAC0F152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61A-73AA-4E71-B013-7D9B02A4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146-E740-4659-828D-3CD3124A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E94-748D-4EBE-9500-AB820551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F26-E5B2-4DE2-BA37-556B71BF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834-219A-4C10-9E26-F96D42ED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A68-9EBF-4BE1-B503-FF0AD8AD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2F9-A9CF-4406-9FCE-14FE1741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482-87EB-4386-B4E2-A47E5E5E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819-8C63-4ED6-9028-AFDA4319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9327-2DDD-4D30-A55B-F509647E0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58000"/>
            <a:ext cx="7848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07T04:01:33Z</dcterms:modified>
  <cp:revision>139</cp:revision>
  <dc:subject/>
  <dc:title>Sin título de diapositiva</dc:title>
</cp:coreProperties>
</file>