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FB1-A877-408E-B294-702E2CD9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F0E0-26CD-4B92-8841-FC264E76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441-F7D3-46A6-BADD-5328B15F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FB4-8AD5-4BD9-A86F-93956038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628-BF39-4C68-939F-3CFB335D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F047-D7CE-461B-A115-E3467E85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D88-6C8D-4FC1-A1F1-0F731A25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ADF5-1EE1-483E-ADAB-B4AD6460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7F2-7478-4AA7-B95F-BFA71773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4CE-16BD-47B5-AB42-378FC2DC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FD1-3B20-4979-8D6D-DED36F52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9DD1-2CB5-47F7-BB26-AF42A712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8AEC-6191-4A79-93F8-341DC5BA0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5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6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17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18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19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0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1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2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3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4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5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6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27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28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29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0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1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2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3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4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5.wmf"/><Relationship Id="rId7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58000"/>
            <a:ext cx="784872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07T04:01:33Z</dcterms:modified>
  <cp:revision>139</cp:revision>
  <dc:subject/>
  <dc:title>Sin título de diapositiva</dc:title>
</cp:coreProperties>
</file>