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66B-E44F-4895-A93A-D436F1BF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416-D787-4C7E-A3B2-4586776D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607-F516-4699-B7C2-52161166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D10-285B-459E-987F-B5791CAE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5BA-5F76-4802-BD78-7F573FC4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6AE-A744-4AA0-9C50-7FA24CC9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47B-8D94-4231-9FB0-F5221F3B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B70-37F3-449B-A620-FAA29D60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17A-F959-43D3-B73E-729FF8D1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2B9-2DC6-4DC6-8B92-54B94520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049-6C51-4CAC-A45C-95D255B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4B8-8B9C-49D0-A97C-6035B06C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EDC1-857E-4FC6-B65B-E747FAEDD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58000"/>
            <a:ext cx="7848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07T04:01:33Z</dcterms:modified>
  <cp:revision>139</cp:revision>
  <dc:subject/>
  <dc:title>Sin título de diapositiva</dc:title>
</cp:coreProperties>
</file>