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52D-9B80-4C5D-B5FD-6E6624A6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469-5BB6-4CD5-8A3A-A15B271C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693-BB74-439D-9632-862A5656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CA8-7C69-4637-8811-4743C621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D1C-4BFB-4ACE-AE1E-A4EF8AF5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B66-346C-4A2D-A462-5CB6A896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F6EA-9298-45F1-9D72-CD6DAFA5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9E9-6CE2-41C2-8371-A156BA6C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6D3-2106-457A-8CD8-8CD167B8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735-54E3-421F-BD1F-568D7F64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7EF-018F-469F-A3E4-8E9D037D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6E3-9D27-42BC-820F-7B69C2AE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AF93-49F2-4822-A707-7B92BC7BA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9800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208600"/>
            <a:ext cx="4724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65760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lujo en redes y leyes de conservació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0840" y="433908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38080" y="5334120"/>
                <a:ext cx="31244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09480" y="426708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58056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477120" y="4114800"/>
                <a:ext cx="20574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477120" y="525780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172200" y="342900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a la ruta 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07T01:31:44Z</dcterms:modified>
  <cp:revision>132</cp:revision>
  <dc:subject/>
  <dc:title>Sin título de diapositiva</dc:title>
</cp:coreProperties>
</file>