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6A9-A8F8-4ABF-9D33-919CC427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071-41B5-4155-A13C-56C27D7C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5A1-C3EE-483C-B48E-D207BB79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259-F17F-45D9-91E1-ECCBF71F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5BE-9A2B-43B8-83F8-FCE3CF6F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4D0-0F53-42D2-BF45-D4AEEC7A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FCF-4EF4-4293-9BF3-C8088DFE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D57-CEF6-48D2-8030-0017EABE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521-7F59-42A9-9BE3-ED347DF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273-E1EB-4059-8D34-5207239E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477-68D8-4FBE-9E8E-354E35DE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B2E-D5FA-437E-AC74-CBEC0E7C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C113-7C8A-4770-92B2-0AEB7A5E3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9800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8600"/>
            <a:ext cx="4724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6576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lujo en redes y leyes de conservació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0840" y="433908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38080" y="5334120"/>
                <a:ext cx="31244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09480" y="426708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5805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477120" y="4114800"/>
                <a:ext cx="2057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477120" y="525780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172200" y="342900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a la ruta 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07T01:31:44Z</dcterms:modified>
  <cp:revision>132</cp:revision>
  <dc:subject/>
  <dc:title>Sin título de diapositiva</dc:title>
</cp:coreProperties>
</file>