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38E-6CD4-4E46-876E-93719E3D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238-EE0F-4041-A111-A88A93BB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BD2-B003-438C-995F-90614C5D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621-1CF5-421D-B48A-B3CE7316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F07-3F1D-4D76-AEE5-09611B1F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D4A-1EEA-4E05-B7C7-2BB28AE1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7FD-7370-4B95-AB80-6075874E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498-11AA-4EFB-9A98-8E67E179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1C5-98A4-463D-9D1E-E16A6E33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6CF-404D-49E8-ADD8-430CE468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43F-7074-4CD4-B8BA-7205D22D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71A-8805-4FB2-B366-0A140C73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29E2-9530-4EB9-8021-66F4C0CC0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9800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8600"/>
            <a:ext cx="4724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6576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lujo en redes y leyes de conservació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0840" y="433908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38080" y="5334120"/>
                <a:ext cx="31244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09480" y="426708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5805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477120" y="4114800"/>
                <a:ext cx="2057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477120" y="525780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172200" y="342900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a la ruta 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07T01:31:44Z</dcterms:modified>
  <cp:revision>132</cp:revision>
  <dc:subject/>
  <dc:title>Sin título de diapositiva</dc:title>
</cp:coreProperties>
</file>