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2E2-0D66-40AE-B53C-10FD7DFF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757-9A8D-4F39-B980-5F3DFF45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F5F0-9E52-4AB3-AFA5-4D8973A6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257-B27A-4888-8DD8-2CF3424A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4557-6ADA-4BF0-AF6B-03EEB580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550-CDED-4C7E-ACF4-E59A3B32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94DA-F12A-4C24-9CD8-67FAA7C1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45C-506A-48E7-B8AA-4FF032BE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7F4C-6DCB-4653-8094-85598153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FB9D-B045-435B-8E02-7EF4E9B3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3B5-8B42-496E-8F56-B2A0E180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8A04-0498-405D-A25F-EA412399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2AA1-AAD7-45BF-9052-942345165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9800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208600"/>
            <a:ext cx="47242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65760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lujo en redes y leyes de conservació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0840" y="433908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838080" y="5334120"/>
                <a:ext cx="31244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609480" y="426708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58056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477120" y="4114800"/>
                <a:ext cx="2057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477120" y="525780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172200" y="342900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o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a la ruta 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07T01:31:44Z</dcterms:modified>
  <cp:revision>132</cp:revision>
  <dc:subject/>
  <dc:title>Sin título de diapositiva</dc:title>
</cp:coreProperties>
</file>