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B8D-6B1B-4B08-AA74-91DD9E12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054-29F8-4CCD-83DF-6156E8B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2BC-1520-46A1-AF80-75CAD1B0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427-459D-45CD-83C5-9FC63BCC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C42-E859-4942-9A9B-785E811C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4FB-ECA4-4079-96B5-51BDBA1D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165-BB50-463B-9BD5-911F4847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6F9-0651-431B-836F-940C9857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C4F-BAEC-472D-86FA-39C52D6E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889-DBAB-413B-A4C4-F977F87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6D4-FDFA-4ACD-A4C9-4280C71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503-5814-4837-B537-C93AC8F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D9CF-2835-400A-B4F3-A791568C1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9800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8600"/>
            <a:ext cx="4724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6576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lujo en redes y leyes de conservació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840" y="433908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38080" y="5334120"/>
                <a:ext cx="31244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09480" y="426708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5805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477120" y="4114800"/>
                <a:ext cx="205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77120" y="525780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342900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a la ruta 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1:31:44Z</dcterms:modified>
  <cp:revision>132</cp:revision>
  <dc:subject/>
  <dc:title>Sin título de diapositiva</dc:title>
</cp:coreProperties>
</file>