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667-4B22-4B79-8DB0-E5F61365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EAA-8942-4203-8C4D-ED359413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DE1-2A9C-4FFA-B4AB-D1FC4DF0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5A3-1CDF-4AA3-95A6-990B15C7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A27-56CA-488B-A81B-22C007EA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87F-4DB8-4806-9E8A-B21BEF66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8E8-A72A-4994-B1A6-A5EC8C4B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4C5-1DAB-4DA3-BF12-22EFE3DA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2D0-A291-4CC6-8BCE-07B9DB07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7C3-7CD8-4129-93D6-7A38A683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703-2AAE-4104-BE90-2D6540AA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6CA-D87E-4735-968A-E3803FDB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9A54-176D-4318-AB8A-3BE261CBB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gion10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4064040" cy="653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4572000" y="4059360"/>
          <a:ext cx="4343400" cy="279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4059360"/>
                    <a:ext cx="4343400" cy="27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495680" y="457200"/>
          <a:ext cx="4648320" cy="329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457200"/>
                    <a:ext cx="4648320" cy="32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257800" y="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657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ación co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4:11:16Z</dcterms:created>
  <dc:creator>Marcela Munizaga</dc:creator>
  <dc:description/>
  <dc:language>en-US</dc:language>
  <cp:lastModifiedBy>Marcela Munizaga</cp:lastModifiedBy>
  <dcterms:modified xsi:type="dcterms:W3CDTF">2004-10-06T04:22:02Z</dcterms:modified>
  <cp:revision>1</cp:revision>
  <dc:subject/>
  <dc:title>Sin título de diapositiva</dc:title>
</cp:coreProperties>
</file>